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302F-988B-402F-B348-BAC0193CB44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1639-01DD-4CB5-A8EA-03DE2D4F0AB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BUDOWA NORMY PRAWNE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HIPOTEZA + DYSPOZYCJA +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SANKCJ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Hipoteza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– hipotetyczna sytuacja, określająca warunki powinnego lub zakazanego zachowania się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to = każdy</a:t>
            </a:r>
            <a:br>
              <a:rPr sz="1200"/>
            </a:b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Dyspozycja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– wskazuje sposób, w jaki adresat normy powinien się zachować: nakaz, zakaz, dozwolenie;</a:t>
            </a:r>
            <a:br>
              <a:rPr sz="1200"/>
            </a:b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Sankcja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– określa konsekwencje prawne zachowania niezgodnego z obowiązkiem (norma prawna nie zawsze posiada ten element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9ED9-E7E7-4AD3-87E2-5913A99F4AB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poteza – k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yspozycja – co, kied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nkcja – „a jak nie, to…”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14B2-B509-4E67-BE42-52C279A970B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poteza – k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yspozycja – co, kied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nkcja – „a jak nie, to…”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5A89-804B-4788-BB25-BBE7CAEDBDE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poteza – k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yspozycja – co, kied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nkcja – „a jak nie, to…”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AD8E-B41D-49C9-8DC8-E5FA08BBE92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Przepis prawny i norma prawn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rma prawna nadaje znaczenie. Przepis (lub kilka przepisów) jest „nośnikiem informacji” o treści normy prawnej. Norma musi zostać wyinterpretowana z przepisu prawnego.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YJŚCIE EWAKUACYJNE – nakaz podążania we wskazanym kierunku podczas określonych sytuacj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NAK B-36 „zakaz zatrzymywania się i postoju” – nadanie konwencjonalnego znaczenia okrągłemu kawałkowi metalu pomalowanemu na niebiesko i czerwono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DFDE-6A1A-4F06-9ECA-DE9D5A9B2A8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Niesprzeczność prawa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– prawo nie powinno zwierać norm wobec siebie przeciwstawnych (jedna norma zakazuje zachowania X, a druga norma nakazuje zachowanie X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9036-5A47-449A-9A9D-B8B498AC9B5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7481-4BA7-4736-A138-F0B8ED2FA5A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9254-5926-4793-A99B-F9FA79DC859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576A-7ACC-49A4-8C66-46AC61CABDE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BF0A-9DBB-437B-8ACC-7148EEB0389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6119-8939-465F-8956-1A0F07D537E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RMATYWNY – ustalający reguły, zawierający normy postępowani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IENORAMTYWNY (w tym kontekście) – nie wynikający z ustalonych i zatwierdzonych regu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46C8-48E8-40A6-89B6-879559731C2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zbieżna regulacja norm moralnych i prawnych sprawa że wzmacniają się one, rozbieżna, że osłabiają się wzajemnie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; w zależności od przyjętej koncepcji prawa różnie rozpatruje się związki miedzy normami prawnymi i moralnymi; na poziomie całego systemu prawa sprzeczność z moralnością może doprowadzić do odebrania prawu prawowitości (legitymizacji społ.) i odrzucenia przez znaczną część społeczeństw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1C70-2831-460A-BB5E-4399AABCBFE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ykorzystując podany przykład, zaczerpnięty z publikacji Nilsa Christie „Dogodna ilość przestępstw”,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prowadzimy dyskusję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 przenikaniu się norm – prawnych, moralnych, obyczajowych, itp.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rto przedstawiać poszczególne akapity pojedynczo – prosząc uczestników o ocenę zachowania mężczyzny w kontekście norm społecznych (po wyświetleniu pierwszego punktu prosimy o komentarz, po wyświetleniu drugiego także, następnie jest punkt informacyjny i o dalszy komentarz prosimy po wyświetleniu punktów trzeciego i czwartego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0088-4763-4AE1-A194-ECC4081A378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6634-BBF4-4062-B432-10BAA92929A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5283-3E25-409C-BA14-2C11DF8D3C1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A2C9-526C-47ED-AA68-EE73048DBC0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związku ze zróżnicowanym sposobem używania terminów „gałąź prawa” i „dziedzina prawa” konieczna jest klaryfikacja.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n slajd został dodany w związku z dyskusją, jak powstała podczas prowadzenia zajęć „Wstęp do nauki prawa”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290D-8747-4A20-920F-4707E2F1A2E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9B4D-F6E4-46BD-91BE-8C47FC715FF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0373-EC8B-4CE0-8962-114D8257CD1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5696"/>
                </a:solidFill>
                <a:latin typeface="Calibri"/>
              </a:rPr>
              <a:t>Konstytucja, ustawy, rozporządzenia, ratyfikowane umowy międzynarodowe są </a:t>
            </a:r>
            <a:r>
              <a:rPr b="1" lang="pl-PL" sz="1200" spc="-1" strike="noStrike">
                <a:solidFill>
                  <a:srgbClr val="005696"/>
                </a:solidFill>
                <a:latin typeface="Calibri"/>
              </a:rPr>
              <a:t>ogłaszane w Dzienniku Ustaw RP</a:t>
            </a:r>
            <a:r>
              <a:rPr b="0" lang="pl-PL" sz="1200" spc="-1" strike="noStrike">
                <a:solidFill>
                  <a:srgbClr val="005696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5696"/>
                </a:solidFill>
                <a:latin typeface="Calibri"/>
              </a:rPr>
              <a:t>Akty o charakterze wewnętrznym zaś </a:t>
            </a:r>
            <a:r>
              <a:rPr b="1" lang="pl-PL" sz="1200" spc="-1" strike="noStrike">
                <a:solidFill>
                  <a:srgbClr val="005696"/>
                </a:solidFill>
                <a:latin typeface="Calibri"/>
              </a:rPr>
              <a:t>w Monitorze Polskim</a:t>
            </a:r>
            <a:r>
              <a:rPr b="0" lang="pl-PL" sz="1200" spc="-1" strike="noStrike">
                <a:solidFill>
                  <a:srgbClr val="005696"/>
                </a:solidFill>
                <a:latin typeface="Calibri"/>
              </a:rPr>
              <a:t>; ogłaszanie aktów prawa miejscowego przybiera różne postac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5696"/>
                </a:solidFill>
                <a:latin typeface="Calibri"/>
              </a:rPr>
              <a:t>TEKST AUTENTYCZNY – należycie ogłoszony </a:t>
            </a:r>
            <a:r>
              <a:rPr b="1" lang="pl-PL" sz="1200" spc="-1" strike="noStrike">
                <a:solidFill>
                  <a:srgbClr val="005696"/>
                </a:solidFill>
                <a:latin typeface="Calibri"/>
              </a:rPr>
              <a:t>pierwotny</a:t>
            </a:r>
            <a:r>
              <a:rPr b="0" lang="pl-PL" sz="1200" spc="-1" strike="noStrike">
                <a:solidFill>
                  <a:srgbClr val="005696"/>
                </a:solidFill>
                <a:latin typeface="Calibri"/>
              </a:rPr>
              <a:t> tekst aktu prawnego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5696"/>
                </a:solidFill>
                <a:latin typeface="Calibri"/>
              </a:rPr>
              <a:t>TEKST JEDNOLITY – tekst aktu prawnego </a:t>
            </a:r>
            <a:r>
              <a:rPr b="1" lang="pl-PL" sz="1200" spc="-1" strike="noStrike">
                <a:solidFill>
                  <a:srgbClr val="005696"/>
                </a:solidFill>
                <a:latin typeface="Calibri"/>
              </a:rPr>
              <a:t>uwzględniający wszelkie zmiany</a:t>
            </a:r>
            <a:r>
              <a:rPr b="0" lang="pl-PL" sz="1200" spc="-1" strike="noStrike">
                <a:solidFill>
                  <a:srgbClr val="005696"/>
                </a:solidFill>
                <a:latin typeface="Calibri"/>
              </a:rPr>
              <a:t>, jakie zostały w nim wprowadzone</a:t>
            </a:r>
            <a:br>
              <a:rPr sz="1200"/>
            </a:br>
            <a:r>
              <a:rPr b="0" lang="pl-PL" sz="1200" spc="-1" strike="noStrike">
                <a:solidFill>
                  <a:srgbClr val="005696"/>
                </a:solidFill>
                <a:latin typeface="Calibri"/>
              </a:rPr>
              <a:t>od chwili jego uchwalenia; </a:t>
            </a:r>
            <a:r>
              <a:rPr b="1" lang="pl-PL" sz="1200" spc="-1" strike="noStrike">
                <a:solidFill>
                  <a:srgbClr val="005696"/>
                </a:solidFill>
                <a:latin typeface="Calibri"/>
              </a:rPr>
              <a:t>ogłoszony urzędowo </a:t>
            </a:r>
            <a:r>
              <a:rPr b="0" lang="pl-PL" sz="1200" spc="-1" strike="noStrike">
                <a:solidFill>
                  <a:srgbClr val="005696"/>
                </a:solidFill>
                <a:latin typeface="Calibri"/>
              </a:rPr>
              <a:t>(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naczna liczba zmian w akcie normatywnym lub jego wielokrotne nowelizowanie utrudniają posługiwanie się tym aktem – wówczas Marszałek Sejmu (w przypadku ustaw) lub organ, który wydał akt ogłasza tekst jednolity); oficjalny tekst jednolity ogłasza się w formie obwieszczenia w dzienniku urzędowym, w którym akt ten był pierwotnie ogłoszony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5696"/>
                </a:solidFill>
                <a:latin typeface="Calibri"/>
              </a:rPr>
              <a:t>TEKST UJEDNOLICONY – tekst aktu prawnego </a:t>
            </a:r>
            <a:r>
              <a:rPr b="1" lang="pl-PL" sz="1200" spc="-1" strike="noStrike">
                <a:solidFill>
                  <a:srgbClr val="005696"/>
                </a:solidFill>
                <a:latin typeface="Calibri"/>
              </a:rPr>
              <a:t>uwzględniający wszelkie zmiany</a:t>
            </a:r>
            <a:r>
              <a:rPr b="0" lang="pl-PL" sz="1200" spc="-1" strike="noStrike">
                <a:solidFill>
                  <a:srgbClr val="005696"/>
                </a:solidFill>
                <a:latin typeface="Calibri"/>
              </a:rPr>
              <a:t>, jakie zostały w nim wprowadzone</a:t>
            </a:r>
            <a:br>
              <a:rPr sz="1200"/>
            </a:br>
            <a:r>
              <a:rPr b="0" lang="pl-PL" sz="1200" spc="-1" strike="noStrike">
                <a:solidFill>
                  <a:srgbClr val="005696"/>
                </a:solidFill>
                <a:latin typeface="Calibri"/>
              </a:rPr>
              <a:t>od chwili jego uchwalenia; </a:t>
            </a:r>
            <a:r>
              <a:rPr b="1" lang="pl-PL" sz="1200" spc="-1" strike="noStrike">
                <a:solidFill>
                  <a:srgbClr val="005696"/>
                </a:solidFill>
                <a:latin typeface="Calibri"/>
              </a:rPr>
              <a:t>nie</a:t>
            </a:r>
            <a:r>
              <a:rPr b="0" lang="pl-PL" sz="1200" spc="-1" strike="noStrike">
                <a:solidFill>
                  <a:srgbClr val="005696"/>
                </a:solidFill>
                <a:latin typeface="Calibri"/>
              </a:rPr>
              <a:t> </a:t>
            </a:r>
            <a:r>
              <a:rPr b="1" lang="pl-PL" sz="1200" spc="-1" strike="noStrike">
                <a:solidFill>
                  <a:srgbClr val="005696"/>
                </a:solidFill>
                <a:latin typeface="Calibri"/>
              </a:rPr>
              <a:t>ogłoszony urzędowo</a:t>
            </a:r>
            <a:r>
              <a:rPr b="0" lang="pl-PL" sz="1200" spc="-1" strike="noStrike">
                <a:solidFill>
                  <a:srgbClr val="005696"/>
                </a:solidFill>
                <a:latin typeface="Calibri"/>
              </a:rPr>
              <a:t> (internet, wydawnictwa prawnicze, elektroniczne systemy prawnicze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5696"/>
                </a:solidFill>
                <a:latin typeface="Calibri"/>
              </a:rPr>
              <a:t>NOWELIZACJA AKTU PRAWNEGO </a:t>
            </a:r>
            <a:r>
              <a:rPr b="0" lang="pl-PL" sz="1200" spc="-1" strike="noStrike">
                <a:solidFill>
                  <a:srgbClr val="005696"/>
                </a:solidFill>
                <a:latin typeface="Calibri"/>
              </a:rPr>
              <a:t>– częściowa zmiana obowiązującego aktu prawnego przez INNY AKT PRAWNY tej samej lub wyższej rangi, który został wydany później wobec aktu nowelizowanego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F130-92C0-4A64-B074-39E61F945FD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3E9C-E89E-457A-8422-C7FA42F31C7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1657-3D50-43A9-A75F-79BDFECE1EA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B56D-B59B-4CEA-AAE3-D37018C6C5A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7BF4-20A7-4B7A-B44E-FC93B877AD3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DYSKUSJ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– czy korzyści przemawiające za odejściem od drukowania Dz. U. są wystarczającymi osiągnięciami? Czy prawo obywatela dostępu do prawa jest naruszone?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awo nie gwarantuje, że dostęp do treści przepisów ma być możliwy w każdej chwili.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ternet jest powszechnym źródłem dostępu do zasobów wiedzy. Dostęp do treści aktów prawnych jest bezpłat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3F9C-74E9-4D67-A9F4-CAE4919FF3E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BA8B-E0A5-49C3-97FF-6EDBBAA0972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D639-A7EA-4600-A179-EBA4AF4F3F2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BB9F-A1FC-4062-9187-374739F38CD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B1D7-D3FD-4371-9978-31C8829A0EE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C5D3-D4B3-4597-BE17-A568094D6FA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6B54-6544-491D-B458-4AD8602492A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PRZEPIS PRAWNY to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część aktu prawnego (samodzielna jednostka redakcyjna tekstu prawnego; zwrot językowy wskazujący sposób postępowania; formalnie wyodrębniony, wizualnie wyróżniony i opatrzony nazwą indywidualizującą, taką jak: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artykuł, paragraf, ustęp, tire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; podstawa ustalenia normy prawnej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Akt prawny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o akt zawierający normy prawne, wydany przez uprawniony podmiot, we właściwej procedurze i należycie ogłoszony (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np. Konstytucja, ustawa, rozporządzenie, zarządzenie, itp.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Norma prawna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o reguła postępowania wyinterpretowana z przepisów prawnych (reguła zachowania skonstruowana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 podstawie co najmniej jednego przepisu praw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6DF4-E0B7-4852-A02A-2714FE85840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DE31-7D0D-4FFE-BC15-FE80B99CA84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557D-C264-4E7A-8024-06D6262EBD5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0F2E-20CA-4796-93AD-2EB9894E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DF1B-7059-452A-8335-323C4227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7863-736F-4BBE-B265-52CE47CB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114A-2CF7-46C3-9271-7E5E4542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5C17-9D1C-41C8-9AC6-82F496B9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5B37-6922-4951-BC6A-FA1A1854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C4FF-2679-4107-AE74-1CD0158F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DB25-1321-41FC-9A24-AC31BE5C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4884-43D2-4EED-845E-B9B0292C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7A23-788E-476F-86D5-7FA8EDC5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E502-4079-423E-866D-1CB8D9AB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97C2-C890-4454-B128-23C75E09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ADBD-D1C2-4F9B-99FA-689254C8F37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ole tekstowe 1"/>
          <p:cNvSpPr/>
          <p:nvPr/>
        </p:nvSpPr>
        <p:spPr>
          <a:xfrm>
            <a:off x="250920" y="5589720"/>
            <a:ext cx="8327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00000"/>
                </a:solidFill>
                <a:latin typeface="Arial"/>
              </a:rPr>
              <a:t>Materiały szkoleniowe projektu </a:t>
            </a:r>
            <a:r>
              <a:rPr b="1" i="1" lang="pl-PL" sz="1400" spc="-1" strike="noStrike">
                <a:solidFill>
                  <a:srgbClr val="c00000"/>
                </a:solidFill>
                <a:latin typeface="Arial"/>
              </a:rPr>
              <a:t>Edukacja prawna w podstawie programowe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00000"/>
                </a:solidFill>
                <a:latin typeface="Arial"/>
              </a:rPr>
              <a:t>Sulejówek, 2013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ole tekstowe 2"/>
          <p:cNvSpPr/>
          <p:nvPr/>
        </p:nvSpPr>
        <p:spPr>
          <a:xfrm>
            <a:off x="0" y="1773360"/>
            <a:ext cx="914400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005696"/>
                </a:solidFill>
                <a:latin typeface="Arial"/>
              </a:rPr>
              <a:t>Wstęp do nauki </a:t>
            </a:r>
            <a:r>
              <a:rPr b="1" lang="pl-PL" sz="3900" spc="-1" strike="noStrike">
                <a:solidFill>
                  <a:srgbClr val="c00000"/>
                </a:solidFill>
                <a:latin typeface="Arial"/>
              </a:rPr>
              <a:t>praw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c00000"/>
                </a:solidFill>
                <a:latin typeface="Arial"/>
              </a:rPr>
              <a:t>Agnieszka Świder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500" spc="-1" strike="noStrike">
                <a:solidFill>
                  <a:srgbClr val="c00000"/>
                </a:solidFill>
                <a:latin typeface="Arial"/>
              </a:rPr>
              <a:t>NORMA PRAWN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907920"/>
            <a:ext cx="91440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5696"/>
                </a:solidFill>
                <a:latin typeface="Arial"/>
              </a:rPr>
              <a:t>Ustawa z dnia 21 stycznia 2005 r. o doświadczeniach na zwierzęt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l-PL" sz="1700" spc="-1" strike="noStrike">
                <a:solidFill>
                  <a:srgbClr val="005696"/>
                </a:solidFill>
                <a:latin typeface="Arial"/>
              </a:rPr>
              <a:t>art. 5. pkt 3. Zabrania się przeprowadzania doświadczeń w celu testowania kosmetyków</a:t>
            </a:r>
            <a:br>
              <a:rPr sz="1700"/>
            </a:br>
            <a:r>
              <a:rPr b="0" lang="pl-PL" sz="1700" spc="-1" strike="noStrike">
                <a:solidFill>
                  <a:srgbClr val="005696"/>
                </a:solidFill>
                <a:latin typeface="Arial"/>
              </a:rPr>
              <a:t>lub środków higienicznych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1700" spc="-1" strike="noStrike">
                <a:solidFill>
                  <a:srgbClr val="005696"/>
                </a:solidFill>
                <a:latin typeface="Arial"/>
              </a:rPr>
              <a:t>art. 40. 1. Kto przeprowadza doświadczenia w celu testowania kosmetyków lub środków higienicznych podlega grzywnie, karze ograniczenia wolności albo pozbawienia wolności</a:t>
            </a:r>
            <a:br>
              <a:rPr sz="1700"/>
            </a:br>
            <a:r>
              <a:rPr b="0" lang="pl-PL" sz="1700" spc="-1" strike="noStrike">
                <a:solidFill>
                  <a:srgbClr val="005696"/>
                </a:solidFill>
                <a:latin typeface="Arial"/>
              </a:rPr>
              <a:t>do rok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NORMA ZAKAZUJĄ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79280" y="3573360"/>
          <a:ext cx="8785440" cy="288000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762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POTE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b8b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YSPOZY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b8b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NK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b8b9"/>
                    </a:solidFill>
                  </a:tcPr>
                </a:tc>
              </a:tr>
              <a:tr h="2117880">
                <a:tc>
                  <a:txBody>
                    <a:bodyPr anchor="t">
                      <a:noAutofit/>
                    </a:bodyPr>
                    <a:p>
                      <a:pPr>
                        <a:buClr>
                          <a:srgbClr val="00569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 </a:t>
                      </a:r>
                      <a:r>
                        <a:rPr b="0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określa </a:t>
                      </a:r>
                      <a:r>
                        <a:rPr b="1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krąg adresatów </a:t>
                      </a:r>
                      <a:r>
                        <a:rPr b="0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no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569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 </a:t>
                      </a:r>
                      <a:r>
                        <a:rPr b="0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opisuje </a:t>
                      </a:r>
                      <a:r>
                        <a:rPr b="1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sytuację</a:t>
                      </a:r>
                      <a:r>
                        <a:rPr b="0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, w której norma ma zastosowa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buClr>
                          <a:srgbClr val="00569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 </a:t>
                      </a:r>
                      <a:r>
                        <a:rPr b="0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określa sposób, w jaki należy się zachowa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569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 </a:t>
                      </a:r>
                      <a:r>
                        <a:rPr b="1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nakaz</a:t>
                      </a:r>
                      <a:r>
                        <a:rPr b="0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, </a:t>
                      </a:r>
                      <a:r>
                        <a:rPr b="1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zakaz</a:t>
                      </a:r>
                      <a:r>
                        <a:rPr b="0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, </a:t>
                      </a:r>
                      <a:r>
                        <a:rPr b="1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przyzwole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buClr>
                          <a:srgbClr val="00569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 </a:t>
                      </a:r>
                      <a:r>
                        <a:rPr b="0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określa </a:t>
                      </a:r>
                      <a:r>
                        <a:rPr b="1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konsekwencje </a:t>
                      </a:r>
                      <a:r>
                        <a:rPr b="0" lang="pl-PL" sz="1600" spc="-1" strike="noStrike">
                          <a:solidFill>
                            <a:srgbClr val="005696"/>
                          </a:solidFill>
                          <a:latin typeface="Arial"/>
                        </a:rPr>
                        <a:t>zachowania niezgodnego tym określonym w dyspozyc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7e7"/>
                    </a:solidFill>
                  </a:tcPr>
                </a:tc>
              </a:tr>
            </a:tbl>
          </a:graphicData>
        </a:graphic>
      </p:graphicFrame>
      <p:sp>
        <p:nvSpPr>
          <p:cNvPr id="79" name="pole tekstowe 4"/>
          <p:cNvSpPr/>
          <p:nvPr/>
        </p:nvSpPr>
        <p:spPr>
          <a:xfrm>
            <a:off x="299520" y="5805360"/>
            <a:ext cx="2480400" cy="337320"/>
          </a:xfrm>
          <a:prstGeom prst="rect">
            <a:avLst/>
          </a:prstGeom>
          <a:solidFill>
            <a:srgbClr val="eeb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00000"/>
                </a:solidFill>
                <a:latin typeface="Arial"/>
              </a:rPr>
              <a:t>(KAŻDEMU) </a:t>
            </a:r>
            <a:r>
              <a:rPr b="0" lang="pl-PL" sz="1600" spc="-1" strike="noStrike">
                <a:solidFill>
                  <a:srgbClr val="c00000"/>
                </a:solidFill>
                <a:latin typeface="Arial"/>
              </a:rPr>
              <a:t>zabrania si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ole tekstowe 6"/>
          <p:cNvSpPr/>
          <p:nvPr/>
        </p:nvSpPr>
        <p:spPr>
          <a:xfrm>
            <a:off x="3075480" y="5373720"/>
            <a:ext cx="3021480" cy="778680"/>
          </a:xfrm>
          <a:prstGeom prst="rect">
            <a:avLst/>
          </a:prstGeom>
          <a:solidFill>
            <a:srgbClr val="eeb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c00000"/>
                </a:solidFill>
                <a:latin typeface="Arial"/>
              </a:rPr>
              <a:t>ZABRANIA SIĘ DOŚWIADCZEŃ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c00000"/>
                </a:solidFill>
                <a:latin typeface="Arial"/>
              </a:rPr>
              <a:t>NA ZWIERZĘTACH W CEL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c00000"/>
                </a:solidFill>
                <a:latin typeface="Arial"/>
              </a:rPr>
              <a:t>TESTOWANIA KOSMETYKÓ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ole tekstowe 7"/>
          <p:cNvSpPr/>
          <p:nvPr/>
        </p:nvSpPr>
        <p:spPr>
          <a:xfrm>
            <a:off x="6161760" y="5157720"/>
            <a:ext cx="2684520" cy="1235160"/>
          </a:xfrm>
          <a:prstGeom prst="rect">
            <a:avLst/>
          </a:prstGeom>
          <a:solidFill>
            <a:srgbClr val="eeb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c00000"/>
                </a:solidFill>
                <a:latin typeface="Arial"/>
              </a:rPr>
              <a:t>POD KAR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c00000"/>
                </a:solidFill>
                <a:latin typeface="Arial"/>
              </a:rPr>
              <a:t>GRZYWN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c00000"/>
                </a:solidFill>
                <a:latin typeface="Arial"/>
              </a:rPr>
              <a:t>OGRANICZEN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c00000"/>
                </a:solidFill>
                <a:latin typeface="Arial"/>
              </a:rPr>
              <a:t>lu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c00000"/>
                </a:solidFill>
                <a:latin typeface="Arial"/>
              </a:rPr>
              <a:t>POZBAWIENIA WOLNOŚCI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500" spc="-1" strike="noStrike">
                <a:solidFill>
                  <a:srgbClr val="c00000"/>
                </a:solidFill>
                <a:latin typeface="Arial"/>
              </a:rPr>
              <a:t>NORMA PRAWN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125360"/>
            <a:ext cx="9144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Ustawa z dnia 6 lipca 2001 r. o usługach detektywistycz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(Dz. U. nr 12, poz. 110 ze zm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5696"/>
                </a:solidFill>
                <a:latin typeface="Arial"/>
              </a:rPr>
              <a:t>art. 31.1.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 Osoba ubiegająca się o przystąpienie do egzaminu [na detektywa] składa do Komendanta Głównego Policji  pisemny wniosek najpóźniej 30 dni przed terminem rozpoczęcia egzami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(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5696"/>
                </a:solidFill>
                <a:latin typeface="Arial"/>
              </a:rPr>
              <a:t>3. 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Jeżeli wniosek, o którym mowa w ust. 1, został złożony po upływie wyznaczonego terminu (…) wniosek pozostawia się bez rozpoznania, o czym zawiadamia się wnioskodawc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Na podstawie powyższego przykładu proszę zbudować normę prawn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ole tekstowe 3"/>
          <p:cNvSpPr/>
          <p:nvPr/>
        </p:nvSpPr>
        <p:spPr>
          <a:xfrm>
            <a:off x="826920" y="4797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HIPOT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ole tekstowe 4"/>
          <p:cNvSpPr/>
          <p:nvPr/>
        </p:nvSpPr>
        <p:spPr>
          <a:xfrm>
            <a:off x="3790080" y="47973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DYSPOZ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ole tekstowe 5"/>
          <p:cNvSpPr/>
          <p:nvPr/>
        </p:nvSpPr>
        <p:spPr>
          <a:xfrm>
            <a:off x="7219080" y="479736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SANK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ole tekstowe 7"/>
          <p:cNvSpPr/>
          <p:nvPr/>
        </p:nvSpPr>
        <p:spPr>
          <a:xfrm>
            <a:off x="170640" y="5300640"/>
            <a:ext cx="280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5696"/>
                </a:solidFill>
                <a:latin typeface="Arial"/>
              </a:rPr>
              <a:t>Osoba ubiegająca się</a:t>
            </a:r>
            <a:br>
              <a:rPr sz="1600"/>
            </a:br>
            <a:r>
              <a:rPr b="1" lang="pl-PL" sz="1600" spc="-1" strike="noStrike">
                <a:solidFill>
                  <a:srgbClr val="005696"/>
                </a:solidFill>
                <a:latin typeface="Arial"/>
              </a:rPr>
              <a:t>o przystąpienie</a:t>
            </a:r>
            <a:br>
              <a:rPr sz="1600"/>
            </a:br>
            <a:r>
              <a:rPr b="1" lang="pl-PL" sz="1600" spc="-1" strike="noStrike">
                <a:solidFill>
                  <a:srgbClr val="005696"/>
                </a:solidFill>
                <a:latin typeface="Arial"/>
              </a:rPr>
              <a:t>do egzaminu na detektyw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ole tekstowe 8"/>
          <p:cNvSpPr/>
          <p:nvPr/>
        </p:nvSpPr>
        <p:spPr>
          <a:xfrm>
            <a:off x="3368880" y="5157720"/>
            <a:ext cx="3052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5696"/>
                </a:solidFill>
                <a:latin typeface="Arial"/>
              </a:rPr>
              <a:t>chcąc do niego przystąpić,</a:t>
            </a:r>
            <a:br>
              <a:rPr sz="1600"/>
            </a:br>
            <a:r>
              <a:rPr b="1" lang="pl-PL" sz="1600" spc="-1" strike="noStrike">
                <a:solidFill>
                  <a:srgbClr val="005696"/>
                </a:solidFill>
                <a:latin typeface="Arial"/>
              </a:rPr>
              <a:t>musi złożyć pisemny wniosek</a:t>
            </a:r>
            <a:br>
              <a:rPr sz="1600"/>
            </a:br>
            <a:r>
              <a:rPr b="1" lang="pl-PL" sz="1600" spc="-1" strike="noStrike">
                <a:solidFill>
                  <a:srgbClr val="005696"/>
                </a:solidFill>
                <a:latin typeface="Arial"/>
              </a:rPr>
              <a:t>do KGP na 30 dni</a:t>
            </a:r>
            <a:br>
              <a:rPr sz="1600"/>
            </a:br>
            <a:r>
              <a:rPr b="1" lang="pl-PL" sz="1600" spc="-1" strike="noStrike">
                <a:solidFill>
                  <a:srgbClr val="005696"/>
                </a:solidFill>
                <a:latin typeface="Arial"/>
              </a:rPr>
              <a:t>przed terminem egzamin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ole tekstowe 9"/>
          <p:cNvSpPr/>
          <p:nvPr/>
        </p:nvSpPr>
        <p:spPr>
          <a:xfrm>
            <a:off x="6604560" y="5157720"/>
            <a:ext cx="23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5696"/>
                </a:solidFill>
                <a:latin typeface="Arial"/>
              </a:rPr>
              <a:t>bo inaczej jej wniosek</a:t>
            </a:r>
            <a:br>
              <a:rPr sz="1600"/>
            </a:br>
            <a:r>
              <a:rPr b="1" lang="pl-PL" sz="1600" spc="-1" strike="noStrike">
                <a:solidFill>
                  <a:srgbClr val="005696"/>
                </a:solidFill>
                <a:latin typeface="Arial"/>
              </a:rPr>
              <a:t>zostanie pozostawiony</a:t>
            </a:r>
            <a:br>
              <a:rPr sz="1600"/>
            </a:br>
            <a:r>
              <a:rPr b="1" lang="pl-PL" sz="1600" spc="-1" strike="noStrike">
                <a:solidFill>
                  <a:srgbClr val="005696"/>
                </a:solidFill>
                <a:latin typeface="Arial"/>
              </a:rPr>
              <a:t>bez rozpozna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ole tekstowe 10"/>
          <p:cNvSpPr/>
          <p:nvPr/>
        </p:nvSpPr>
        <p:spPr>
          <a:xfrm>
            <a:off x="1403280" y="2060640"/>
            <a:ext cx="5329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b050"/>
                </a:solidFill>
                <a:latin typeface="Arial"/>
              </a:rPr>
              <a:t>Osoba ubiegająca się o przystąpienie do egzam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ole tekstowe 11"/>
          <p:cNvSpPr/>
          <p:nvPr/>
        </p:nvSpPr>
        <p:spPr>
          <a:xfrm>
            <a:off x="4140360" y="2349360"/>
            <a:ext cx="2232000" cy="35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00b050"/>
                </a:solidFill>
                <a:latin typeface="Arial"/>
              </a:rPr>
              <a:t>pisemny wniose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ole tekstowe 12"/>
          <p:cNvSpPr/>
          <p:nvPr/>
        </p:nvSpPr>
        <p:spPr>
          <a:xfrm>
            <a:off x="1835280" y="3573360"/>
            <a:ext cx="4552920" cy="35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00b050"/>
                </a:solidFill>
                <a:latin typeface="Arial"/>
              </a:rPr>
              <a:t>wniosek pozostawia się bez rozpoznan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500" spc="-1" strike="noStrike">
                <a:solidFill>
                  <a:srgbClr val="c00000"/>
                </a:solidFill>
                <a:latin typeface="Arial"/>
              </a:rPr>
              <a:t>NORMA PRAWN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125360"/>
            <a:ext cx="9144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Ustawa z dnia 31 stycznia 1959 r. o cmentarzach i chowaniu zmarłych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(Dz. U. z 2011 r., nr 118, poz. 687 – t.j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5696"/>
                </a:solidFill>
                <a:latin typeface="Arial"/>
              </a:rPr>
              <a:t>art. 8. 2.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 W miejscowościach, w których nie ma cmentarzy komunalnych, zarząd cmentarza wyznaniowego jest obowiązany umożliwić pochowanie na tym cmentarzu, bez jakiejkolwiek dyskryminacji, osób zmarłych innego wyznania lub niewierząc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5696"/>
                </a:solidFill>
                <a:latin typeface="Arial"/>
              </a:rPr>
              <a:t>art. 18. 1.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 Kto narusza przepisy niniejszej ustawy (…) podlega karze aresztu lub grzyw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Na podstawie powyższego przykładu proszę zbudować normę prawn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ole tekstowe 3"/>
          <p:cNvSpPr/>
          <p:nvPr/>
        </p:nvSpPr>
        <p:spPr>
          <a:xfrm>
            <a:off x="395280" y="4221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HIPOT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ole tekstowe 4"/>
          <p:cNvSpPr/>
          <p:nvPr/>
        </p:nvSpPr>
        <p:spPr>
          <a:xfrm>
            <a:off x="3069360" y="42210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DYSPOZ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ole tekstowe 5"/>
          <p:cNvSpPr/>
          <p:nvPr/>
        </p:nvSpPr>
        <p:spPr>
          <a:xfrm>
            <a:off x="7101720" y="42210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SANK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ole tekstowe 7"/>
          <p:cNvSpPr/>
          <p:nvPr/>
        </p:nvSpPr>
        <p:spPr>
          <a:xfrm>
            <a:off x="12600" y="501336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50"/>
                </a:solidFill>
                <a:latin typeface="Arial"/>
              </a:rPr>
              <a:t>Zarząd cmentar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ole tekstowe 8"/>
          <p:cNvSpPr/>
          <p:nvPr/>
        </p:nvSpPr>
        <p:spPr>
          <a:xfrm>
            <a:off x="2283840" y="4653000"/>
            <a:ext cx="33584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50"/>
                </a:solidFill>
                <a:latin typeface="Arial"/>
              </a:rPr>
              <a:t>musi umożliwić pochówek</a:t>
            </a:r>
            <a:br>
              <a:rPr sz="1800"/>
            </a:br>
            <a:r>
              <a:rPr b="1" lang="pl-PL" sz="1800" spc="-1" strike="noStrike">
                <a:solidFill>
                  <a:srgbClr val="00b050"/>
                </a:solidFill>
                <a:latin typeface="Arial"/>
              </a:rPr>
              <a:t>osobom niewierzącym</a:t>
            </a:r>
            <a:br>
              <a:rPr sz="1800"/>
            </a:br>
            <a:r>
              <a:rPr b="1" lang="pl-PL" sz="1800" spc="-1" strike="noStrike">
                <a:solidFill>
                  <a:srgbClr val="00b050"/>
                </a:solidFill>
                <a:latin typeface="Arial"/>
              </a:rPr>
              <a:t>lub innego wyznania, gdy</a:t>
            </a:r>
            <a:br>
              <a:rPr sz="1800"/>
            </a:br>
            <a:r>
              <a:rPr b="1" lang="pl-PL" sz="1800" spc="-1" strike="noStrike">
                <a:solidFill>
                  <a:srgbClr val="00b050"/>
                </a:solidFill>
                <a:latin typeface="Arial"/>
              </a:rPr>
              <a:t>w danej miejscowości nie ma</a:t>
            </a:r>
            <a:br>
              <a:rPr sz="1800"/>
            </a:br>
            <a:r>
              <a:rPr b="1" lang="pl-PL" sz="1800" spc="-1" strike="noStrike">
                <a:solidFill>
                  <a:srgbClr val="00b050"/>
                </a:solidFill>
                <a:latin typeface="Arial"/>
              </a:rPr>
              <a:t>cmentarzy komunal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ole tekstowe 9"/>
          <p:cNvSpPr/>
          <p:nvPr/>
        </p:nvSpPr>
        <p:spPr>
          <a:xfrm>
            <a:off x="5757120" y="4653000"/>
            <a:ext cx="337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50"/>
                </a:solidFill>
                <a:latin typeface="Arial"/>
              </a:rPr>
              <a:t>inaczej członkom Zarządu</a:t>
            </a:r>
            <a:br>
              <a:rPr sz="1800"/>
            </a:br>
            <a:r>
              <a:rPr b="1" lang="pl-PL" sz="1800" spc="-1" strike="noStrike">
                <a:solidFill>
                  <a:srgbClr val="00b050"/>
                </a:solidFill>
                <a:latin typeface="Arial"/>
              </a:rPr>
              <a:t>grozi areszt albo Zarząd</a:t>
            </a:r>
            <a:br>
              <a:rPr sz="1800"/>
            </a:br>
            <a:r>
              <a:rPr b="1" lang="pl-PL" sz="1800" spc="-1" strike="noStrike">
                <a:solidFill>
                  <a:srgbClr val="00b050"/>
                </a:solidFill>
                <a:latin typeface="Arial"/>
              </a:rPr>
              <a:t>będzie musiał uiścić grzywn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500" spc="-1" strike="noStrike">
                <a:solidFill>
                  <a:srgbClr val="c00000"/>
                </a:solidFill>
                <a:latin typeface="Arial"/>
              </a:rPr>
              <a:t>NORMA PRAWN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1125360"/>
            <a:ext cx="9144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Ustawa z dnia 6 czerwca 1997 r. Kodeks karny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(Dz. U. z 1997 r., nr 88, poz. 553 ze zm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5696"/>
                </a:solidFill>
                <a:latin typeface="Arial"/>
              </a:rPr>
              <a:t>art. 233. § 1.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 Kto, składając zeznanie mające służyć za dowód w postępowaniu sądowym lub w innym postępowaniu prowadzonym na podstawie ustawy, zeznaje nieprawdę lub zataja prawdę, podlega karze pozbawienia wolności do lat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Na podstawie powyższego przykładu proszę zbudować normę prawn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ole tekstowe 3"/>
          <p:cNvSpPr/>
          <p:nvPr/>
        </p:nvSpPr>
        <p:spPr>
          <a:xfrm>
            <a:off x="395280" y="4221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HIPOT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ole tekstowe 4"/>
          <p:cNvSpPr/>
          <p:nvPr/>
        </p:nvSpPr>
        <p:spPr>
          <a:xfrm>
            <a:off x="3069360" y="42210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DYSPOZ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ole tekstowe 5"/>
          <p:cNvSpPr/>
          <p:nvPr/>
        </p:nvSpPr>
        <p:spPr>
          <a:xfrm>
            <a:off x="7101720" y="42210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SANK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ole tekstowe 7"/>
          <p:cNvSpPr/>
          <p:nvPr/>
        </p:nvSpPr>
        <p:spPr>
          <a:xfrm>
            <a:off x="257760" y="494172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50"/>
                </a:solidFill>
                <a:latin typeface="Arial"/>
              </a:rPr>
              <a:t>KAŻDA OS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ole tekstowe 8"/>
          <p:cNvSpPr/>
          <p:nvPr/>
        </p:nvSpPr>
        <p:spPr>
          <a:xfrm>
            <a:off x="2716560" y="4797360"/>
            <a:ext cx="2870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50"/>
                </a:solidFill>
                <a:latin typeface="Arial"/>
              </a:rPr>
              <a:t>SKŁADAJĄC ZEZNANIA,</a:t>
            </a:r>
            <a:br>
              <a:rPr sz="1800"/>
            </a:br>
            <a:r>
              <a:rPr b="1" lang="pl-PL" sz="1800" spc="-1" strike="noStrike">
                <a:solidFill>
                  <a:srgbClr val="00b050"/>
                </a:solidFill>
                <a:latin typeface="Arial"/>
              </a:rPr>
              <a:t>MUSI MÓWIĆ PRAWD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ole tekstowe 9"/>
          <p:cNvSpPr/>
          <p:nvPr/>
        </p:nvSpPr>
        <p:spPr>
          <a:xfrm>
            <a:off x="6237000" y="4653000"/>
            <a:ext cx="263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50"/>
                </a:solidFill>
                <a:latin typeface="Arial"/>
              </a:rPr>
              <a:t>A JAK NIE, GROZI JEJ</a:t>
            </a:r>
            <a:br>
              <a:rPr sz="1800"/>
            </a:br>
            <a:r>
              <a:rPr b="1" lang="pl-PL" sz="1800" spc="-1" strike="noStrike">
                <a:solidFill>
                  <a:srgbClr val="00b050"/>
                </a:solidFill>
                <a:latin typeface="Arial"/>
              </a:rPr>
              <a:t>KARA POZBAWIENIA</a:t>
            </a:r>
            <a:br>
              <a:rPr sz="1800"/>
            </a:br>
            <a:r>
              <a:rPr b="1" lang="pl-PL" sz="1800" spc="-1" strike="noStrike">
                <a:solidFill>
                  <a:srgbClr val="00b050"/>
                </a:solidFill>
                <a:latin typeface="Arial"/>
              </a:rPr>
              <a:t>WOLNOŚCI do lat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ole tekstowe 10"/>
          <p:cNvSpPr/>
          <p:nvPr/>
        </p:nvSpPr>
        <p:spPr>
          <a:xfrm>
            <a:off x="1694520" y="1989000"/>
            <a:ext cx="541800" cy="35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00b050"/>
                </a:solidFill>
                <a:latin typeface="Arial"/>
              </a:rPr>
              <a:t>K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ole tekstowe 12"/>
          <p:cNvSpPr/>
          <p:nvPr/>
        </p:nvSpPr>
        <p:spPr>
          <a:xfrm>
            <a:off x="3419640" y="2565360"/>
            <a:ext cx="3816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b050"/>
                </a:solidFill>
                <a:latin typeface="Arial"/>
              </a:rPr>
              <a:t>podlega karze pozbawienia wolno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333000"/>
            <a:ext cx="449748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300" spc="-1" strike="noStrike">
                <a:solidFill>
                  <a:srgbClr val="c00000"/>
                </a:solidFill>
                <a:latin typeface="Arial"/>
              </a:rPr>
              <a:t>PRZEPI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300" spc="-1" strike="noStrike">
                <a:solidFill>
                  <a:srgbClr val="c00000"/>
                </a:solidFill>
                <a:latin typeface="Arial"/>
              </a:rPr>
              <a:t>PRAWN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360" y="1628280"/>
            <a:ext cx="4497480" cy="42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najmniejszy element tekstu prawnego </a:t>
            </a: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w postaci zdania zaopatrzonego wskaźnikiem identyfikacyjnym: artykuł, paragraf, punkt, litera it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4720" y="333000"/>
            <a:ext cx="449892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300" spc="-1" strike="noStrike">
                <a:solidFill>
                  <a:srgbClr val="c00000"/>
                </a:solidFill>
                <a:latin typeface="Arial"/>
              </a:rPr>
              <a:t>NORM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300" spc="-1" strike="noStrike">
                <a:solidFill>
                  <a:srgbClr val="c00000"/>
                </a:solidFill>
                <a:latin typeface="Arial"/>
              </a:rPr>
              <a:t>PRAWN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4720" y="1628280"/>
            <a:ext cx="4498920" cy="42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najmniejszy, stanowiący sensowną całość element praw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norma postępowania</a:t>
            </a: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: nakaz, zakaz, dozwolen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95280" y="3500280"/>
            <a:ext cx="2060640" cy="1544760"/>
          </a:xfrm>
          <a:prstGeom prst="rect">
            <a:avLst/>
          </a:prstGeom>
          <a:ln w="0">
            <a:noFill/>
          </a:ln>
        </p:spPr>
      </p:pic>
      <p:cxnSp>
        <p:nvCxnSpPr>
          <p:cNvPr id="117" name="Łącznik prosty ze strzałką 10"/>
          <p:cNvCxnSpPr/>
          <p:nvPr/>
        </p:nvCxnSpPr>
        <p:spPr>
          <a:xfrm>
            <a:off x="2626920" y="4220640"/>
            <a:ext cx="2592720" cy="1080"/>
          </a:xfrm>
          <a:prstGeom prst="straightConnector1">
            <a:avLst/>
          </a:prstGeom>
          <a:ln w="28440">
            <a:solidFill>
              <a:srgbClr val="005696"/>
            </a:solidFill>
            <a:miter/>
            <a:tailEnd len="med" type="arrow" w="med"/>
          </a:ln>
        </p:spPr>
      </p:cxnSp>
      <p:sp>
        <p:nvSpPr>
          <p:cNvPr id="118" name="pole tekstowe 11"/>
          <p:cNvSpPr/>
          <p:nvPr/>
        </p:nvSpPr>
        <p:spPr>
          <a:xfrm>
            <a:off x="5591160" y="400536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WYJŚCIE EWAKUACYJ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2556000" y="4581360"/>
            <a:ext cx="2171520" cy="1629000"/>
          </a:xfrm>
          <a:prstGeom prst="rect">
            <a:avLst/>
          </a:prstGeom>
          <a:ln w="0">
            <a:noFill/>
          </a:ln>
        </p:spPr>
      </p:pic>
      <p:cxnSp>
        <p:nvCxnSpPr>
          <p:cNvPr id="120" name="Łącznik prosty ze strzałką 14"/>
          <p:cNvCxnSpPr/>
          <p:nvPr/>
        </p:nvCxnSpPr>
        <p:spPr>
          <a:xfrm>
            <a:off x="4932360" y="5373360"/>
            <a:ext cx="792720" cy="1080"/>
          </a:xfrm>
          <a:prstGeom prst="straightConnector1">
            <a:avLst/>
          </a:prstGeom>
          <a:ln w="28440">
            <a:solidFill>
              <a:srgbClr val="005696"/>
            </a:solidFill>
            <a:miter/>
            <a:tailEnd len="med" type="arrow" w="med"/>
          </a:ln>
        </p:spPr>
      </p:cxnSp>
      <p:sp>
        <p:nvSpPr>
          <p:cNvPr id="121" name="pole tekstowe 15"/>
          <p:cNvSpPr/>
          <p:nvPr/>
        </p:nvSpPr>
        <p:spPr>
          <a:xfrm>
            <a:off x="5749560" y="5084640"/>
            <a:ext cx="339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ZAKAZ ZATRZYMYWANIA SI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I POSTO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c00000"/>
                </a:solidFill>
                <a:latin typeface="Arial"/>
              </a:rPr>
              <a:t>Tworzenie praw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98064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Zasady tworzenia praw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zupełność systemu pra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Prawo znajduje zastosowanie do każdej sytuacji wymagającej rozstrzygnięcia</a:t>
            </a:r>
            <a:br>
              <a:rPr sz="1800"/>
            </a:b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na gruncie pra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Dla każdego zagadnienia prawnego istnieje norma praw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c00000"/>
                </a:solidFill>
                <a:latin typeface="Arial"/>
              </a:rPr>
              <a:t>PRAWO NIE POWINNO ZAWIERAĆ LU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spójność prawa (niesprzeczność praw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Normy prawne są między sobą powiązane i spó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c00000"/>
                </a:solidFill>
                <a:latin typeface="Arial"/>
              </a:rPr>
              <a:t>PRAWO NIE POWINNO BYĆ WEWNĘTRZNIE SPRZECZ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hierarchiczność pra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System prawny jest zbudowany z norm wyższego i niższego rzę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Normy niższego rzędu służą realizacji norm wyższego rzę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c00000"/>
                </a:solidFill>
                <a:latin typeface="Arial"/>
              </a:rPr>
              <a:t>REALIZACJA NORM KONSTYTUCYJN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c00000"/>
                </a:solidFill>
                <a:latin typeface="Arial"/>
              </a:rPr>
              <a:t>Wykładnia prawa</a:t>
            </a:r>
            <a:br>
              <a:rPr sz="3000"/>
            </a:br>
            <a:r>
              <a:rPr b="1" lang="pl-PL" sz="2800" spc="-1" strike="noStrike">
                <a:solidFill>
                  <a:srgbClr val="c00000"/>
                </a:solidFill>
                <a:latin typeface="Arial"/>
              </a:rPr>
              <a:t>(interpretacja praw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125360"/>
            <a:ext cx="9144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5696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Proces zmierzający do ustalenia znaczenia przepisu prawnego</a:t>
            </a:r>
            <a:br>
              <a:rPr sz="2200"/>
            </a:b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i w rezultacie </a:t>
            </a: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do ustalenia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 zawartych w nim </a:t>
            </a: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norm prawnych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art. 201. § 1. </a:t>
            </a:r>
            <a:r>
              <a:rPr b="1" i="1" lang="pl-PL" sz="2000" spc="-1" strike="noStrike">
                <a:solidFill>
                  <a:srgbClr val="005696"/>
                </a:solidFill>
                <a:latin typeface="Arial"/>
              </a:rPr>
              <a:t>Kodeksu spółek handlowych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Zarząd prowadzi sprawy spółki i reprezentuje spółk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Zarząd spółki jest uprawniony do dokonywania wszelkich czynności związanych z prowadzeniem jej spraw. Jest także uprawniony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do występowania w imieniu spółki i do zawierania w jej imieniu czynności prawnych. Odpowiada za ogół działalności spół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Łącznik prosty ze strzałką 9"/>
          <p:cNvCxnSpPr/>
          <p:nvPr/>
        </p:nvCxnSpPr>
        <p:spPr>
          <a:xfrm>
            <a:off x="610920" y="3284280"/>
            <a:ext cx="1080" cy="432360"/>
          </a:xfrm>
          <a:prstGeom prst="straightConnector1">
            <a:avLst/>
          </a:prstGeom>
          <a:ln w="28440">
            <a:solidFill>
              <a:srgbClr val="00569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c00000"/>
                </a:solidFill>
                <a:latin typeface="Arial"/>
              </a:rPr>
              <a:t>Subsumpc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Proces polegający </a:t>
            </a: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na przyporządkowaniu stanu faktycznego 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(zaistniałych okoliczności, zachowań, itp.) </a:t>
            </a: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do normy prawnej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, wyinterpretowanej z przepisu prawne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Subsumpcja jest jednym z etapów stosowania prawa przez sądy i organy administra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5696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Stosowanie praw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ustalenie stanu faktyczn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zebranie przepisów prawnych, które znajdą zastosowanie do tego stanu faktyczn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wykładnia (interpretacja) pra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subsumpc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wiążące ustalenie konsekwencji prawnych (wydanie orzeczenia sądowego, decyzji administracyjne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c00000"/>
                </a:solidFill>
                <a:latin typeface="Arial"/>
              </a:rPr>
              <a:t>Stosowanie praw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83664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STAN FAKTYCZ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Pan Igor zdał egzamin notarialny i odbył dwuletnią asesurę. Złożył wniosek</a:t>
            </a:r>
            <a:br>
              <a:rPr sz="1800"/>
            </a:b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do Ministra Sprawiedliwości o powołanie go na notarius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PRZEPISY PRAW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5696"/>
                </a:solidFill>
                <a:latin typeface="Arial"/>
              </a:rPr>
              <a:t>art. art. 10–13 ustawy z dania 14 lutego 1991 r. – </a:t>
            </a:r>
            <a:r>
              <a:rPr b="1" i="1" lang="pl-PL" sz="1800" spc="-1" strike="noStrike">
                <a:solidFill>
                  <a:srgbClr val="005696"/>
                </a:solidFill>
                <a:latin typeface="Arial"/>
              </a:rPr>
              <a:t>Prawo o notari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56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polskie obywatelstwo, 26 lat, pełnia praw cywilnych i obywatelskich,</a:t>
            </a:r>
            <a:br>
              <a:rPr sz="1800"/>
            </a:b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nieskazitelny charak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56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wyższe studia prawnicze, aplikacja notarialna, egzamin notarialny, 2-letnia ases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56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złożenie wniosku w formie prawem przewidzia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56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odmowa powołania na notariusza </a:t>
            </a:r>
            <a:r>
              <a:rPr b="0" lang="pl-PL" sz="1800" spc="-1" strike="noStrike">
                <a:solidFill>
                  <a:srgbClr val="005696"/>
                </a:solidFill>
                <a:latin typeface="Wingdings"/>
                <a:ea typeface="Wingdings"/>
              </a:rPr>
              <a:t>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 ww. warunki nie są spełn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WYKŁADNIA PRAWA i SUBSUMP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Organ bada, czy pan Igor spełnia wymogi przewidziane przepisami pra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DECYZJA/ORZEC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56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powołanie na notarius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56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odmowa powołania na notarius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0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00000"/>
                </a:solidFill>
                <a:latin typeface="Arial"/>
              </a:rPr>
              <a:t>SYSTEMY NORMATYW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16668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rostokąt 1"/>
          <p:cNvSpPr/>
          <p:nvPr/>
        </p:nvSpPr>
        <p:spPr>
          <a:xfrm>
            <a:off x="179280" y="1628640"/>
            <a:ext cx="8353440" cy="33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Definicja praw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Przepisy i normy praw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Systemy normatyw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System praw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Źródła praw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Kultura prawna i język praw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ole tekstowe 2"/>
          <p:cNvSpPr/>
          <p:nvPr/>
        </p:nvSpPr>
        <p:spPr>
          <a:xfrm>
            <a:off x="266760" y="765000"/>
            <a:ext cx="2855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c00000"/>
                </a:solidFill>
                <a:latin typeface="Arial"/>
              </a:rPr>
              <a:t>PLAN WYKŁADU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500" spc="-1" strike="noStrike">
                <a:solidFill>
                  <a:srgbClr val="c00000"/>
                </a:solidFill>
                <a:latin typeface="Arial"/>
              </a:rPr>
              <a:t>Regulatory zachowań społecznyc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1125360"/>
            <a:ext cx="9144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NORMATYW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prawo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 - co jest nakazane a co zakazane (praw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moralność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 - co jest dobre a co jest złe (filozofia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obyczajność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 - co wypada a czego nie wypada robić (kultura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religia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 - co jest dobre a co złe (wyznanie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NIENORMATYW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prawidłowości gospodarki rynkow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tradyc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mit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przesą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Każdy człowiek podlega jednocześnie wielu różnym normom, ponieważ przynależy do wielu grup społecznych (rodzina, klasa szkolna, mieszkaniec wsi, obywatel, it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500" spc="-1" strike="noStrike">
                <a:solidFill>
                  <a:srgbClr val="c00000"/>
                </a:solidFill>
                <a:latin typeface="Arial"/>
              </a:rPr>
              <a:t>Relacje między normam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98064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ZWIĄZKI TREŚCI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Zakresy zachowań regulowanych przez prawo –moralność –obyczajność –religię </a:t>
            </a:r>
            <a:r>
              <a:rPr b="0" lang="pl-PL" sz="1800" spc="-1" strike="noStrike" u="sng">
                <a:solidFill>
                  <a:srgbClr val="005696"/>
                </a:solidFill>
                <a:uFillTx/>
                <a:latin typeface="Arial"/>
              </a:rPr>
              <a:t>krzyżują się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5696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Niektóre zachowania podlegają pod jeden system normatywny, inne są regulowane przez normy kilku z nich, n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wchodzenie w kostiumie kąpielowym do świąty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przechodzenie przez ulicę na zielonym świe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kradzie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ZWIĄZKI FUNKCJON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Systemy normatywne oddziałują na siebie – </a:t>
            </a:r>
            <a:r>
              <a:rPr b="0" lang="pl-PL" sz="1800" spc="-1" strike="noStrike" u="sng">
                <a:solidFill>
                  <a:srgbClr val="005696"/>
                </a:solidFill>
                <a:uFillTx/>
                <a:latin typeface="Arial"/>
              </a:rPr>
              <a:t>wzajemnie się wspierają lub osłabiają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System prawny sprzeczny z moralnością może osłabiać skuteczność praw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a w rezultacie doprowadzić do odebrania prawu legitymizacji społecznej, n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nakaz zabijania osób kalek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zakaz  rozdawania czerstwego chleba bez odprowadzenia podat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300" spc="-1" strike="noStrike">
                <a:solidFill>
                  <a:srgbClr val="c00000"/>
                </a:solidFill>
                <a:latin typeface="Arial"/>
              </a:rPr>
              <a:t>Relacje między normami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„</a:t>
            </a: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Uduszona żona” </a:t>
            </a:r>
            <a:r>
              <a:rPr b="0" lang="pl-PL" sz="1500" spc="-1" strike="noStrike">
                <a:solidFill>
                  <a:srgbClr val="c00000"/>
                </a:solidFill>
                <a:latin typeface="Arial"/>
              </a:rPr>
              <a:t>Christie N.</a:t>
            </a:r>
            <a:r>
              <a:rPr b="0" i="1" lang="pl-PL" sz="1500" spc="-1" strike="noStrike">
                <a:solidFill>
                  <a:srgbClr val="c00000"/>
                </a:solidFill>
                <a:latin typeface="Arial"/>
              </a:rPr>
              <a:t>, Dogodna ilość przestępstw, </a:t>
            </a:r>
            <a:r>
              <a:rPr b="0" lang="pl-PL" sz="1500" spc="-1" strike="noStrike">
                <a:solidFill>
                  <a:srgbClr val="c00000"/>
                </a:solidFill>
                <a:latin typeface="Arial"/>
              </a:rPr>
              <a:t>PSEP, Warszawa 2004 r., s. 13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Mężczyzna </a:t>
            </a: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podał żonie narkotyki i doprowadził do jej śmierci 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przez uduszen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Mężczyzna </a:t>
            </a: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napisał następnie list do policji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, o tym, co się wydarzyło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i co stanie się dalej – zamierzał wsiąść na statek, obciążyć się kamieniami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i wyskoczyć za burt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List dotarł na policję po dwóch dniach. Tak, jak mężczyzna zapowiedział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w liście, policjanci znaleźli otwarte mieszkanie a w nim martwą kobiet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Ciało było troskliwie umyte. Kobieta miała 86 lat, mężczyzna 78. </a:t>
            </a: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Ona cierpiała na Alzheimera, on długo o nią dbał, 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ale stan kobiety był krytyczny i miała zostać od niego zabr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Doktor rodzinny oświadczył, że </a:t>
            </a: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para była z sobą bardzo zżyta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ole tekstowe 3"/>
          <p:cNvSpPr/>
          <p:nvPr/>
        </p:nvSpPr>
        <p:spPr>
          <a:xfrm>
            <a:off x="927000" y="836640"/>
            <a:ext cx="7215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normy obyczajowe –normy religijne – normy moralne – normy praw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0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00000"/>
                </a:solidFill>
                <a:latin typeface="Arial"/>
              </a:rPr>
              <a:t>SYSTEM PRA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16668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260280"/>
            <a:ext cx="40402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00000"/>
                </a:solidFill>
                <a:latin typeface="Arial"/>
              </a:rPr>
              <a:t>SYSTEM PRA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1197000"/>
            <a:ext cx="4497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zbiór norm prawnych tworzących określoną </a:t>
            </a: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całość</a:t>
            </a: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, n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5696"/>
                </a:solidFill>
                <a:latin typeface="Arial"/>
              </a:rPr>
              <a:t>system prawny poszczególnych państ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5696"/>
                </a:solidFill>
                <a:latin typeface="Arial"/>
              </a:rPr>
              <a:t>system gałęzi praw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5696"/>
                </a:solidFill>
                <a:latin typeface="Arial"/>
              </a:rPr>
              <a:t>system źródeł praw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4720" y="260280"/>
            <a:ext cx="40417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00000"/>
                </a:solidFill>
                <a:latin typeface="Arial"/>
              </a:rPr>
              <a:t>SYSTEM PRAWNY DANEGO PAŃŚT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4720" y="1125000"/>
            <a:ext cx="4498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całokształt przepisów prawnych obowiązujących w danym czasie w tym państw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Polska</a:t>
            </a:r>
            <a:br>
              <a:rPr sz="2000"/>
            </a:b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system prawny dzieli się</a:t>
            </a:r>
            <a:br>
              <a:rPr sz="2000"/>
            </a:b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na </a:t>
            </a: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gałęzie</a:t>
            </a: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, które obejmują normy regulujące określone kategorie stosunków społeczn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ole tekstowe 8"/>
          <p:cNvSpPr/>
          <p:nvPr/>
        </p:nvSpPr>
        <p:spPr>
          <a:xfrm>
            <a:off x="1034640" y="5445000"/>
            <a:ext cx="67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5696"/>
                </a:solidFill>
                <a:latin typeface="Arial"/>
              </a:rPr>
              <a:t>SYSTEM PRAWNY = GAŁĘZIE PRAWA &lt; DZIEDZINY PRA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c00000"/>
                </a:solidFill>
                <a:latin typeface="Arial"/>
              </a:rPr>
              <a:t>GAŁĘZIE i DZIEDZINY PRAW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346392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GAŁĄŹ PRAW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1412640"/>
            <a:ext cx="4497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5696"/>
                </a:solidFill>
                <a:latin typeface="Arial"/>
              </a:rPr>
              <a:t>zbiór norm prawnych regulujących daną dziedzinę życia, wyodrębnioną ze względu na </a:t>
            </a:r>
            <a:r>
              <a:rPr b="0" lang="pl-PL" sz="1900" spc="-1" strike="noStrike">
                <a:solidFill>
                  <a:srgbClr val="c00000"/>
                </a:solidFill>
                <a:latin typeface="Arial"/>
              </a:rPr>
              <a:t>przedmiot regulacj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PRAWO PUBLICZNE</a:t>
            </a:r>
            <a:br>
              <a:rPr sz="2000"/>
            </a:br>
            <a:r>
              <a:rPr b="0" lang="pl-PL" sz="1900" spc="-1" strike="noStrike">
                <a:solidFill>
                  <a:srgbClr val="005696"/>
                </a:solidFill>
                <a:latin typeface="Arial"/>
              </a:rPr>
              <a:t>(reguluje stosunki między państwem a obywatelem, między państwem a organami państw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PRAWO PRYWATNE</a:t>
            </a:r>
            <a:br>
              <a:rPr sz="2000"/>
            </a:br>
            <a:r>
              <a:rPr b="0" lang="pl-PL" sz="1900" spc="-1" strike="noStrike">
                <a:solidFill>
                  <a:srgbClr val="005696"/>
                </a:solidFill>
                <a:latin typeface="Arial"/>
              </a:rPr>
              <a:t>(reguluje stosunki między podmiotami równoprawnymi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PRAWO MIĘDZYNARODOWE</a:t>
            </a:r>
            <a:br>
              <a:rPr sz="2000"/>
            </a:br>
            <a:r>
              <a:rPr b="0" lang="pl-PL" sz="1900" spc="-1" strike="noStrike">
                <a:solidFill>
                  <a:srgbClr val="005696"/>
                </a:solidFill>
                <a:latin typeface="Arial"/>
              </a:rPr>
              <a:t>(stosunki między podmiotami obrotu międzynarodowego, także prawo U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724000" y="765000"/>
            <a:ext cx="296100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DZIEDZINA PRAW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4720" y="1483920"/>
            <a:ext cx="44989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5696"/>
                </a:solidFill>
                <a:latin typeface="Arial"/>
              </a:rPr>
              <a:t>zbiór norm prawnych regulujących sferę stosunków społecznych objętych daną gałęzią praw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5696"/>
                </a:solidFill>
                <a:latin typeface="Arial"/>
              </a:rPr>
              <a:t>prawo finansowe, prawo konstytucyjne, prawo karne, prawo administracyjne, itd.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(</a:t>
            </a:r>
            <a:r>
              <a:rPr b="1" lang="pl-PL" sz="1500" spc="-1" strike="noStrike">
                <a:solidFill>
                  <a:srgbClr val="c00000"/>
                </a:solidFill>
                <a:latin typeface="Arial"/>
              </a:rPr>
              <a:t>PRAWO PUBLICZNE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5696"/>
                </a:solidFill>
                <a:latin typeface="Arial"/>
              </a:rPr>
              <a:t>prawo cywilne, prawo rodzinne, prawo pracy, prawo handlowe, itd. 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(</a:t>
            </a:r>
            <a:r>
              <a:rPr b="1" lang="pl-PL" sz="1500" spc="-1" strike="noStrike">
                <a:solidFill>
                  <a:srgbClr val="c00000"/>
                </a:solidFill>
                <a:latin typeface="Arial"/>
              </a:rPr>
              <a:t>PRAWO PRYWATNE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5696"/>
                </a:solidFill>
                <a:latin typeface="Arial"/>
              </a:rPr>
              <a:t>umowy międzynarodowe, prawo ponadnarodowe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(</a:t>
            </a:r>
            <a:r>
              <a:rPr b="1" lang="pl-PL" sz="1500" spc="-1" strike="noStrike">
                <a:solidFill>
                  <a:srgbClr val="c00000"/>
                </a:solidFill>
                <a:latin typeface="Arial"/>
              </a:rPr>
              <a:t>PRAWO MIĘDZYNARODOWE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8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c00000"/>
                </a:solidFill>
                <a:latin typeface="Arial"/>
              </a:rPr>
              <a:t>TERMINOLOGIA</a:t>
            </a:r>
            <a:br>
              <a:rPr sz="2500"/>
            </a:br>
            <a:r>
              <a:rPr b="1" lang="pl-PL" sz="2500" spc="-1" strike="noStrike">
                <a:solidFill>
                  <a:srgbClr val="c00000"/>
                </a:solidFill>
                <a:latin typeface="Arial"/>
              </a:rPr>
              <a:t>GAŁĄŹ PRAWA – DZIEDZINA PRAW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19664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wroty używane są ZAMIENNIE, n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Poszczególne </a:t>
            </a:r>
            <a:r>
              <a:rPr b="0" i="1" lang="pl-PL" sz="1800" spc="-1" strike="noStrike">
                <a:solidFill>
                  <a:srgbClr val="c00000"/>
                </a:solidFill>
                <a:latin typeface="Arial"/>
              </a:rPr>
              <a:t>gałęzie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 prawa, np. prawo publiczne, prywatne,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cywilne, karne, rolne…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. STAWECKI, P. WINCZOREK,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WSTĘP DO PRAWOZNAWSTW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wyd. 4. Warszawa 2003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 internet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pl-PL" sz="1800" spc="-1" strike="noStrike">
                <a:solidFill>
                  <a:srgbClr val="c00000"/>
                </a:solidFill>
                <a:latin typeface="Arial"/>
              </a:rPr>
              <a:t>Gałęzie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 prawa w RP to m.in. prawo gospodarcze. Prawo gospodarcze stanowi swego rodzaju ujęcie w odrębną całość zagadnień z </a:t>
            </a:r>
            <a:r>
              <a:rPr b="0" i="1" lang="pl-PL" sz="1800" spc="-1" strike="noStrike">
                <a:solidFill>
                  <a:srgbClr val="00b050"/>
                </a:solidFill>
                <a:latin typeface="Arial"/>
              </a:rPr>
              <a:t>dziedziny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 prawa cywilnego, administracyjnego i finansoweg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Prawo prywatne to jedna z podstawowych </a:t>
            </a:r>
            <a:r>
              <a:rPr b="0" i="1" lang="pl-PL" sz="1800" spc="-1" strike="noStrike">
                <a:solidFill>
                  <a:srgbClr val="c00000"/>
                </a:solidFill>
                <a:latin typeface="Arial"/>
              </a:rPr>
              <a:t>gałęzi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praw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pl-PL" sz="1800" spc="-1" strike="noStrike">
                <a:solidFill>
                  <a:srgbClr val="c00000"/>
                </a:solidFill>
                <a:latin typeface="Arial"/>
              </a:rPr>
              <a:t>Gałęzie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 prawa to prawo cywilne, prawo handlowe, prawo karne, prawo rolne, itp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 konsultacji z pozostałymi prowadzącymi zajęc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w ramach szkolenia „Edukacja prawna w podstawie programowej” (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adwokat, doktorant i aplikant adwokacki, prawniczka, specjalizująca się w prawie konsumencki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pl-PL" sz="1800" spc="-1" strike="noStrike">
                <a:solidFill>
                  <a:srgbClr val="00b050"/>
                </a:solidFill>
                <a:latin typeface="Arial"/>
              </a:rPr>
              <a:t>eee… nie wie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” „</a:t>
            </a:r>
            <a:r>
              <a:rPr b="0" i="1" lang="pl-PL" sz="1800" spc="-1" strike="noStrike">
                <a:solidFill>
                  <a:srgbClr val="00b050"/>
                </a:solidFill>
                <a:latin typeface="Arial"/>
              </a:rPr>
              <a:t>a to jest jakaś różnica?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” „</a:t>
            </a:r>
            <a:r>
              <a:rPr b="0" i="1" lang="pl-PL" sz="1800" spc="-1" strike="noStrike">
                <a:solidFill>
                  <a:srgbClr val="00b050"/>
                </a:solidFill>
                <a:latin typeface="Arial"/>
              </a:rPr>
              <a:t>a to w ogóle potrzebne jest uczniom?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0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00000"/>
                </a:solidFill>
                <a:latin typeface="Arial"/>
              </a:rPr>
              <a:t>ŹRÓDŁA PRA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16668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500" spc="-1" strike="noStrike">
                <a:solidFill>
                  <a:srgbClr val="c00000"/>
                </a:solidFill>
                <a:latin typeface="Arial"/>
              </a:rPr>
              <a:t>Pojęcie źródeł praw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ZNACZENIE FORMAL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1699920"/>
            <a:ext cx="4497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formy, w jakich przejawia się obowiązujące prawo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(akty normatyw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POLSKA np.: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Konstytucja RP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ustawy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ratyfikowane umowy międzynarodowe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rozporządzenia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akty prawa miejscow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UNIA EUROPEJSKA np.: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rozporządzenia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dyrektywy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decyzje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3280" y="9075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ZNACZENIE MATERIAL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4720" y="1700280"/>
            <a:ext cx="44989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czynniki wpływające na treść norm prawnych 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(wola polityczna, stosunki społeczne, sytuacja gospodarcza, it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c00000"/>
                </a:solidFill>
                <a:latin typeface="Arial"/>
              </a:rPr>
              <a:t>Akt normatywny – formalne źródło praw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81000"/>
            <a:ext cx="914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dokument zawierający ujęte w przepisy normy regulujące określony zakres stosunków społeczny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wydany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przez właściwy org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w stosownej procedurz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należycie </a:t>
            </a: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ogłoszon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ole tekstowe 4"/>
          <p:cNvSpPr/>
          <p:nvPr/>
        </p:nvSpPr>
        <p:spPr>
          <a:xfrm>
            <a:off x="5095440" y="1628640"/>
            <a:ext cx="31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Statut Gimnazjum</a:t>
            </a:r>
            <a:br>
              <a:rPr sz="1800"/>
            </a:b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im. Bolka i Lolka w Sulejów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ole tekstowe 5"/>
          <p:cNvSpPr/>
          <p:nvPr/>
        </p:nvSpPr>
        <p:spPr>
          <a:xfrm>
            <a:off x="3706920" y="2492280"/>
            <a:ext cx="5437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c00000"/>
                </a:solidFill>
                <a:latin typeface="Arial"/>
              </a:rPr>
              <a:t>Ustawa z dnia 7 września 1991 r. o systemie oświa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założyciel szkoły </a:t>
            </a: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(art. 58 ust. 6)</a:t>
            </a:r>
            <a:br>
              <a:rPr sz="1800"/>
            </a:b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rada szkoły </a:t>
            </a: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(art. 42 ust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6"/>
          <p:cNvSpPr/>
          <p:nvPr/>
        </p:nvSpPr>
        <p:spPr>
          <a:xfrm>
            <a:off x="331920" y="981000"/>
            <a:ext cx="1334520" cy="38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92d050"/>
                </a:solidFill>
                <a:latin typeface="Arial"/>
              </a:rPr>
              <a:t>doku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7"/>
          <p:cNvSpPr/>
          <p:nvPr/>
        </p:nvSpPr>
        <p:spPr>
          <a:xfrm>
            <a:off x="2135880" y="1844640"/>
            <a:ext cx="1963800" cy="38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92d050"/>
                </a:solidFill>
                <a:latin typeface="Arial"/>
              </a:rPr>
              <a:t>właściwy org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ole tekstowe 8"/>
          <p:cNvSpPr/>
          <p:nvPr/>
        </p:nvSpPr>
        <p:spPr>
          <a:xfrm>
            <a:off x="837000" y="5157720"/>
            <a:ext cx="685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Organ upoważniony w statucie do jego ogłoszenia/ obwieszczenia</a:t>
            </a:r>
            <a:br>
              <a:rPr sz="1800"/>
            </a:b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(udostępnienie treści statutu na stronie internetowej szkoły,</a:t>
            </a:r>
            <a:br>
              <a:rPr sz="1800"/>
            </a:b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w bibliotece, w gablocie na korytarzu, itp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ole tekstowe 9"/>
          <p:cNvSpPr/>
          <p:nvPr/>
        </p:nvSpPr>
        <p:spPr>
          <a:xfrm>
            <a:off x="1555920" y="2924280"/>
            <a:ext cx="1375560" cy="38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92d050"/>
                </a:solidFill>
                <a:latin typeface="Arial"/>
              </a:rPr>
              <a:t>ogłoszon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10"/>
          <p:cNvSpPr/>
          <p:nvPr/>
        </p:nvSpPr>
        <p:spPr>
          <a:xfrm>
            <a:off x="648000" y="3789360"/>
            <a:ext cx="64843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c00000"/>
                </a:solidFill>
                <a:latin typeface="Arial"/>
              </a:rPr>
              <a:t>Ustawa z dnia 7 września 1991 r. o systemie oświa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projekt statuty przygotowuje rada pedagogiczna (art. 42 i 4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c00000"/>
                </a:solidFill>
                <a:latin typeface="Arial"/>
              </a:rPr>
              <a:t>(uchwała, sposób głosowania, protokó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-uchwala rada szkoły </a:t>
            </a:r>
            <a:r>
              <a:rPr b="0" lang="pl-PL" sz="1600" spc="-1" strike="noStrike">
                <a:solidFill>
                  <a:srgbClr val="c00000"/>
                </a:solidFill>
                <a:latin typeface="Arial"/>
              </a:rPr>
              <a:t>(skład, protokół z zebrania, itp.) </a:t>
            </a: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(art. 50 i 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ole tekstowe 11"/>
          <p:cNvSpPr/>
          <p:nvPr/>
        </p:nvSpPr>
        <p:spPr>
          <a:xfrm>
            <a:off x="1989360" y="2421000"/>
            <a:ext cx="1480680" cy="38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92d050"/>
                </a:solidFill>
                <a:latin typeface="Arial"/>
              </a:rPr>
              <a:t>procedurz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0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00000"/>
                </a:solidFill>
                <a:latin typeface="Arial"/>
              </a:rPr>
              <a:t>DEFINICJA PRA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16668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0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00000"/>
                </a:solidFill>
                <a:latin typeface="Arial"/>
              </a:rPr>
              <a:t>KULTURA PRAWNA i JĘZYK PRAW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16668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500" spc="-1" strike="noStrike">
                <a:solidFill>
                  <a:srgbClr val="c00000"/>
                </a:solidFill>
                <a:latin typeface="Arial"/>
              </a:rPr>
              <a:t>Kultura prawn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wiedza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 jednostek i grup (</a:t>
            </a:r>
            <a:r>
              <a:rPr b="1" i="1" lang="pl-PL" sz="2200" spc="-1" strike="noStrike">
                <a:solidFill>
                  <a:srgbClr val="005696"/>
                </a:solidFill>
                <a:latin typeface="Arial"/>
              </a:rPr>
              <a:t>społeczeństwo, uczniowie, urzędnicy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)</a:t>
            </a:r>
            <a:br>
              <a:rPr sz="2200"/>
            </a:b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o obowiązującym prawi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stosunek do obowiązującego prawa (</a:t>
            </a: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postawa wobec prawa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), zaangażowanie w jego kształt, postulaty, co do jego zmiany, krytyka, akceptacja i ocena praw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także: stan, </a:t>
            </a: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kondycja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prawa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 (jego </a:t>
            </a:r>
            <a:r>
              <a:rPr b="1" i="1" lang="pl-PL" sz="2200" spc="-1" strike="noStrike">
                <a:solidFill>
                  <a:srgbClr val="005696"/>
                </a:solidFill>
                <a:latin typeface="Arial"/>
              </a:rPr>
              <a:t>tworzenie, stosowanie, przestrzeganie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), poziom doktryny i nauk o prawie oraz instytucjach, które to prawo stanowią lub stosuj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c00000"/>
                </a:solidFill>
                <a:latin typeface="Arial"/>
              </a:rPr>
              <a:t>Ignorantia iuris noc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83664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5696"/>
                </a:solidFill>
                <a:latin typeface="Arial"/>
              </a:rPr>
              <a:t>„</a:t>
            </a:r>
            <a:r>
              <a:rPr b="0" lang="pl-PL" sz="2400" spc="-1" strike="noStrike">
                <a:solidFill>
                  <a:srgbClr val="005696"/>
                </a:solidFill>
                <a:latin typeface="Arial"/>
              </a:rPr>
              <a:t>Nieznajomość prawa szkodz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zasada, w myśl której nie można tłumaczyć zachowania niezgodnego z obowiązującą normą prawną tym, że nie wiedziało się o istnieniu tej norm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po ogłoszeniu normy prawnej przyjmuje się założenie, że każdy zapoznał się z jej treścią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5696"/>
                </a:solidFill>
                <a:latin typeface="Arial"/>
              </a:rPr>
              <a:t>OGŁOSZENIE NORMY PRAWNEJ </a:t>
            </a:r>
            <a:r>
              <a:rPr b="0" lang="pl-PL" sz="2200" spc="-1" strike="noStrike">
                <a:solidFill>
                  <a:srgbClr val="005696"/>
                </a:solidFill>
                <a:latin typeface="Wingdings"/>
                <a:ea typeface="Wingdings"/>
              </a:rPr>
              <a:t></a:t>
            </a: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 należyte opublikowanie aktu prawne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Zgodnie z ustawą z dnia 20 lipca 2000 r. o ogłaszaniu aktów normatywnych</a:t>
            </a:r>
            <a:br>
              <a:rPr sz="1800"/>
            </a:b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i niektórych innych aktów prawnych (Dz. U. z 2011 r. Nr 197, poz. 1172, z późn. zm.) Dziennik Ustaw Rzeczypospolitej Polskiej wydaje Prezes Rady Ministrów przy pomocy Rządowego Centrum Legislac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Od 1 stycznia 2012 r. Dziennik Ustaw wydawany jest wyłącznie</a:t>
            </a:r>
            <a:br>
              <a:rPr sz="1800"/>
            </a:b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w formie elektronicznej</a:t>
            </a: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c00000"/>
                </a:solidFill>
                <a:latin typeface="Arial"/>
              </a:rPr>
              <a:t>Odejście od papierowej wersji Dz. U.</a:t>
            </a:r>
            <a:br>
              <a:rPr sz="3000"/>
            </a:br>
            <a:r>
              <a:rPr b="1" lang="pl-PL" sz="3000" spc="-1" strike="noStrike">
                <a:solidFill>
                  <a:srgbClr val="c00000"/>
                </a:solidFill>
                <a:latin typeface="Arial"/>
              </a:rPr>
              <a:t>a zasada </a:t>
            </a:r>
            <a:r>
              <a:rPr b="1" i="1" lang="pl-PL" sz="3000" spc="-1" strike="noStrike">
                <a:solidFill>
                  <a:srgbClr val="c00000"/>
                </a:solidFill>
                <a:latin typeface="Arial"/>
              </a:rPr>
              <a:t>ignorantia iuris noc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1125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Odejście od papierowej wersji Dziennika Ustaw pozwoli zaoszczędzić rocznie około </a:t>
            </a: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18 mln zł 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i </a:t>
            </a: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450 ton papieru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Od 2008 r. akty normatywne są ogłaszane przez Kancelarię Premiera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w formie papierowej oraz elektroniczn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Od  1 stycznia 2010 r. postać elektroniczna uzyskała walor oficjalności i jest traktowana tak samo jak papierow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Obecnie papierowy Dziennik Ustaw można kupić w prenumeracie i w dwóch punktach sprzedaży w kraju (w Warszawie). Z prenumeraty korzystają głównie urzędy i państwowe przedsiębiorstwa. Roczny koszt prenumeraty to 1620 z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Ustawa wprowadza obowiązek </a:t>
            </a: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wydrukowania i wieczystego przechowywania 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papierowych odpisów z Dziennika Ustaw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w Kancelarii Prezydenta, Kancelarii Sejmu, Kancelarii Premiera oraz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w Bibliotece Narodow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ole tekstowe 3"/>
          <p:cNvSpPr/>
          <p:nvPr/>
        </p:nvSpPr>
        <p:spPr>
          <a:xfrm>
            <a:off x="4722120" y="6021360"/>
            <a:ext cx="42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c00000"/>
                </a:solidFill>
                <a:latin typeface="Arial"/>
              </a:rPr>
              <a:t>źródło: blog M. Wójcika, posła na Sejm VII kadencj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-360" y="836280"/>
            <a:ext cx="44974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c00000"/>
                </a:solidFill>
                <a:latin typeface="Arial"/>
              </a:rPr>
              <a:t>JĘZYK PRAW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1773000"/>
            <a:ext cx="4497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język, w którym formułowane jest praw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język aktów prawny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posiada silnie rozbudowany aparat pojęciowy</a:t>
            </a:r>
            <a:br>
              <a:rPr sz="2200"/>
            </a:b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(</a:t>
            </a:r>
            <a:r>
              <a:rPr b="0" i="1" lang="pl-PL" sz="2200" spc="-1" strike="noStrike">
                <a:solidFill>
                  <a:srgbClr val="005696"/>
                </a:solidFill>
                <a:latin typeface="Arial"/>
              </a:rPr>
              <a:t>np. pozew, zażalenie, organ, służebność, nieruchomości, itp.</a:t>
            </a: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4720" y="836280"/>
            <a:ext cx="4498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c00000"/>
                </a:solidFill>
                <a:latin typeface="Arial"/>
              </a:rPr>
              <a:t>JĘZYK PRAWNIC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44720" y="1844280"/>
            <a:ext cx="44989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język używany przez osoby stosujące i interpretujące praw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„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język prawników</a:t>
            </a: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” używany</a:t>
            </a:r>
            <a:br>
              <a:rPr sz="2200"/>
            </a:b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do mówienia o praw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znaczenie poszczególnych słów</a:t>
            </a:r>
            <a:br>
              <a:rPr sz="2200"/>
            </a:b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i zwrotów różni się</a:t>
            </a:r>
            <a:br>
              <a:rPr sz="2200"/>
            </a:b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od ich znaczenia potoczne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c00000"/>
                </a:solidFill>
                <a:latin typeface="Arial"/>
              </a:rPr>
              <a:t>Język prawny a język prawnicz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907920"/>
            <a:ext cx="9144000" cy="554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JĘZYK PRAW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200" spc="-1" strike="noStrike">
                <a:solidFill>
                  <a:srgbClr val="005696"/>
                </a:solidFill>
                <a:latin typeface="Arial"/>
              </a:rPr>
              <a:t>art. 15 ustawy – Prawo czekow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Indos powinien być bezwarunkowy. Warunki, od których uzależniono indos, uważa się za nienapisa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JĘZYK PRAWNICZ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Prawo czekowe nie pozwala na dokonanie indosu pod warunkiem. Zastrzeżenie warunku uważa się za nienapisane a sam indos pozostaje ważn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JĘZYK POTOCZ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Przy zbywaniu czeku nie można zastrzec, że robisz to „</a:t>
            </a:r>
            <a:r>
              <a:rPr b="0" i="1" lang="pl-PL" sz="2200" spc="-1" strike="noStrike">
                <a:solidFill>
                  <a:srgbClr val="005696"/>
                </a:solidFill>
                <a:latin typeface="Arial"/>
              </a:rPr>
              <a:t>pod warunkiem, że coś</a:t>
            </a: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”. Nawet, jak coś takiego napiszesz, to nikt</a:t>
            </a:r>
            <a:br>
              <a:rPr sz="2200"/>
            </a:b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nie weźmie tego pod uwagę. Zbywasz albo nie zbywasz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500" spc="-1" strike="noStrike">
                <a:solidFill>
                  <a:srgbClr val="c00000"/>
                </a:solidFill>
                <a:latin typeface="Arial"/>
              </a:rPr>
              <a:t>Dziękuję za uwagę!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00000"/>
                </a:solidFill>
                <a:latin typeface="Arial"/>
              </a:rPr>
              <a:t>Agnieszka Świder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00000"/>
                </a:solidFill>
                <a:latin typeface="Arial"/>
              </a:rPr>
              <a:t>Sulejówek, 2013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5696"/>
                </a:solidFill>
                <a:latin typeface="Arial"/>
              </a:rPr>
              <a:t>Przedmiotem niniejszego wykładu jest </a:t>
            </a:r>
            <a:r>
              <a:rPr b="1" lang="pl-PL" sz="3000" spc="-1" strike="noStrike">
                <a:solidFill>
                  <a:srgbClr val="c00000"/>
                </a:solidFill>
                <a:latin typeface="Arial"/>
              </a:rPr>
              <a:t>PRAWO</a:t>
            </a:r>
            <a:r>
              <a:rPr b="1" lang="pl-PL" sz="3000" spc="-1" strike="noStrike">
                <a:solidFill>
                  <a:srgbClr val="005696"/>
                </a:solidFill>
                <a:latin typeface="Arial"/>
              </a:rPr>
              <a:t> jako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844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005696"/>
                </a:solidFill>
                <a:latin typeface="Arial"/>
              </a:rPr>
              <a:t>…</a:t>
            </a:r>
            <a:r>
              <a:rPr b="1" lang="pl-PL" sz="2800" spc="-1" strike="noStrike">
                <a:solidFill>
                  <a:srgbClr val="005696"/>
                </a:solidFill>
                <a:latin typeface="Arial"/>
              </a:rPr>
              <a:t>ogół przepisów i norm prawnych regulujących stosunki między ludźmi danej społecznoś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Prawo to zjawisko społeczne – pojawia się w ramach zorganizowanej grupy społecznej (np. </a:t>
            </a:r>
            <a:r>
              <a:rPr b="0" i="1" lang="pl-PL" sz="2000" spc="-1" strike="noStrike">
                <a:solidFill>
                  <a:srgbClr val="c00000"/>
                </a:solidFill>
                <a:latin typeface="Arial"/>
              </a:rPr>
              <a:t>państwa</a:t>
            </a: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), regulując kwestie o zasięgu społecznym</a:t>
            </a:r>
            <a:br>
              <a:rPr sz="2000"/>
            </a:b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(np. </a:t>
            </a:r>
            <a:r>
              <a:rPr b="0" i="1" lang="pl-PL" sz="2000" spc="-1" strike="noStrike">
                <a:solidFill>
                  <a:srgbClr val="c00000"/>
                </a:solidFill>
                <a:latin typeface="Arial"/>
              </a:rPr>
              <a:t>zasady jego organizacji</a:t>
            </a: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c00000"/>
                </a:solidFill>
                <a:latin typeface="Arial"/>
              </a:rPr>
              <a:t>Czy jest prawem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600200"/>
            <a:ext cx="914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zakaz odurzania ryb alkohole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Zakaz taki wprowadza prawo stanu Ohio, U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zakaz korzystania z pralek automatycznych w niedzie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W Szwajcarii w niedziele zabronione jest: używanie pralek, suszenie prania w ogrodzie, koszenie trawy i mycie samochodó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zakaz wykorzystania przez pracownika wszystkich dni urlop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W Japonii funkcjonuje nieformalny zakaz wykorzystania wszystkich dni urlopowych (takie postępowanie budzi zgorszeni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zakaz zgonu w miejscu publiczny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W Wielkiej Brytanii zakazany jest zgon w Parlamenci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0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00000"/>
                </a:solidFill>
                <a:latin typeface="Arial"/>
              </a:rPr>
              <a:t>PRZEPISY i NORMY PRAW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16668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500" spc="-1" strike="noStrike">
                <a:solidFill>
                  <a:srgbClr val="c00000"/>
                </a:solidFill>
                <a:latin typeface="Arial"/>
              </a:rPr>
              <a:t>Prawo</a:t>
            </a:r>
            <a:r>
              <a:rPr b="1" lang="pl-PL" sz="3500" spc="-1" strike="noStrike">
                <a:solidFill>
                  <a:srgbClr val="005696"/>
                </a:solidFill>
                <a:latin typeface="Arial"/>
              </a:rPr>
              <a:t> ma charakter normatywn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Prawo zawiera normy, tj. 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reguły postępowan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Normy prawne dyscyplinują adresatów do określonego sposobu postępowania, wyrażając: 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nakaz, zakaz </a:t>
            </a:r>
            <a:r>
              <a:rPr b="0" lang="pl-PL" sz="2200" spc="-1" strike="noStrike">
                <a:solidFill>
                  <a:srgbClr val="005696"/>
                </a:solidFill>
                <a:latin typeface="Arial"/>
              </a:rPr>
              <a:t>lub </a:t>
            </a:r>
            <a:r>
              <a:rPr b="1" lang="pl-PL" sz="2200" spc="-1" strike="noStrike">
                <a:solidFill>
                  <a:srgbClr val="005696"/>
                </a:solidFill>
                <a:latin typeface="Arial"/>
              </a:rPr>
              <a:t>dozwoleni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c00000"/>
                </a:solidFill>
                <a:latin typeface="Arial"/>
              </a:rPr>
              <a:t>akt prawny – przepis prawny – norma praw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AKT PRAWNY 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to </a:t>
            </a: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akt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 organu państwowego ustanawiający normy ogól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PRZEPIS PRAWNY 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to </a:t>
            </a: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część aktu prawnego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, wyodrębniona jak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artykuł (</a:t>
            </a:r>
            <a:r>
              <a:rPr b="0" i="1" lang="pl-PL" sz="2000" spc="-1" strike="noStrike">
                <a:solidFill>
                  <a:srgbClr val="005696"/>
                </a:solidFill>
                <a:latin typeface="Arial"/>
              </a:rPr>
              <a:t>art.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), paragraf (</a:t>
            </a:r>
            <a:r>
              <a:rPr b="0" i="1" lang="pl-PL" sz="2000" spc="-1" strike="noStrike">
                <a:solidFill>
                  <a:srgbClr val="005696"/>
                </a:solidFill>
                <a:latin typeface="Arial"/>
              </a:rPr>
              <a:t>§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), ustęp, tiret (–), punkt (</a:t>
            </a:r>
            <a:r>
              <a:rPr b="0" i="1" lang="pl-PL" sz="2000" spc="-1" strike="noStrike">
                <a:solidFill>
                  <a:srgbClr val="005696"/>
                </a:solidFill>
                <a:latin typeface="Arial"/>
              </a:rPr>
              <a:t>3.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), litera (</a:t>
            </a:r>
            <a:r>
              <a:rPr b="0" i="1" lang="pl-PL" sz="2000" spc="-1" strike="noStrike">
                <a:solidFill>
                  <a:srgbClr val="005696"/>
                </a:solidFill>
                <a:latin typeface="Arial"/>
              </a:rPr>
              <a:t>a.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NORMA PRAWNA 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to </a:t>
            </a: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reguła postępowania </a:t>
            </a: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wyinterpretowana z przepisu</a:t>
            </a:r>
            <a:br>
              <a:rPr sz="2000"/>
            </a:br>
            <a:r>
              <a:rPr b="0" lang="pl-PL" sz="2000" spc="-1" strike="noStrike">
                <a:solidFill>
                  <a:srgbClr val="005696"/>
                </a:solidFill>
                <a:latin typeface="Arial"/>
              </a:rPr>
              <a:t>lub przepisów prawnyc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500" spc="-1" strike="noStrike">
                <a:solidFill>
                  <a:srgbClr val="c00000"/>
                </a:solidFill>
                <a:latin typeface="Arial"/>
              </a:rPr>
              <a:t>AKT PRAWN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696"/>
                </a:solidFill>
                <a:latin typeface="Arial"/>
              </a:rPr>
              <a:t>USTA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5696"/>
                </a:solidFill>
                <a:latin typeface="Arial"/>
              </a:rPr>
              <a:t>z dnia 21 stycznia 2005 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696"/>
                </a:solidFill>
                <a:latin typeface="Arial"/>
              </a:rPr>
              <a:t>o doświadczeniach na zwierzęt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l-PL" sz="3200" spc="-1" strike="noStrike">
                <a:solidFill>
                  <a:srgbClr val="005696"/>
                </a:solidFill>
                <a:latin typeface="Arial"/>
              </a:rPr>
              <a:t>(Dz. U. nr 33, poz. 289 ze zm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5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ole tekstowe 3"/>
          <p:cNvSpPr/>
          <p:nvPr/>
        </p:nvSpPr>
        <p:spPr>
          <a:xfrm>
            <a:off x="1338120" y="191628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92d050"/>
                </a:solidFill>
                <a:latin typeface="Arial"/>
              </a:rPr>
              <a:t>RODZAJ  A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ole tekstowe 4"/>
          <p:cNvSpPr/>
          <p:nvPr/>
        </p:nvSpPr>
        <p:spPr>
          <a:xfrm>
            <a:off x="97920" y="28526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f0"/>
                </a:solidFill>
                <a:latin typeface="Arial"/>
              </a:rPr>
              <a:t>DATA WYD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ole tekstowe 5"/>
          <p:cNvSpPr/>
          <p:nvPr/>
        </p:nvSpPr>
        <p:spPr>
          <a:xfrm>
            <a:off x="7388640" y="27082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Arial"/>
              </a:rPr>
              <a:t>PRZEDMI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Arial"/>
              </a:rPr>
              <a:t>REGUL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ole tekstowe 6"/>
          <p:cNvSpPr/>
          <p:nvPr/>
        </p:nvSpPr>
        <p:spPr>
          <a:xfrm>
            <a:off x="3779640" y="515772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PUBLIK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Łącznik prosty 13"/>
          <p:cNvSpPr/>
          <p:nvPr/>
        </p:nvSpPr>
        <p:spPr>
          <a:xfrm>
            <a:off x="3564000" y="2708280"/>
            <a:ext cx="2016000" cy="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Łącznik prosty 15"/>
          <p:cNvSpPr/>
          <p:nvPr/>
        </p:nvSpPr>
        <p:spPr>
          <a:xfrm>
            <a:off x="2124000" y="3284640"/>
            <a:ext cx="4751640" cy="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Łącznik prosty 17"/>
          <p:cNvSpPr/>
          <p:nvPr/>
        </p:nvSpPr>
        <p:spPr>
          <a:xfrm>
            <a:off x="1116000" y="3933720"/>
            <a:ext cx="6840720" cy="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Łącznik prosty 21"/>
          <p:cNvSpPr/>
          <p:nvPr/>
        </p:nvSpPr>
        <p:spPr>
          <a:xfrm>
            <a:off x="2050920" y="5013360"/>
            <a:ext cx="5256360" cy="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500" spc="-1" strike="noStrike">
                <a:solidFill>
                  <a:srgbClr val="c00000"/>
                </a:solidFill>
                <a:latin typeface="Arial"/>
              </a:rPr>
              <a:t>PRZEPIS PRAWN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5696"/>
                </a:solidFill>
                <a:latin typeface="Arial"/>
              </a:rPr>
              <a:t>USTA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z dnia 21 stycznia 2005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5696"/>
                </a:solidFill>
                <a:latin typeface="Arial"/>
              </a:rPr>
              <a:t>o doświadczeniach na zwierzęt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(Dz. U. nr 33, poz. 289 ze z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art. 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5696"/>
                </a:solidFill>
                <a:latin typeface="Arial"/>
              </a:rPr>
              <a:t>Zabrania się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5696"/>
                </a:solidFill>
                <a:latin typeface="Arial"/>
              </a:rPr>
              <a:t>(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3) </a:t>
            </a:r>
            <a:r>
              <a:rPr b="1" lang="pl-PL" sz="1800" spc="-1" strike="noStrike">
                <a:solidFill>
                  <a:srgbClr val="005696"/>
                </a:solidFill>
                <a:latin typeface="Arial"/>
              </a:rPr>
              <a:t>przeprowadzania doświadczeń w celu testowania kosmetyków lub środków higienicz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005696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art. 40. 1. </a:t>
            </a:r>
            <a:r>
              <a:rPr b="1" lang="pl-PL" sz="1800" spc="-1" strike="noStrike">
                <a:solidFill>
                  <a:srgbClr val="005696"/>
                </a:solidFill>
                <a:latin typeface="Arial"/>
              </a:rPr>
              <a:t>Kto przeprowadza doświadczenia w celu testowania kosmetyków</a:t>
            </a:r>
            <a:br>
              <a:rPr sz="1800"/>
            </a:br>
            <a:r>
              <a:rPr b="1" lang="pl-PL" sz="1800" spc="-1" strike="noStrike">
                <a:solidFill>
                  <a:srgbClr val="005696"/>
                </a:solidFill>
                <a:latin typeface="Arial"/>
              </a:rPr>
              <a:t>lub środków higienicznych podlega grzywnie, karze ograniczenia wolności albo pozbawienia wolności do ro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50:32Z</dcterms:created>
  <dc:creator>Barbara Jechalska</dc:creator>
  <dc:description/>
  <dc:language>en-US</dc:language>
  <cp:lastModifiedBy> </cp:lastModifiedBy>
  <dcterms:modified xsi:type="dcterms:W3CDTF">2013-04-15T09:00:15Z</dcterms:modified>
  <cp:revision>128</cp:revision>
  <dc:subject/>
  <dc:title>Slajd 1</dc:title>
</cp:coreProperties>
</file>