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5D3-7901-41C3-A803-C3D2AEE7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708-57C5-40C2-A44D-59C39912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A91-00BF-4DD0-9DB4-23FE8FE8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C50-1786-4B00-89E3-BF9A7976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6729-27C5-4A49-B146-31B064FC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380D-400F-45B4-855F-5EB6074F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077D-C7B8-4CA6-B000-5B18E96A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4515-96B8-450A-98DF-708CA739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F552-D719-4C6F-9D7E-BC11386F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1040-C377-4C74-86EF-FD6409B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07A8-779C-47CB-A85F-D4C66F5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6DC-B544-4626-9381-0382A352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B097-18C8-48C0-A669-E37DEE37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2F03-2DD7-486C-9E11-8F364857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18A0-5426-489A-B109-A941ECC5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3603-7BA6-4173-AF57-A6C45967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D62D-740F-4C84-AB3C-7A1A47BC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5FA03-D7D9-437A-9E20-FFDCB32F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70ED6-3C3B-4325-8575-C5525C08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EC560-B896-4B05-9B96-D32D6B2F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19846-1F72-43E3-B373-02500615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BD83A-1153-40FA-AF62-C1C5ADF6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876-F0E4-4E21-9FB2-7A8BAEC1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5285C-DA32-46F3-AAC9-81448B2D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B7648-B7FB-4874-A671-E452BF1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38F66-A76F-48B7-97DE-4E2ED13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C382F-85D5-41F7-B51C-0DF55164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D013F-3136-48C5-9156-A382FA95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38CA1-183C-444F-B1C2-381A00EA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12E9A-97AD-4BFE-98A7-51B052BA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4F3F8-192A-4D8B-816D-557BD6CD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A32E1-52AF-4975-8216-434A2697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E4B1-F319-4E46-8AAC-AE6CE19C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750-46C4-4AD2-904F-463534FD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FE7DB-FE83-4DFD-921C-549A335F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B4048-0FA5-44D9-BEB3-CB2FD55A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5D4D9-85B8-4B06-9AC8-CA410543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F5CF8-78CD-4DFF-9F8F-7A872D7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7FA8-82DF-418B-B43A-591CB73D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77BC-D940-4F21-B0AD-6685DAA7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6438-F785-4C97-831F-949A1304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D3A3-6738-44F7-8E2C-96FA6434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761EB-A71F-4C6A-974F-917222D4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E470F-D36A-4BEC-9089-68940535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614-2865-40FE-9A54-EA40EFD4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0FCCA-DD96-40FF-9321-767DD001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71A41-A57E-45BC-B6B5-6AF6C1A5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2BD52-13EE-44B4-8471-E6DC99F5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084C6-60E0-481C-A341-3FE08196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23B24-EB7F-4A91-94E8-D21B8125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8AD7E-1DAA-4B30-908D-6DA2BE6D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37BE6-9B07-41FA-95A1-5C04E33E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7F81D-9C6D-4433-8871-228D575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FEF62-D18D-4CFD-8AE3-76B6CD88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68A29-C6CE-4BB1-A22A-5968D38C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483-FBFF-4A8F-904F-67694812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04998-C56B-4B0D-8264-032307B5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FA338-2E89-4A0E-851C-24D457F2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C7F25-F0D2-4623-B866-6C700BD9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0A37F-9C1D-4A25-8339-9B85E4CE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9CB10-7483-45F5-A2FA-6F30112A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79F58-D99F-4DB6-8EDB-BBB8B276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D3696-29C2-49E8-81C0-F6492465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65B63-BB62-45EE-890F-34D04C0F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8E347-9731-4F41-ADE0-E53C96C4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CB37BE-D265-48A6-88A6-273AE07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F3E-35D4-4048-BEBE-5637C53D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53F16-BD8B-4725-9D36-96788AA1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A3010-0996-4B0B-93E1-6DB63BE5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F9143-D071-4D6E-9E78-875CB815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E7C622-1933-421B-9B1B-9170231C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A9B2CF-EF87-4ABB-9A2D-AC3A525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D7571-C800-4963-B750-F2418BDF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2758B-3044-45F3-BC66-70531D1C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1777B-6BCA-44D9-9E2D-BFA1DE2A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F55711-D53B-488F-8F96-A01B8028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2AFFE-B18B-4AB1-A2A1-33E350CC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176-B0CB-497C-8838-776C511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09DEA-641B-4F2C-BE7B-CDE9B73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7F4E9-7EE2-486C-AD4A-409F211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C7610-34A3-4BA8-8582-D1976E42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A4B26F-DB44-442F-B03E-EA1092CC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CEF61-F511-4257-A7C8-93BC1483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93B-7138-47D9-9467-0C341B72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3616-2B02-4AFD-8A9E-E0674E414144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rostokąt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ostokąt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ostokąt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Łącznik prosty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Łącznik prosty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Łącznik prosty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Łącznik prosty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Łącznik prosty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Łącznik prosty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EA15-36CA-4179-9816-1DF27D490D76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A486-6F1E-44FF-BC43-FD09951EBF2D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ostokąt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Łącznik prosty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Łącznik prosty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Łącznik prosty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Łącznik prosty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Łącznik prosty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rostokąt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Łącznik prosty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F53F-AC6A-4D4D-9FCB-22DA1D099A03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7B9E-88B7-4711-A88A-B8808EE17091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Łącznik prosty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Łącznik prosty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Łącznik prosty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Łącznik prosty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rostokąt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Łącznik prosty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DB84-92B0-4293-AB81-9017760024FC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Łącznik prosty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Łącznik prosty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Łącznik prosty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Łącznik prosty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Łącznik prosty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B0A6-8EE2-4E0F-9C69-578216BA3B95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9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5f6d"/>
                </a:solidFill>
                <a:latin typeface="Century Schoolbook"/>
              </a:rPr>
              <a:t>PRZYWÓDZTWO PRZEZ INSPIRACJĘ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Obraz 7" descr="LOGA_official.jpg"/>
          <p:cNvPicPr/>
          <p:nvPr/>
        </p:nvPicPr>
        <p:blipFill>
          <a:blip r:embed="rId1"/>
          <a:stretch/>
        </p:blipFill>
        <p:spPr>
          <a:xfrm>
            <a:off x="0" y="6240600"/>
            <a:ext cx="8964720" cy="515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entury Schoolbook"/>
              </a:rPr>
              <a:t>    „</a:t>
            </a:r>
            <a:r>
              <a:rPr b="0" i="1" lang="pl-PL" sz="3200" spc="-1" strike="noStrike">
                <a:solidFill>
                  <a:srgbClr val="000000"/>
                </a:solidFill>
                <a:latin typeface="Century Schoolbook"/>
              </a:rPr>
              <a:t>Przywództwo oznacza kreowanie świata, do którego ludzie chcą przynależeć</a:t>
            </a:r>
            <a:r>
              <a:rPr b="0" lang="pl-PL" sz="3200" spc="-1" strike="noStrike">
                <a:solidFill>
                  <a:srgbClr val="000000"/>
                </a:solidFill>
                <a:latin typeface="Century Schoolbook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Gilles Pajo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5f6d"/>
                </a:solidFill>
                <a:latin typeface="Century Schoolbook"/>
              </a:rPr>
              <a:t>PRZYWÓDZTWO PRZEZ INSPIRACJĘ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Obraz 7" descr="LOGA_official.jpg"/>
          <p:cNvPicPr/>
          <p:nvPr/>
        </p:nvPicPr>
        <p:blipFill>
          <a:blip r:embed="rId1"/>
          <a:stretch/>
        </p:blipFill>
        <p:spPr>
          <a:xfrm>
            <a:off x="0" y="6240600"/>
            <a:ext cx="8964720" cy="515880"/>
          </a:xfrm>
          <a:prstGeom prst="rect">
            <a:avLst/>
          </a:prstGeom>
          <a:ln w="0">
            <a:noFill/>
          </a:ln>
        </p:spPr>
      </p:pic>
      <p:pic>
        <p:nvPicPr>
          <p:cNvPr id="356" name="Symbol zastępczy zawartości 4" descr="Martin-Luther-King-Jr-9365086-2-402.jpg"/>
          <p:cNvPicPr/>
          <p:nvPr/>
        </p:nvPicPr>
        <p:blipFill>
          <a:blip r:embed="rId2"/>
          <a:stretch/>
        </p:blipFill>
        <p:spPr>
          <a:xfrm>
            <a:off x="6012000" y="83664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357" name="Obraz 6" descr="nelsonmandela.jpg"/>
          <p:cNvPicPr/>
          <p:nvPr/>
        </p:nvPicPr>
        <p:blipFill>
          <a:blip r:embed="rId3"/>
          <a:stretch/>
        </p:blipFill>
        <p:spPr>
          <a:xfrm>
            <a:off x="3203640" y="3357720"/>
            <a:ext cx="2762280" cy="3027240"/>
          </a:xfrm>
          <a:prstGeom prst="rect">
            <a:avLst/>
          </a:prstGeom>
          <a:ln w="0">
            <a:noFill/>
          </a:ln>
        </p:spPr>
      </p:pic>
      <p:pic>
        <p:nvPicPr>
          <p:cNvPr id="358" name="Obraz 7" descr="Portrait_Gandhi.jpg"/>
          <p:cNvPicPr/>
          <p:nvPr/>
        </p:nvPicPr>
        <p:blipFill>
          <a:blip r:embed="rId4"/>
          <a:stretch/>
        </p:blipFill>
        <p:spPr>
          <a:xfrm>
            <a:off x="395280" y="1052640"/>
            <a:ext cx="2637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5f6d"/>
                </a:solidFill>
                <a:latin typeface="Century Schoolbook"/>
              </a:rPr>
              <a:t>PRZYWÓDZTWO PRZEZ INSPIRACJĘ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Obraz 7" descr="LOGA_official.jpg"/>
          <p:cNvPicPr/>
          <p:nvPr/>
        </p:nvPicPr>
        <p:blipFill>
          <a:blip r:embed="rId1"/>
          <a:stretch/>
        </p:blipFill>
        <p:spPr>
          <a:xfrm>
            <a:off x="0" y="6240600"/>
            <a:ext cx="8964720" cy="515880"/>
          </a:xfrm>
          <a:prstGeom prst="rect">
            <a:avLst/>
          </a:prstGeom>
          <a:ln w="0">
            <a:noFill/>
          </a:ln>
        </p:spPr>
      </p:pic>
      <p:pic>
        <p:nvPicPr>
          <p:cNvPr id="361" name="Obraz 5" descr="MotherTeresa_090.jpg"/>
          <p:cNvPicPr/>
          <p:nvPr/>
        </p:nvPicPr>
        <p:blipFill>
          <a:blip r:embed="rId2"/>
          <a:stretch/>
        </p:blipFill>
        <p:spPr>
          <a:xfrm>
            <a:off x="539640" y="1413000"/>
            <a:ext cx="2995560" cy="3671640"/>
          </a:xfrm>
          <a:prstGeom prst="rect">
            <a:avLst/>
          </a:prstGeom>
          <a:ln w="0">
            <a:noFill/>
          </a:ln>
        </p:spPr>
      </p:pic>
      <p:pic>
        <p:nvPicPr>
          <p:cNvPr id="362" name="Symbol zastępczy zawartości 9" descr="jan_pawel_ii.jpg"/>
          <p:cNvPicPr/>
          <p:nvPr/>
        </p:nvPicPr>
        <p:blipFill>
          <a:blip r:embed="rId3"/>
          <a:stretch/>
        </p:blipFill>
        <p:spPr>
          <a:xfrm>
            <a:off x="4643280" y="2421000"/>
            <a:ext cx="370872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5f6d"/>
                </a:solidFill>
                <a:latin typeface="Century Schoolbook"/>
              </a:rPr>
              <a:t>PRZYWÓDZTWO PRZEZ INSPIRACJĘ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Obraz 7" descr="LOGA_official.jpg"/>
          <p:cNvPicPr/>
          <p:nvPr/>
        </p:nvPicPr>
        <p:blipFill>
          <a:blip r:embed="rId1"/>
          <a:stretch/>
        </p:blipFill>
        <p:spPr>
          <a:xfrm>
            <a:off x="0" y="6240600"/>
            <a:ext cx="8964720" cy="515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o łączy te postaci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zym inspirują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Co powoduje, że są dla nas wartościowi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PRZYWÓDZTWO PRZEZ INSPIRACJĘ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Obraz 7" descr="LOGA_official.jpg"/>
          <p:cNvPicPr/>
          <p:nvPr/>
        </p:nvPicPr>
        <p:blipFill>
          <a:blip r:embed="rId1"/>
          <a:stretch/>
        </p:blipFill>
        <p:spPr>
          <a:xfrm>
            <a:off x="0" y="6240600"/>
            <a:ext cx="8964720" cy="5158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6840" y="1600200"/>
            <a:ext cx="8218440" cy="48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izja, która łączy ludz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angażowani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miejętność połączenia i angażowania ludzi w realizację wspólnej wiz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dwaga w kreowaniu wiz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PRZYWÓDZTWO PRZEZ INSPIRACJĘ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zięki czemu możemy „zmienić świat”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najomość swoich mocnych stron, talentów, atrybutó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dentyfikowanie się ze swoją wizją i misj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yzwalanie naturalnych zdolności przywódcz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iągły rozwój i praca nad sob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rzenie efektywnych planó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bre komunikowa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aangażowa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0:58:41Z</dcterms:created>
  <dc:creator>Snis Błękit 2</dc:creator>
  <dc:description/>
  <dc:language>en-US</dc:language>
  <cp:lastModifiedBy>S. Łukasik - Gębska</cp:lastModifiedBy>
  <cp:lastPrinted>2013-12-11T10:02:03Z</cp:lastPrinted>
  <dcterms:modified xsi:type="dcterms:W3CDTF">2015-11-04T17:46:59Z</dcterms:modified>
  <cp:revision>150</cp:revision>
  <dc:subject/>
  <dc:title>„Przywództwo i zarządzanie w oświacie- opracowanie i wdrożenie systemu kształcenia i doskonalenia dyrektorów szkół/ placówek"</dc:title>
</cp:coreProperties>
</file>