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C16-52D8-4DC5-8753-DEDBD6B3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88C-5818-41DF-B478-94E5EF92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523-0F6A-4847-90E2-A0674B56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706-8FE8-4827-A6E6-957D705B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360-7DBE-4791-BD71-143EAD66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FED7-35A9-427D-A093-36736C0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66A3-BCAC-4051-BF75-7F638FAF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4063-D5D2-4EFA-AB92-FE45058C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EF60-D12B-4535-AC27-B33ADFD1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21C3-3969-43AC-9C29-E9E74BF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5F6D-61A1-4E3E-A361-A98CC72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C23-2407-4F93-8487-465CDF7B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72B-820F-45F3-A636-EF353003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492B-6C41-4A55-8330-F730C396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D826-766F-45C1-8EFA-0AF01D46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6F33-BE52-4E37-8683-065C898E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F518-BFF8-49C2-AE3C-9D384E48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D7315-A261-41D1-900F-6AF800C1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693C3-2138-4DB0-811C-324B7727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BF2EE-867F-4C64-A3B1-DA8573EE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AA238-4449-4074-8983-9E6E6945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C4B62-6BBF-4E05-AF3F-49177380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49E-1CCE-43C3-BA47-04759B2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77CCD-479D-4D56-AB3C-F57D288F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1A791-7240-42EC-A415-3F9527A0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1F8C4-FEEE-42D7-9018-32ADFB3D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0A063-1F7A-4E6A-8620-3A5DED4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4E64F-13E6-41FC-9DB1-D25D118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66EDA-0A3C-4E63-A40D-40863B6B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AC387-F0A5-4811-B594-871DE4A6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826C2-5C9F-41A0-AB11-643563F5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2D16-E500-4C58-9A2A-99BE4438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266BE-24DF-4598-8464-305BB0B5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DA0-3F33-485B-A3C1-E7A54CB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1FAE7-BAE5-46A0-A105-816250E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2F518-C649-4111-8D2A-595D8A5D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9F777-95B1-4609-B93B-992C41A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EC1D-67CE-487F-821A-3B2C11B4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15D8A-0CE8-4969-AB1B-13F23F60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ED34D-E5D8-476C-BFE0-C68A2E73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012C-3990-49A4-A01B-530E4753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5830-7682-4DB5-BEF5-3010CECE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FA4C-0583-4891-AF0A-13C94C8E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C666C-61A3-447A-8F78-97962058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E4B-038F-485C-AA34-1D9D641D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6A2ED-F38D-46CC-8C32-C0883890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11F1E-E8D4-4B86-BC9C-509823B4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6C787-7B22-477F-BAA3-D3BCF64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CBECE-18A7-4712-9AAC-D8BC0F83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82DC4-1C8D-419A-AD8E-CE1CDFC4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E2020-F5BD-4428-8C9C-E17F113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B3CA3-CDB2-4A29-90AE-2A40E060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9E29C-76C5-4D1A-B61D-99139E1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BEB83-8FBF-4F62-BCD7-F01DD9A5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C1EB8-AA7B-4B68-BB8F-0F992AA3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EF1-9EFA-4FCD-B818-E6CB20D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09367-B40F-45E4-9EF8-FD2E283B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69F25-818F-4310-A04E-BB3CE521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4CCF1-E0E1-44D4-9CD3-ECCE9B69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FAADD-F0FC-4292-B1C5-424997C7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DEB48-49EE-4B4F-8FD9-495E7EC7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A3734-0C15-4C84-B8E4-9F622E15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9CCB7-9DE3-4AAB-86B8-0536236B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4E726-4A77-4F10-97E5-2DF4878F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C5320-9102-4D23-A575-2DEB10C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80DD7-8354-4926-8E2E-D7BDE95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2C8-5CBA-4D83-A6E1-891654B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9AE33-F4DF-4453-B632-14210C7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88DEA-3B89-4262-AE3F-C54B48B7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95E02-5FF9-4042-8C19-39B1D954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61454-2ACB-4FAC-B242-BDD545CA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FF8E7-F228-4DE2-A724-26381BAB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6A88A-7F18-4CC9-979B-B6FF0DD0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68B86-D5B0-4358-A51E-93B227B8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F8355-134E-4CE6-89D4-591A24F7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71F634-59F0-48D9-B63B-DFE72AF7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510C1-6375-4B4E-8621-FFA38AF9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A5E-1C3C-4504-951D-B0C174B9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DC25D-9143-4270-A8F7-489039D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5955D8-03BF-422A-A6B9-A95EB80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3686C-99E3-4374-A895-E31AE168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C6031-6637-49C6-AF1C-31C1155F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D422F-016F-457B-A907-2FEB5BA1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277-C965-4597-B5D4-EA662FE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F12E-5FE9-4206-966B-6769D33B5B89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ostokąt 3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ostokąt 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5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kąt 6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Łącznik prosty 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Łącznik prosty 1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Łącznik prosty 11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Łącznik prosty 1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y 13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Łącznik prosty 14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a 1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a 17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a 1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a 19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a 20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1C7A-3B4D-4881-8726-B85D44B75D5D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F279-D95E-44AE-91A9-70002915A5CA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kąt 3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5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rostokąt 6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Łącznik prosty 7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Łącznik prosty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Łącznik prosty 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Łącznik prosty 10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Łącznik prosty 11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ostokąt 12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a 13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a 14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a 15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a 16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a 17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18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F845-BA1C-428B-8BA0-0AB6F1F068B3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Łącznik prosty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Łącznik prosty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y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rostokąt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Łącznik prosty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D50-84CB-4518-A09C-39C9AA420E50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Łącznik prosty 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Łącznik prosty 5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Łącznik prosty 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Łącznik prosty 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ostokąt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Łącznik prosty 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a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3B08-392C-4DCF-AAE1-B2525A9F3D0F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Łącznik prosty 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a 5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Łącznik prosty 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Łącznik prosty 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Łącznik prosty 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Łącznik prosty 1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5656-AB8F-4135-91D4-DAB37AB28E40}" type="slidenum">
              <a:rPr b="1" lang="pl-P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WARTOŚCI W SZKOL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Obraz 7" descr="LOGA_official.jpg"/>
          <p:cNvPicPr/>
          <p:nvPr/>
        </p:nvPicPr>
        <p:blipFill>
          <a:blip r:embed="rId1"/>
          <a:stretch/>
        </p:blipFill>
        <p:spPr>
          <a:xfrm>
            <a:off x="0" y="6240600"/>
            <a:ext cx="89647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575f6d"/>
                </a:solidFill>
                <a:latin typeface="Century Schoolbook"/>
              </a:rPr>
              <a:t>USTAWA O SYSTEMIE OŚWIA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0920" y="765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Nauczanie i wychowanie - respektując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chrześcijański system wartości 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- za podstawę przyjmuje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uniwersalne zasady etyki.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 Kształcenie i wychowanie służy rozwijaniu u młodzieży poczucia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odpowiedzialności, miłości ojczyzny oraz poszanowania dla polskiego dziedzictwa kulturowego, przy jednoczesnym otwarciu się na wartości kultur Europy i świata</a:t>
            </a:r>
            <a:r>
              <a:rPr b="0" lang="pl-PL" sz="2400" spc="-1" strike="noStrike">
                <a:solidFill>
                  <a:srgbClr val="000000"/>
                </a:solidFill>
                <a:latin typeface="Century Schoolbook"/>
              </a:rPr>
              <a:t>. Szkoła winna zapewnić każdemu uczniowi warunki niezbędne do jego rozwoju, przygotować go do wypełniania obowiązków rodzinnych i obywatelskich w oparciu o </a:t>
            </a:r>
            <a:r>
              <a:rPr b="1" lang="pl-PL" sz="2400" spc="-1" strike="noStrike">
                <a:solidFill>
                  <a:srgbClr val="000000"/>
                </a:solidFill>
                <a:latin typeface="Century Schoolbook"/>
              </a:rPr>
              <a:t>zasady solidarności, demokracji, tolerancji, sprawiedliwości i wolnośc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Obraz 1" descr="zał"/>
          <p:cNvPicPr/>
          <p:nvPr/>
        </p:nvPicPr>
        <p:blipFill>
          <a:blip r:embed="rId1"/>
          <a:stretch/>
        </p:blipFill>
        <p:spPr>
          <a:xfrm>
            <a:off x="1979640" y="6093000"/>
            <a:ext cx="40482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ARTOŚCI W SZKOL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Symbol zastępczy zawartości 3" descr="htc 069.jpg"/>
          <p:cNvPicPr/>
          <p:nvPr/>
        </p:nvPicPr>
        <p:blipFill>
          <a:blip r:embed="rId1"/>
          <a:stretch/>
        </p:blipFill>
        <p:spPr>
          <a:xfrm>
            <a:off x="457200" y="1801800"/>
            <a:ext cx="79311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WARTOŚCI W SZKOLE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Symbol zastępczy zawartości 3" descr="htc 132.jpg"/>
          <p:cNvPicPr/>
          <p:nvPr/>
        </p:nvPicPr>
        <p:blipFill>
          <a:blip r:embed="rId1"/>
          <a:stretch/>
        </p:blipFill>
        <p:spPr>
          <a:xfrm>
            <a:off x="755640" y="765000"/>
            <a:ext cx="7777080" cy="4873680"/>
          </a:xfrm>
          <a:prstGeom prst="rect">
            <a:avLst/>
          </a:prstGeom>
          <a:ln w="0">
            <a:noFill/>
          </a:ln>
        </p:spPr>
      </p:pic>
      <p:pic>
        <p:nvPicPr>
          <p:cNvPr id="360" name="Obraz 1" descr="zał"/>
          <p:cNvPicPr/>
          <p:nvPr/>
        </p:nvPicPr>
        <p:blipFill>
          <a:blip r:embed="rId2"/>
          <a:stretch/>
        </p:blipFill>
        <p:spPr>
          <a:xfrm>
            <a:off x="2124000" y="6093000"/>
            <a:ext cx="40482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0:58:41Z</dcterms:created>
  <dc:creator>Snis Błękit 2</dc:creator>
  <dc:description/>
  <dc:language>en-US</dc:language>
  <cp:lastModifiedBy>S. Łukasik - Gębska</cp:lastModifiedBy>
  <cp:lastPrinted>2013-12-11T10:02:03Z</cp:lastPrinted>
  <dcterms:modified xsi:type="dcterms:W3CDTF">2015-11-04T17:48:28Z</dcterms:modified>
  <cp:revision>150</cp:revision>
  <dc:subject/>
  <dc:title>„Przywództwo i zarządzanie w oświacie- opracowanie i wdrożenie systemu kształcenia i doskonalenia dyrektorów szkół/ placówek"</dc:title>
</cp:coreProperties>
</file>