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436C-1AAB-4E72-A546-7DBAC0FB4BE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71B6-BFBB-4A80-B88B-46C6FEA3443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C30-EB9D-4EB4-A7D9-522A9702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502-56ED-4464-8FEC-6D25D9D6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9FC-05C3-4BAA-8B6B-D4B14B10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381-FE45-40F8-8650-86D7D7C8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B9CC-6A10-463B-A624-FB7D3942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11CD-A7EC-4FA5-8739-E29C0293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B9AD-F9CC-476B-A097-86BDC1E4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372E-E3A5-494A-B152-DA2A72CE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FF51-0434-4583-91E5-324A0C64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9CC8-BF2B-41F0-A4F4-55918C49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BFF1-341B-434E-99D7-DF03AEA5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24E-5512-4136-A55A-64686E16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41FF-32E6-4634-8A82-6571C3B7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D869-DC9F-4FE4-B434-27013648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DDF8-05FD-4CAE-AC2D-D78DFAF7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C5F2-FFE3-4601-BA0C-FFA27B1B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5D3C-F8DE-4D67-AC4F-E36E3D31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A86-95A7-4173-ACF1-4CF05B35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3F2-3B5C-44D5-A744-A2C5B42F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0F5-1BB0-442D-B20E-36FDFE8C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570-BA9D-476C-9A6E-B5547965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BDA-4063-4712-8285-83BE9FF2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E28-7189-4F05-B092-F358B988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5BB-0619-477E-AEE1-A0FEB3B4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15AE-6A9B-4522-A240-524886DE4986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B6AF-3955-44BF-9F54-A84E58CF05D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Zarządzanie jakością kształceni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5" descr="LOGA_official.jpg"/>
          <p:cNvPicPr/>
          <p:nvPr/>
        </p:nvPicPr>
        <p:blipFill>
          <a:blip r:embed="rId1"/>
          <a:stretch/>
        </p:blipFill>
        <p:spPr>
          <a:xfrm>
            <a:off x="0" y="609300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Rdzeń nauczan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Symbol zastępczy zawartości 3" descr=""/>
          <p:cNvPicPr/>
          <p:nvPr/>
        </p:nvPicPr>
        <p:blipFill>
          <a:blip r:embed="rId1"/>
          <a:stretch/>
        </p:blipFill>
        <p:spPr>
          <a:xfrm>
            <a:off x="390600" y="1596960"/>
            <a:ext cx="3773520" cy="4584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882680" y="1599840"/>
            <a:ext cx="38070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Jakość zadania edukacyjnego ma bezpośredni wpływ na efek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Jest to układ wzajemnie oddziałujący – zmiana jednego elementu pociąga za sobą zmiany w inny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rostokąt 4"/>
          <p:cNvSpPr/>
          <p:nvPr/>
        </p:nvSpPr>
        <p:spPr>
          <a:xfrm>
            <a:off x="684360" y="3645000"/>
            <a:ext cx="3311280" cy="576000"/>
          </a:xfrm>
          <a:prstGeom prst="rect">
            <a:avLst/>
          </a:prstGeom>
          <a:gradFill rotWithShape="0">
            <a:gsLst>
              <a:gs pos="0">
                <a:srgbClr val="bfbfae"/>
              </a:gs>
              <a:gs pos="100000">
                <a:srgbClr val="fbfbe5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e1"/>
                </a:solidFill>
                <a:latin typeface="Arial"/>
              </a:rPr>
              <a:t>ZADANIE EDUKACYJ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oleTekstowe 1"/>
          <p:cNvSpPr/>
          <p:nvPr/>
        </p:nvSpPr>
        <p:spPr>
          <a:xfrm>
            <a:off x="1732320" y="6423120"/>
            <a:ext cx="65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entury Schoolbook"/>
              </a:rPr>
              <a:t>Za: Jacek Strzemieczny: Widoczne uczenie się. Rdzeń naucz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STRATEGIE EFEKTYWNEGO UCZENIA SIĘ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kreślanie i wyjaśnianie uczniom celów uczenia się i kryteriów sukces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owanie w klasie dyskusji, zadawanie pytań i zadań, dających informacje, jak uczniowie się ucz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dzielanie uczniowi takich informacji zwrotnych, które umożliwiają jego widoczny postę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możliwianie uczniom, by korzystali z siebie nawzajem jako „zasobów edukacyjnych”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omaganie  uczniów, by odpowiedzialnie planowali proces własnego uczenia si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raz 7" descr="LOGA_official.jpg"/>
          <p:cNvPicPr/>
          <p:nvPr/>
        </p:nvPicPr>
        <p:blipFill>
          <a:blip r:embed="rId1"/>
          <a:stretch/>
        </p:blipFill>
        <p:spPr>
          <a:xfrm>
            <a:off x="179280" y="602136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Informacja zwrotna- oceną efektów nie uczn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ztery elementy, któ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winna uwzględn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uczyc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szczególnienie i docenienie dobrych elementów pracy ucz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notowanie tego, co wymaga poprawienia lub dodatkowej pracy ze strony ucz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ówki w jaki sposób uczeń powinien poprawić prac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ówki w jakim kierunku uczeń powinien pracować dal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ceo.org.pl/o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871880" y="1990800"/>
            <a:ext cx="3814920" cy="3749760"/>
          </a:xfrm>
          <a:prstGeom prst="rect">
            <a:avLst/>
          </a:prstGeom>
          <a:ln w="0">
            <a:noFill/>
          </a:ln>
        </p:spPr>
      </p:pic>
      <p:pic>
        <p:nvPicPr>
          <p:cNvPr id="140" name="Obraz 6" descr="LOGA_official.jpg"/>
          <p:cNvPicPr/>
          <p:nvPr/>
        </p:nvPicPr>
        <p:blipFill>
          <a:blip r:embed="rId2"/>
          <a:stretch/>
        </p:blipFill>
        <p:spPr>
          <a:xfrm>
            <a:off x="179280" y="623736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Informacja zwrotna- instrukta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szczególnienie i docenienie dobrych elementów[+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notowane tego, co wymaga poprawienia lub dodatkowej pracy ze strony ucznia [–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kazówki w jaki sposób można poprawić pracę- [#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kazówki w jaki sposób nauczyciel mógłby pracować dalej [/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raz 5" descr="LOGA_official.jpg"/>
          <p:cNvPicPr/>
          <p:nvPr/>
        </p:nvPicPr>
        <p:blipFill>
          <a:blip r:embed="rId1"/>
          <a:stretch/>
        </p:blipFill>
        <p:spPr>
          <a:xfrm>
            <a:off x="0" y="6165720"/>
            <a:ext cx="8964720" cy="5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Poznajmy się</a:t>
            </a:r>
            <a:r>
              <a:rPr b="0" lang="pl-PL" sz="4200" spc="-1" strike="noStrike">
                <a:solidFill>
                  <a:srgbClr val="330033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ię i nazwis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ąd przyjechałaś/-eś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aj 3 informacje na swój temat: 2 prawdziwe i 1 fałszywą- informacje mogą dotyczyć zarówno pracy zawodowej, jak i tematów prywatn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az 5" descr="LOGA_official.jpg"/>
          <p:cNvPicPr/>
          <p:nvPr/>
        </p:nvPicPr>
        <p:blipFill>
          <a:blip r:embed="rId1"/>
          <a:stretch/>
        </p:blipFill>
        <p:spPr>
          <a:xfrm>
            <a:off x="179280" y="602136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e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nanie sposobu projektowania procesów uczenia się i zarządzani n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świadomienie dyrektorom zadań wynikających z organizacji procesów uczenia si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zarządzania n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kazanie roli kultury organizacyjnej w projektowaniu i realizacji procesów uczenia si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anie wiedzy niezbędnej do budowania kultury organizacyjnej szkoły jako organizacji uczącej si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reślenie roli dyrektora w procesie wprowadzania zm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wołanie refleksji nad istotnymi elementami procesu uczenia si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oznanie ze strategiami efektywnego uczenia się i naucz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ształtowanie umiejętności refleksyjnego przyglądania się własnej p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jektowanie organizacji uczącej si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az 5" descr="LOGA_official.jpg"/>
          <p:cNvPicPr/>
          <p:nvPr/>
        </p:nvPicPr>
        <p:blipFill>
          <a:blip r:embed="rId1"/>
          <a:stretch/>
        </p:blipFill>
        <p:spPr>
          <a:xfrm>
            <a:off x="0" y="609300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Proces uczenia się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ces- świadomy, zaprojektowany zbiór czynności, przekształcający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trzeb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 pożądan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zulta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worzenie warunków organizacyjnych- środowiska uczenia się tak, aby uczniowie, nauczyciele, rodzice uzyskiwali pożądaną wiedzę,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umiejętności,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st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oddawanie ich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waluacj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az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fleks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mającej prowadzić do doskonalenia procesu zgodności rezultatów ze zdefiniowanymi potrzeb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 Mazurkiewi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raz 5" descr="LOGA_official.jpg"/>
          <p:cNvPicPr/>
          <p:nvPr/>
        </p:nvPicPr>
        <p:blipFill>
          <a:blip r:embed="rId1"/>
          <a:stretch/>
        </p:blipFill>
        <p:spPr>
          <a:xfrm>
            <a:off x="179280" y="609300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Zmiana paradygmatu- czynnik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dłużenie czasu spędzanego przez uczniów w szk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ilna potrzeba sukcesu zawodowego nauczycie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wolucja technologicz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pływ środowiska zewnętrznego na procesy edukacyj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omplikowane zadania stawiane przed szkoł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Obraz 5" descr="LOGA_official.jpg"/>
          <p:cNvPicPr/>
          <p:nvPr/>
        </p:nvPicPr>
        <p:blipFill>
          <a:blip r:embed="rId1"/>
          <a:stretch/>
        </p:blipFill>
        <p:spPr>
          <a:xfrm>
            <a:off x="179280" y="587700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Zmiana paradygmatu- potrzeb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rzeba podejścia procesow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półpraca (zaufanie) i potrzeba monitorowania działa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zekazanie odpowiedzialności pracownikom  za organizację procesu, osiąganie wyznaczonych celów i samokontrol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udowanie wspólnych celów i wartoś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raz 5" descr="LOGA_official.jpg"/>
          <p:cNvPicPr/>
          <p:nvPr/>
        </p:nvPicPr>
        <p:blipFill>
          <a:blip r:embed="rId1"/>
          <a:stretch/>
        </p:blipFill>
        <p:spPr>
          <a:xfrm>
            <a:off x="179280" y="602136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Model procesu powiązanego </a:t>
            </a:r>
            <a:br>
              <a:rPr sz="3800"/>
            </a:br>
            <a:r>
              <a:rPr b="0" lang="pl-PL" sz="3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z otoczenie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Obraz 1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RDZEŃ NAUCZAN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Symbol zastępczy zawartości 3" descr=""/>
          <p:cNvPicPr/>
          <p:nvPr/>
        </p:nvPicPr>
        <p:blipFill>
          <a:blip r:embed="rId1"/>
          <a:stretch/>
        </p:blipFill>
        <p:spPr>
          <a:xfrm>
            <a:off x="450720" y="1579680"/>
            <a:ext cx="8229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0033"/>
                </a:solidFill>
                <a:latin typeface="Times New Roman"/>
              </a:rPr>
              <a:t>CO WYNIKA Z WZAJEMNEGO ODDZIAŁYWANIA TRZECH CZYNNIKÓW</a:t>
            </a:r>
            <a:r>
              <a:rPr b="0" lang="pl-PL" sz="2200" spc="-1" strike="noStrike">
                <a:solidFill>
                  <a:srgbClr val="330033"/>
                </a:solidFill>
                <a:latin typeface="Times New Roman"/>
              </a:rPr>
              <a:t>?</a:t>
            </a: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Symbol zastępczy zawartości 3" descr=""/>
          <p:cNvPicPr/>
          <p:nvPr/>
        </p:nvPicPr>
        <p:blipFill>
          <a:blip r:embed="rId1"/>
          <a:stretch/>
        </p:blipFill>
        <p:spPr>
          <a:xfrm>
            <a:off x="450720" y="1579680"/>
            <a:ext cx="8229600" cy="5351400"/>
          </a:xfrm>
          <a:prstGeom prst="rect">
            <a:avLst/>
          </a:prstGeom>
          <a:ln w="0">
            <a:noFill/>
          </a:ln>
        </p:spPr>
      </p:pic>
      <p:sp>
        <p:nvSpPr>
          <p:cNvPr id="128" name="Prostokąt 4"/>
          <p:cNvSpPr/>
          <p:nvPr/>
        </p:nvSpPr>
        <p:spPr>
          <a:xfrm>
            <a:off x="2268360" y="3933720"/>
            <a:ext cx="4680000" cy="822600"/>
          </a:xfrm>
          <a:prstGeom prst="rect">
            <a:avLst/>
          </a:prstGeom>
          <a:gradFill rotWithShape="0">
            <a:gsLst>
              <a:gs pos="0">
                <a:srgbClr val="bfbfae"/>
              </a:gs>
              <a:gs pos="100000">
                <a:srgbClr val="fbfbe5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e1"/>
                </a:solidFill>
                <a:latin typeface="Arial"/>
              </a:rPr>
              <a:t>ZADANIE EDUKACYJ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5:38:20Z</dcterms:created>
  <dc:creator>S. Łukasik - Gębska</dc:creator>
  <dc:description/>
  <dc:language>en-US</dc:language>
  <cp:lastModifiedBy>S. Łukasik - Gębska</cp:lastModifiedBy>
  <dcterms:modified xsi:type="dcterms:W3CDTF">2015-11-08T17:49:52Z</dcterms:modified>
  <cp:revision>5</cp:revision>
  <dc:subject/>
  <dc:title>Slajd 1</dc:title>
</cp:coreProperties>
</file>