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DBA-D1F6-4010-BA06-F18F3F89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FDF-93E7-4E45-872C-27ABE04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B91-BED0-483E-9549-E5693B09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D14-A081-4BC3-9708-08344122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DB7-388A-4EF3-AEC5-3FE3A316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AEEA-96DF-446E-99A3-0A02CC0F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119D-CCBC-4132-AD17-B2D031B7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0BC3-F9E9-48CE-9A48-7A825BB7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0B1D-5531-42AF-AA4C-FBCF6607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61E0-4EBA-4114-BCFB-371DD0F2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BBA0-8DB1-4C51-B7A9-138AEF1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159-56D4-4863-8DE3-0EEF81FC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7266-C86A-4EE9-B5C6-E5ABF68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92C9-1D5A-4A60-891A-22E99E8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6D2E-D35A-4D6A-A519-3E8BD849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8543-7D18-4DD3-BB3C-82736A8B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94D2-8B7C-4B70-B6A1-88E953A0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371-1433-42AC-9A1F-58A57A6C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88C-17A6-41B2-AAD1-AF5E3885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A4C-603A-4CCC-BF58-DB3C7E08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D1F-25F0-4101-AD5B-F0D04A8E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5E3-F4FC-4CA0-8EA4-93C6A7AE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B12-1886-4BD8-9BCF-71DA8D3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B1C-3757-4C95-BB3E-09616722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CD77-FCAA-4D0D-BA06-57D3A16B793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7EF0-36BE-4863-9D53-1620EFBC5EA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0066"/>
                </a:solidFill>
                <a:latin typeface="Arial"/>
              </a:rPr>
              <a:t>Zarządzanie emocjam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raz 1" descr="zał"/>
          <p:cNvPicPr/>
          <p:nvPr/>
        </p:nvPicPr>
        <p:blipFill>
          <a:blip r:embed="rId1"/>
          <a:stretch/>
        </p:blipFill>
        <p:spPr>
          <a:xfrm>
            <a:off x="2627280" y="6021360"/>
            <a:ext cx="40482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Obraz 10" descr="https://fbcdn-sphotos-b-a.akamaihd.net/hphotos-ak-ash4/562300_157355471137478_1543385778_n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Obraz 1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Kart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Jakie najczęściej pojawiały się emoc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tórych emocji było więcej – pozytywnych czy negatywny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Może pojawiały się emocje neutralne? Neutralne czyli jaki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Czy potrafimy zarządzać emocjam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1" descr="zał"/>
          <p:cNvPicPr/>
          <p:nvPr/>
        </p:nvPicPr>
        <p:blipFill>
          <a:blip r:embed="rId1"/>
          <a:stretch/>
        </p:blipFill>
        <p:spPr>
          <a:xfrm>
            <a:off x="2556000" y="6021360"/>
            <a:ext cx="40478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3" name="Obraz 9" descr="https://fbcdn-sphotos-h-a.akamaihd.net/hphotos-ak-frc1/t1/1001268_157328321140193_1949805702_n.jp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Obraz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Obraz 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Obraz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Obraz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Obraz 7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Obraz 8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Obraz 9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4:47Z</dcterms:created>
  <dc:creator>S. Łukasik - Gębska</dc:creator>
  <dc:description/>
  <dc:language>en-US</dc:language>
  <cp:lastModifiedBy>S. Łukasik - Gębska</cp:lastModifiedBy>
  <dcterms:modified xsi:type="dcterms:W3CDTF">2015-11-07T13:56:29Z</dcterms:modified>
  <cp:revision>12</cp:revision>
  <dc:subject/>
  <dc:title>Zarządzanie emocjami</dc:title>
</cp:coreProperties>
</file>