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F83-D943-4172-A507-33CEB951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C2B-AAF9-4893-B329-1EB393C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88C-DF17-4586-8A96-764AF09F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16C-16C0-497E-83D6-710BA7D5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C970-1C56-491B-BAE0-0B030A3B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662-A769-4C81-B183-CB6E97B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FEE3-0F21-43FE-8278-8059081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16FD-D734-45C0-8DDA-97F33E2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35A-76D8-46D4-A471-FAFB789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8148-F977-4ED9-8B7E-57F7352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F1E-3737-4867-8906-0DB71E8F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80F-1D05-4A41-B6F3-26B68F9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400-7346-4FC0-AF33-A7DBD32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4DB-C2B7-46F0-A598-A79B6AB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F6B8-108B-4064-B1DD-C6B23CB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187A-1467-43A9-9DE8-D8071605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E6EA-DB3D-4D99-803A-2A7EF3E9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581-2DF9-4EBF-8CBB-AC6016C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DAD-0591-48A4-8563-5B266A9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4F9-9491-4D18-8E3B-EB14601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EB3-8825-419B-A759-AC640E49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394-5F8C-4332-94E0-0D25AEC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5CA-5F86-499C-AA3E-4419511A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F3B-6913-4A08-9050-F3BC521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8EF-2EDA-4C83-9A4F-0FE7DBCB09F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354-92B9-4AC6-AC03-716E5609AE8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arządzanie jakością kształcen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" descr="zał"/>
          <p:cNvPicPr/>
          <p:nvPr/>
        </p:nvPicPr>
        <p:blipFill>
          <a:blip r:embed="rId1"/>
          <a:stretch/>
        </p:blipFill>
        <p:spPr>
          <a:xfrm>
            <a:off x="2771640" y="6165720"/>
            <a:ext cx="40482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Symbol zastępczy zawartości 3" descr=""/>
          <p:cNvPicPr/>
          <p:nvPr/>
        </p:nvPicPr>
        <p:blipFill>
          <a:blip r:embed="rId1"/>
          <a:stretch/>
        </p:blipFill>
        <p:spPr>
          <a:xfrm>
            <a:off x="390600" y="1596960"/>
            <a:ext cx="3773520" cy="4584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882680" y="1599840"/>
            <a:ext cx="3807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akość zadania edukacyjnego ma bezpośredni wpływ na efek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est to układ wzajemnie oddziałujący – zmiana jednego elementu pociąga za sobą zmiany w inny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rostokąt 4"/>
          <p:cNvSpPr/>
          <p:nvPr/>
        </p:nvSpPr>
        <p:spPr>
          <a:xfrm>
            <a:off x="684360" y="3645000"/>
            <a:ext cx="3311280" cy="5760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Tekstowe 1"/>
          <p:cNvSpPr/>
          <p:nvPr/>
        </p:nvSpPr>
        <p:spPr>
          <a:xfrm>
            <a:off x="1732320" y="6423120"/>
            <a:ext cx="65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entury Schoolbook"/>
              </a:rPr>
              <a:t>Za: Jacek Strzemieczny: Widoczne uczenie się. Rdzeń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STRATEGIE EFEKTYWNEGO UCZENIA SI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anie i wyjaśnianie uczniom celów uczenia się i kryteriów sukces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owanie w klasie dyskusji, zadawanie pytań i zadań, dających informacje, jak uczniowie się u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anie uczniowi takich informacji zwrotnych, które umożliwiają jego widoczny postę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możliwianie uczniom, by korzystali z siebie nawzajem jako „zasobów edukacyjnych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 uczniów, by odpowiedzialnie planowali proces własnego uczenia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nformacja zwrotna- oceną efektów nie ucz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tery elementy, któ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inna uwzględn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uczyc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zczególnienie i docenienie dobrych elementów prac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towanie tego, co wymaga poprawienia lub dodatkowej pracy ze stron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 sposób uczeń powinien poprawić prac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m kierunku uczeń powinien pracować dal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ceo.org.pl/o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871880" y="1990800"/>
            <a:ext cx="38149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Informacja zwrotna- instrukta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zczególnienie i docenienie dobrych elementów[+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otowane tego, co wymaga poprawienia lub dodatkowej pracy ze strony ucznia [–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można poprawić pracę- [#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nauczyciel mógłby pracować dalej [/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1" descr="zał"/>
          <p:cNvPicPr/>
          <p:nvPr/>
        </p:nvPicPr>
        <p:blipFill>
          <a:blip r:embed="rId1"/>
          <a:stretch/>
        </p:blipFill>
        <p:spPr>
          <a:xfrm>
            <a:off x="2627280" y="6021360"/>
            <a:ext cx="40482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Organizacja ucząc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 jednostki, które są w stanie uczyć się, są także w stanie z sukcesem przechodzić przez wszystkie niemal zmian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edług Petera Senga organizacja ucząca się to taka organizacja, która potrafi stale wzmacniać swoje możliwości kształtowania własnej przyszłoś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iąta dyscyplina, P. S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Organizacja ucząc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Organizacja ucząca się to taka, która posiada zdolność do samopoznania, doskonalenia, potrafi rozwijać się i zmieniać, bazując na własnych doświadczenia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0" y="0"/>
          <a:ext cx="9144000" cy="66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8000" y="0"/>
          <a:ext cx="8604360" cy="60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0"/>
                    <a:ext cx="86043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Obraz 1" descr="zał"/>
          <p:cNvPicPr/>
          <p:nvPr/>
        </p:nvPicPr>
        <p:blipFill>
          <a:blip r:embed="rId3"/>
          <a:stretch/>
        </p:blipFill>
        <p:spPr>
          <a:xfrm>
            <a:off x="2411280" y="6165720"/>
            <a:ext cx="40482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oznajmy się</a:t>
            </a:r>
            <a:r>
              <a:rPr b="0" lang="pl-PL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ię i nazwi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ąd przyjechałaś/-e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aj 3 informacje na swój temat: 2 prawdziwe i 1 fałszywą- informacje mogą dotyczyć zarówno pracy zawodowej, jak i tematów prywat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e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nanie sposobu projektowania procesów uczenia się i zarządzani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świadomienie dyrektorom zadań wynikających z organizacji procesów uczeni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zarządzania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kazanie roli kultury organizacyjnej w projektowaniu i realizacji procesów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anie wiedzy niezbędnej do budowania kultury organizacyjnej szkoły jako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enie roli dyrektora w procesie wprowadzania zm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wołanie refleksji nad istotnymi elementami procesu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znanie ze strategiami efektywnego uczenia się i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ształtowanie umiejętności refleksyjnego przyglądania się własnej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owanie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roces uczeni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- świadomy, zaprojektowany zbiór czynności, przekształcający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trze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pożądan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zult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enie warunków organizacyjnych- środowiska uczenia się tak, aby uczniowie, nauczyciele, rodzice uzyskiwali pożądaną wiedzę,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umiejętności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oddawanie ic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waluacj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leks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ającej prowadzić do doskonalenia procesu zgodności rezultatów ze zdefiniowanymi potrzeb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 Mazurkie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czynnik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dłużenie czasu spędzanego przez uczniów w szk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lna potrzeba sukcesu zawodowego nauczycie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wolucja technologicz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pływ środowiska zewnętrznego na procesy edukacyj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omplikowane zadania stawiane przed szkoł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potrze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rzeba podejścia procesow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a (zaufanie) i potrzeba monitorowania działa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kazanie odpowiedzialności pracownikom  za organizację procesu, osiąganie wyznaczonych celów i samokontrol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udowanie wspólnych celów i war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Model procesu powiązanego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 otoczeni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Obraz 1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0033"/>
                </a:solidFill>
                <a:latin typeface="Times New Roman"/>
              </a:rPr>
              <a:t>CO WYNIKA Z WZAJEMNEGO ODDZIAŁYWANIA TRZECH CZYNNIKÓW</a:t>
            </a:r>
            <a:r>
              <a:rPr b="0" lang="pl-PL" sz="2200" spc="-1" strike="noStrike">
                <a:solidFill>
                  <a:srgbClr val="330033"/>
                </a:solidFill>
                <a:latin typeface="Times New Roman"/>
              </a:rPr>
              <a:t>?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535140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4"/>
          <p:cNvSpPr/>
          <p:nvPr/>
        </p:nvSpPr>
        <p:spPr>
          <a:xfrm>
            <a:off x="2268360" y="3933720"/>
            <a:ext cx="4680000" cy="8226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5:38:20Z</dcterms:created>
  <dc:creator>S. Łukasik - Gębska</dc:creator>
  <dc:description/>
  <dc:language>en-US</dc:language>
  <cp:lastModifiedBy>S. Łukasik - Gębska</cp:lastModifiedBy>
  <dcterms:modified xsi:type="dcterms:W3CDTF">2015-11-07T13:56:47Z</dcterms:modified>
  <cp:revision>4</cp:revision>
  <dc:subject/>
  <dc:title>Slajd 1</dc:title>
</cp:coreProperties>
</file>