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FA9E-7838-47CB-938B-539EDFEDB7A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94BD-9A06-4697-A17A-80AAF2B764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599-3994-484E-8CCC-C202D4DE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54E-4B66-4622-BD6D-137D83C4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31B-447D-47F7-A5A5-A75F882F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63F-2A5C-4C18-B395-35D4369E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3D5D-3FE2-4572-9CE4-35B8D6CB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6047-6CEE-4B88-98DB-3CF8DCF3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CC1-C4C0-4FBC-9C52-330736DC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4825-0364-4305-BC62-CCC2E2D1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BE83-C3D9-4193-8A5B-C3DEFB47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3565-3A09-4626-AF9C-F821A95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5528-AAE6-4634-9C5F-D2275D8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068-2D4F-4747-B823-37188DB4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543-EE2C-4626-B670-90D1728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2C75-BFE5-4B34-8036-C3FEEE92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D54B-BA83-4B7D-AB9D-45C000C3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795D-5B7D-4153-A969-D84F2B76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A6B3-5953-4C7B-B02E-5167D67A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F5F-AB07-4CC1-AFF7-088B6344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C40-B832-40AE-A2AC-58F00438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9C6-E879-461D-A9CD-54DA2A77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C03-0BB2-4FC9-94AD-686B049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F01-5A66-4330-9A9C-3FBEFFA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0E1-62A7-4349-9635-CBF552D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216-8DDB-4DD2-83E7-753E4DF9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25C-FC2A-4A1E-9B81-9DD64F23EDD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E6FB-2404-46C9-9889-1E0A73EB4E3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Zarządzanie jakością kształceni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5" descr="LOGA_official.jpg"/>
          <p:cNvPicPr/>
          <p:nvPr/>
        </p:nvPicPr>
        <p:blipFill>
          <a:blip r:embed="rId1"/>
          <a:stretch/>
        </p:blipFill>
        <p:spPr>
          <a:xfrm>
            <a:off x="0" y="6093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Rdzeń naucz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Symbol zastępczy zawartości 3" descr=""/>
          <p:cNvPicPr/>
          <p:nvPr/>
        </p:nvPicPr>
        <p:blipFill>
          <a:blip r:embed="rId1"/>
          <a:stretch/>
        </p:blipFill>
        <p:spPr>
          <a:xfrm>
            <a:off x="390600" y="1596960"/>
            <a:ext cx="3773520" cy="4584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82680" y="1599840"/>
            <a:ext cx="3807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Jakość zadania edukacyjnego ma bezpośredni wpływ na efek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Jest to układ wzajemnie oddziałujący – zmiana jednego elementu pociąga za sobą zmiany w inny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rostokąt 4"/>
          <p:cNvSpPr/>
          <p:nvPr/>
        </p:nvSpPr>
        <p:spPr>
          <a:xfrm>
            <a:off x="684360" y="3645000"/>
            <a:ext cx="3311280" cy="576000"/>
          </a:xfrm>
          <a:prstGeom prst="rect">
            <a:avLst/>
          </a:prstGeom>
          <a:gradFill rotWithShape="0">
            <a:gsLst>
              <a:gs pos="0">
                <a:srgbClr val="bfbfae"/>
              </a:gs>
              <a:gs pos="100000">
                <a:srgbClr val="fbfbe5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e1"/>
                </a:solidFill>
                <a:latin typeface="Arial"/>
              </a:rPr>
              <a:t>ZADANIE EDUKA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Tekstowe 1"/>
          <p:cNvSpPr/>
          <p:nvPr/>
        </p:nvSpPr>
        <p:spPr>
          <a:xfrm>
            <a:off x="1732320" y="6423120"/>
            <a:ext cx="65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entury Schoolbook"/>
              </a:rPr>
              <a:t>Za: Jacek Strzemieczny: Widoczne uczenie się. Rdzeń naucz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STRATEGIE EFEKTYWNEGO UCZENIA SI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anie i wyjaśnianie uczniom celów uczenia się i kryteriów sukces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owanie w klasie dyskusji, zadawanie pytań i zadań, dających informacje, jak uczniowie się ucz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anie uczniowi takich informacji zwrotnych, które umożliwiają jego widoczny postę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możliwianie uczniom, by korzystali z siebie nawzajem jako „zasobów edukacyjnych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omaganie  uczniów, by odpowiedzialnie planowali proces własnego uczenia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7" descr="LOGA_official.jpg"/>
          <p:cNvPicPr/>
          <p:nvPr/>
        </p:nvPicPr>
        <p:blipFill>
          <a:blip r:embed="rId1"/>
          <a:stretch/>
        </p:blipFill>
        <p:spPr>
          <a:xfrm>
            <a:off x="179280" y="6021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Informacja zwrotna- oceną efektów nie ucz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tery elementy, któ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inna uwzględn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uczyc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zczególnienie i docenienie dobrych elementów pracy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notowanie tego, co wymaga poprawienia lub dodatkowej pracy ze strony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ówki w jaki sposób uczeń powinien poprawić prac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ówki w jakim kierunku uczeń powinien pracować dal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ceo.org.pl/o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871880" y="1990800"/>
            <a:ext cx="3814920" cy="3749760"/>
          </a:xfrm>
          <a:prstGeom prst="rect">
            <a:avLst/>
          </a:prstGeom>
          <a:ln w="0">
            <a:noFill/>
          </a:ln>
        </p:spPr>
      </p:pic>
      <p:pic>
        <p:nvPicPr>
          <p:cNvPr id="140" name="Obraz 6" descr="LOGA_official.jpg"/>
          <p:cNvPicPr/>
          <p:nvPr/>
        </p:nvPicPr>
        <p:blipFill>
          <a:blip r:embed="rId2"/>
          <a:stretch/>
        </p:blipFill>
        <p:spPr>
          <a:xfrm>
            <a:off x="179280" y="6237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Informacja zwrotna- instrukta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szczególnienie i docenienie dobrych elementów[+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notowane tego, co wymaga poprawienia lub dodatkowej pracy ze strony ucznia [–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kazówki w jaki sposób można poprawić pracę- [#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kazówki w jaki sposób nauczyciel mógłby pracować dalej [/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5" descr="LOGA_official.jpg"/>
          <p:cNvPicPr/>
          <p:nvPr/>
        </p:nvPicPr>
        <p:blipFill>
          <a:blip r:embed="rId1"/>
          <a:stretch/>
        </p:blipFill>
        <p:spPr>
          <a:xfrm>
            <a:off x="0" y="6165720"/>
            <a:ext cx="8964720" cy="5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Organizacja ucząca się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 jednostki, które są w stanie uczyć się, są także w stanie z sukcesem przechodzić przez wszystkie niemal zmian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edług Petera Senga organizacja ucząca się to taka organizacja, która potrafi stale wzmacniać swoje możliwości kształtowania własnej przyszłoś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iąta dyscyplina, P. S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5" descr="LOGA_official.jpg"/>
          <p:cNvPicPr/>
          <p:nvPr/>
        </p:nvPicPr>
        <p:blipFill>
          <a:blip r:embed="rId1"/>
          <a:stretch/>
        </p:blipFill>
        <p:spPr>
          <a:xfrm>
            <a:off x="0" y="6165720"/>
            <a:ext cx="8964720" cy="5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Organizacja ucząca się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Organizacja ucząca się to taka, która posiada zdolność do samopoznania, doskonalenia, potrafi rozwijać się i zmieniać, bazując na własnych doświadczeniac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6165720"/>
            <a:ext cx="8964720" cy="5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539640" y="0"/>
          <a:ext cx="860436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860436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Obraz 7" descr="LOGA_official.jpg"/>
          <p:cNvPicPr/>
          <p:nvPr/>
        </p:nvPicPr>
        <p:blipFill>
          <a:blip r:embed="rId3"/>
          <a:stretch/>
        </p:blipFill>
        <p:spPr>
          <a:xfrm>
            <a:off x="179280" y="634212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324000" y="0"/>
          <a:ext cx="8820000" cy="62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8200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Obraz 7" descr="LOGA_official.jpg"/>
          <p:cNvPicPr/>
          <p:nvPr/>
        </p:nvPicPr>
        <p:blipFill>
          <a:blip r:embed="rId3"/>
          <a:stretch/>
        </p:blipFill>
        <p:spPr>
          <a:xfrm>
            <a:off x="179280" y="634212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Poznajmy się</a:t>
            </a:r>
            <a:r>
              <a:rPr b="0" lang="pl-PL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ię i nazwi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ąd przyjechałaś/-e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aj 3 informacje na swój temat: 2 prawdziwe i 1 fałszywą- informacje mogą dotyczyć zarówno pracy zawodowej, jak i tematów prywat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6021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e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nanie sposobu projektowania procesów uczenia się i zarządzani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świadomienie dyrektorom zadań wynikających z organizacji procesów uczenia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zarządzania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kazanie roli kultury organizacyjnej w projektowaniu i realizacji procesów ucze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anie wiedzy niezbędnej do budowania kultury organizacyjnej szkoły jako organizacji uczącej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ślenie roli dyrektora w procesie wprowadzania zm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wołanie refleksji nad istotnymi elementami procesu ucze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znanie ze strategiami efektywnego uczenia się i naucz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ształtowanie umiejętności refleksyjnego przyglądania się własnej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jektowanie organizacji uczącej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5" descr="LOGA_official.jpg"/>
          <p:cNvPicPr/>
          <p:nvPr/>
        </p:nvPicPr>
        <p:blipFill>
          <a:blip r:embed="rId1"/>
          <a:stretch/>
        </p:blipFill>
        <p:spPr>
          <a:xfrm>
            <a:off x="0" y="6093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Proces uczenia się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- świadomy, zaprojektowany zbiór czynności, przekształcający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trze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 pożądan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zult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orzenie warunków organizacyjnych- środowiska uczenia się tak, aby uczniowie, nauczyciele, rodzice uzyskiwali pożądaną wiedzę,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umiejętności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oddawanie ich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waluacj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fleks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ającej prowadzić do doskonalenia procesu zgodności rezultatów ze zdefiniowanymi potrzeb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 Mazurkie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6093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miana paradygmatu- czynnik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dłużenie czasu spędzanego przez uczniów w szk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ilna potrzeba sukcesu zawodowego nauczycie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wolucja technologicz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pływ środowiska zewnętrznego na procesy edukacyj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omplikowane zadania stawiane przed szkoł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5877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miana paradygmatu- potrze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rzeba podejścia procesow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ółpraca (zaufanie) i potrzeba monitorowania działa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kazanie odpowiedzialności pracownikom  za organizację procesu, osiąganie wyznaczonych celów i samokontrol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udowanie wspólnych celów i wart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6021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Model procesu powiązanego </a:t>
            </a:r>
            <a:br>
              <a:rPr sz="3800"/>
            </a:br>
            <a:r>
              <a:rPr b="0" lang="pl-PL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z otoczenie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Obraz 1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RDZEŃ NAUCZ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29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0033"/>
                </a:solidFill>
                <a:latin typeface="Times New Roman"/>
              </a:rPr>
              <a:t>CO WYNIKA Z WZAJEMNEGO ODDZIAŁYWANIA TRZECH CZYNNIKÓW</a:t>
            </a:r>
            <a:r>
              <a:rPr b="0" lang="pl-PL" sz="2200" spc="-1" strike="noStrike">
                <a:solidFill>
                  <a:srgbClr val="330033"/>
                </a:solidFill>
                <a:latin typeface="Times New Roman"/>
              </a:rPr>
              <a:t>?</a:t>
            </a: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29600" cy="535140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4"/>
          <p:cNvSpPr/>
          <p:nvPr/>
        </p:nvSpPr>
        <p:spPr>
          <a:xfrm>
            <a:off x="2268360" y="3933720"/>
            <a:ext cx="4680000" cy="822600"/>
          </a:xfrm>
          <a:prstGeom prst="rect">
            <a:avLst/>
          </a:prstGeom>
          <a:gradFill rotWithShape="0">
            <a:gsLst>
              <a:gs pos="0">
                <a:srgbClr val="bfbfae"/>
              </a:gs>
              <a:gs pos="100000">
                <a:srgbClr val="fbfbe5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e1"/>
                </a:solidFill>
                <a:latin typeface="Arial"/>
              </a:rPr>
              <a:t>ZADANIE EDUKACYJ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5:38:20Z</dcterms:created>
  <dc:creator>S. Łukasik - Gębska</dc:creator>
  <dc:description/>
  <dc:language>en-US</dc:language>
  <cp:lastModifiedBy>S. Łukasik - Gębska</cp:lastModifiedBy>
  <dcterms:modified xsi:type="dcterms:W3CDTF">2015-11-08T17:25:26Z</dcterms:modified>
  <cp:revision>4</cp:revision>
  <dc:subject/>
  <dc:title>Slajd 1</dc:title>
</cp:coreProperties>
</file>