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8FD-7064-4A35-9C61-EF7BE1F3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48E-1AF8-478D-9EC0-9B99FC03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7AE-863C-4FD1-BE69-AD978193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BA3-7D4D-4675-BC8B-34568B27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72F9-9450-4EFB-B662-5D9C928B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E130-3543-4A92-A072-C43DF2F1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CDA6-1377-424D-9269-06E08381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60C-10AB-4374-926F-7CB06AC2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02EF-E279-4BF8-B8D9-1B327BF2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C13A-3332-4D19-938C-B24AB29A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1375-A575-4E6D-9C4C-4911B2E0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095-3EFF-42B6-A7C6-C70756B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1BCD-3AEE-47F5-8C32-9E38E76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CE9B-CC5E-4DC5-BB62-6644602A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1B86-6071-46B4-A401-981691E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7268-AC7C-4E46-907B-491C26EE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EFE1-4A14-4485-B3AD-259FE788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D8054-71CD-4207-BC6C-073CBC1F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8FE99-AF1B-47B8-9BA3-8E39625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8AD87-39B6-4950-86DB-8F02C796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49335-F177-4FED-BE34-2AD78AE3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D9FC6-16EB-4CEC-A89F-702A5A95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1CB-F123-4DC4-86F6-07D98EAF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D912D-531F-4944-9879-8FC7F27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00BF9-DF16-415B-B623-5DA80730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B1ABD-9837-41E0-A6C7-AC2BBAF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41B47-3D17-429B-81BB-8A7F4F8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F639B-1375-4747-B85F-8191412A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96854-A191-45B0-8E61-D9CA4DE1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99F41-E29A-4EB1-92D1-4BFBA86D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D3E10-0B2B-474F-AE65-E98FF0DA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5A19A-3577-43C8-85DB-C89559D6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82BB0-6729-4F40-BC37-1EB21366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D1A-376A-4ABE-B569-0B24D693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CE42-9FFB-4437-A817-7CAE591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9187-2534-40D1-9F6D-460A8403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A127-02B4-4ACC-812B-9F57CA09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3E9A-DB12-4BE4-860E-80E959FE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EAD1-092F-4CD1-ACF4-F732204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75A8-512A-4945-B09A-D5ED465A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B4156-687A-489C-82DA-0012A551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30FA-CE40-48A7-A079-E5D68162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202E-5744-4C7D-8197-FFB1460C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C3009-C41B-4034-89EB-730AC359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C6F-C553-4691-BF89-8C2CEA3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A3235-594F-46D4-9257-60CFE8E4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B2C95-D428-43B2-A62A-72B3707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864314-D6A9-4CD8-A5BE-B4981400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F7556-CAFF-4534-A41D-9F432ADF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442DE-FC7B-43C0-BB6D-C5ABCC59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12C97-A7F6-439C-962D-B3BE54C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F85CF-C9C2-4028-9209-0152EFA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25822-5DF9-4BB6-84D0-790E0CF9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D0041-14D5-40BB-AA16-DFDBCE1A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4EF9D-DA9F-4A5F-BBC9-24B9DFAE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F51-E076-4678-B5B9-7D9AD8B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F846F-94D2-4196-8490-2B57DCCF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102F9-F441-41FA-BFFB-0029A38D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285362-7F2B-44B1-B237-7818F324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8A9F4-0B59-49B5-BE7F-D2CA72A0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70C08-C2D9-4481-9CC4-E7D9887A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F2FDF-8446-4503-AC0C-8CAB180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CD978-609C-4488-AC19-AB28481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AE864-402C-4228-BCC7-682D3C0F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B2BA2-B542-4E5A-8CC0-69E9B25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4A4C8-8725-4B02-A4A3-359AE28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D85-90D6-4B6B-B6BB-1A92A10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3269A-0492-4B2D-8C48-9117E136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49696-CF43-48EA-B681-9167ED3C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82149-9F6A-43E2-8871-79AAA62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7E19B-42C3-48E7-9F45-42355293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9FA0B-1B6E-458D-9491-07998614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C3F28-892D-41EC-ABD4-F254262A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D6612-8584-4D94-B065-98F9F1B8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78E29-F553-43F8-BC42-EED917FA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44592-D2C9-4747-9B37-B224BB9F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A0E64-D60E-4337-A092-85A37A0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A50-1B89-4275-A84F-B924C20E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8DF19-F1EB-4253-B588-CDDC385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4741D-5509-42DB-901B-1CA5AAAB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5C095-F731-4B80-9732-0534D57E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FA3AB-4A7A-4369-AF14-9DB2CFAD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DDB97-36E2-4F8F-B918-1E0F250F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6CA-9E8C-4997-819D-DED1DA2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1213-52DF-4237-BA7E-87180693B3EB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rostokąt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rostokąt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rostokąt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Łącznik prosty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Łącznik prosty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Łącznik prosty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Łącznik prosty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Łącznik prosty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FA12-4782-4E26-B41A-A115EA1ED263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D23B-8ECD-4D0D-9D9F-239EEE8A5224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rostokąt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rostokąt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rostokąt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Łącznik prosty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Łącznik prosty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Łącznik prosty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Łącznik prosty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Łącznik prosty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rostokąt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Łącznik prosty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230-74F5-47D3-A065-09BDD2FE407B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BDBB-6129-4356-ADBA-9A6375ED11DB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Łącznik prosty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Łącznik prosty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Łącznik prosty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rostokąt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Łącznik prosty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D6A-22CB-437D-A84C-98EA8DDB41CD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Łącznik prosty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rostokąt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Łącznik prosty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Łącznik prosty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Łącznik prosty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E97A-EFF3-419C-91D0-57BF07E6B2F5}" type="slidenum">
              <a:rPr b="1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9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Obraz 7" descr="LOGA_official.jpg"/>
          <p:cNvPicPr/>
          <p:nvPr/>
        </p:nvPicPr>
        <p:blipFill>
          <a:blip r:embed="rId1"/>
          <a:stretch/>
        </p:blipFill>
        <p:spPr>
          <a:xfrm>
            <a:off x="0" y="6240600"/>
            <a:ext cx="8964720" cy="515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-205200" y="1773360"/>
            <a:ext cx="10091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-974880" y="173160"/>
            <a:ext cx="1235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5" name="Grupa 6"/>
          <p:cNvGrpSpPr/>
          <p:nvPr/>
        </p:nvGrpSpPr>
        <p:grpSpPr>
          <a:xfrm>
            <a:off x="541440" y="685800"/>
            <a:ext cx="7877160" cy="4933800"/>
            <a:chOff x="541440" y="685800"/>
            <a:chExt cx="7877160" cy="4933800"/>
          </a:xfrm>
        </p:grpSpPr>
        <p:sp>
          <p:nvSpPr>
            <p:cNvPr id="356" name="Schemat blokowy: taśma dziurkowana 10"/>
            <p:cNvSpPr/>
            <p:nvPr/>
          </p:nvSpPr>
          <p:spPr>
            <a:xfrm>
              <a:off x="579960" y="3714840"/>
              <a:ext cx="3693960" cy="1028520"/>
            </a:xfrm>
            <a:prstGeom prst="flowChartPunchedTape">
              <a:avLst/>
            </a:prstGeom>
            <a:solidFill>
              <a:srgbClr val="70ad47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W1. Niewystarczające wsparcie nauczycieli  w realizacji zada</a:t>
              </a: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ń</a:t>
              </a: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 wychowawczych  i organizowaniu wspó</a:t>
              </a: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ł</a:t>
              </a: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pracy z rodzicam</a:t>
              </a:r>
              <a:r>
                <a:rPr b="0" lang="cs-CZ" sz="12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i.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57" name="Schemat blokowy: taśma dziurkowana 11"/>
            <p:cNvSpPr/>
            <p:nvPr/>
          </p:nvSpPr>
          <p:spPr>
            <a:xfrm>
              <a:off x="579960" y="4686120"/>
              <a:ext cx="3693960" cy="933480"/>
            </a:xfrm>
            <a:prstGeom prst="flowChartPunchedTape">
              <a:avLst/>
            </a:prstGeom>
            <a:solidFill>
              <a:srgbClr val="70ad47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W2. Mała promocja ucznia uzdolnionego.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grpSp>
          <p:nvGrpSpPr>
            <p:cNvPr id="358" name="Grupa 12"/>
            <p:cNvGrpSpPr/>
            <p:nvPr/>
          </p:nvGrpSpPr>
          <p:grpSpPr>
            <a:xfrm>
              <a:off x="541440" y="685800"/>
              <a:ext cx="7877160" cy="2714400"/>
              <a:chOff x="541440" y="685800"/>
              <a:chExt cx="7877160" cy="2714400"/>
            </a:xfrm>
          </p:grpSpPr>
          <p:sp>
            <p:nvSpPr>
              <p:cNvPr id="359" name="Schemat blokowy: taśma dziurkowana 15"/>
              <p:cNvSpPr/>
              <p:nvPr/>
            </p:nvSpPr>
            <p:spPr>
              <a:xfrm>
                <a:off x="541440" y="2466720"/>
                <a:ext cx="3693960" cy="933480"/>
              </a:xfrm>
              <a:prstGeom prst="flowChartPunchedTape">
                <a:avLst/>
              </a:prstGeom>
              <a:solidFill>
                <a:srgbClr val="70ad47"/>
              </a:solidFill>
              <a:ln w="12600">
                <a:solidFill>
                  <a:srgbClr val="507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000" spc="-1" strike="noStrike">
                    <a:solidFill>
                      <a:srgbClr val="ffffff"/>
                    </a:solidFill>
                    <a:latin typeface="Times New Roman"/>
                    <a:ea typeface="MS Mincho"/>
                  </a:rPr>
                  <a:t>S3. Niski odsetek uczniów niepromowanych</a:t>
                </a:r>
                <a:endParaRPr b="0" lang="en-US" sz="10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  <p:grpSp>
            <p:nvGrpSpPr>
              <p:cNvPr id="360" name="Grupa 16"/>
              <p:cNvGrpSpPr/>
              <p:nvPr/>
            </p:nvGrpSpPr>
            <p:grpSpPr>
              <a:xfrm>
                <a:off x="579960" y="685800"/>
                <a:ext cx="7838640" cy="1847880"/>
                <a:chOff x="579960" y="685800"/>
                <a:chExt cx="7838640" cy="1847880"/>
              </a:xfrm>
            </p:grpSpPr>
            <p:sp>
              <p:nvSpPr>
                <p:cNvPr id="361" name="Schemat blokowy: taśma dziurkowana 17"/>
                <p:cNvSpPr/>
                <p:nvPr/>
              </p:nvSpPr>
              <p:spPr>
                <a:xfrm>
                  <a:off x="579960" y="685800"/>
                  <a:ext cx="3642480" cy="942840"/>
                </a:xfrm>
                <a:prstGeom prst="flowChartPunchedTape">
                  <a:avLst/>
                </a:prstGeom>
                <a:solidFill>
                  <a:srgbClr val="70ad47"/>
                </a:solidFill>
                <a:ln w="12600">
                  <a:solidFill>
                    <a:srgbClr val="507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S1. Doświadczenie cz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ęś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ci nauczycieli w stosowaniu technologii informacyjno – komunikacyjnej w procesie kszta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ł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cenia.</a:t>
                  </a:r>
                  <a:endParaRPr b="0" lang="en-US" sz="10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  <p:sp>
              <p:nvSpPr>
                <p:cNvPr id="362" name="Schemat blokowy: taśma dziurkowana 18"/>
                <p:cNvSpPr/>
                <p:nvPr/>
              </p:nvSpPr>
              <p:spPr>
                <a:xfrm>
                  <a:off x="579960" y="1600200"/>
                  <a:ext cx="3693960" cy="933480"/>
                </a:xfrm>
                <a:prstGeom prst="flowChartPunchedTape">
                  <a:avLst/>
                </a:prstGeom>
                <a:solidFill>
                  <a:srgbClr val="70ad47"/>
                </a:solidFill>
                <a:ln w="12600">
                  <a:solidFill>
                    <a:srgbClr val="507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S2. Duży potencjał do realizacji innowacji pedagogicznych.</a:t>
                  </a:r>
                  <a:endParaRPr b="0" lang="en-US" sz="10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  <p:sp>
              <p:nvSpPr>
                <p:cNvPr id="363" name="Schemat blokowy: taśma dziurkowana 19"/>
                <p:cNvSpPr/>
                <p:nvPr/>
              </p:nvSpPr>
              <p:spPr>
                <a:xfrm>
                  <a:off x="4673160" y="695160"/>
                  <a:ext cx="3693960" cy="933480"/>
                </a:xfrm>
                <a:prstGeom prst="flowChartPunchedTape">
                  <a:avLst/>
                </a:prstGeom>
                <a:solidFill>
                  <a:srgbClr val="70ad47"/>
                </a:solidFill>
                <a:ln w="12600">
                  <a:solidFill>
                    <a:srgbClr val="507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O1. Rozwój technologii informatycznych wspomagających kszta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ł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cenia (e-learning).</a:t>
                  </a:r>
                  <a:endParaRPr b="0" lang="en-US" sz="10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  <p:sp>
              <p:nvSpPr>
                <p:cNvPr id="364" name="Schemat blokowy: taśma dziurkowana 20"/>
                <p:cNvSpPr/>
                <p:nvPr/>
              </p:nvSpPr>
              <p:spPr>
                <a:xfrm>
                  <a:off x="4724640" y="1590840"/>
                  <a:ext cx="3693960" cy="933480"/>
                </a:xfrm>
                <a:prstGeom prst="flowChartPunchedTape">
                  <a:avLst/>
                </a:prstGeom>
                <a:solidFill>
                  <a:srgbClr val="70ad47"/>
                </a:solidFill>
                <a:ln w="12600">
                  <a:solidFill>
                    <a:srgbClr val="507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O2.</a:t>
                  </a: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 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Możliwo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ść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 wykorzystania nauczycieli z dodatkowymi kwalifikacjami do realizacji celów statutowych szkó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ł</a:t>
                  </a:r>
                  <a:r>
                    <a:rPr b="0" lang="cs-CZ" sz="1000" spc="-1" strike="noStrike">
                      <a:solidFill>
                        <a:srgbClr val="ffffff"/>
                      </a:solidFill>
                      <a:latin typeface="Times New Roman"/>
                      <a:ea typeface="MS Mincho"/>
                    </a:rPr>
                    <a:t>.</a:t>
                  </a:r>
                  <a:endParaRPr b="0" lang="en-US" sz="10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</p:grpSp>
        </p:grpSp>
        <p:sp>
          <p:nvSpPr>
            <p:cNvPr id="365" name="Schemat blokowy: taśma dziurkowana 13"/>
            <p:cNvSpPr/>
            <p:nvPr/>
          </p:nvSpPr>
          <p:spPr>
            <a:xfrm>
              <a:off x="4724640" y="3800520"/>
              <a:ext cx="3693960" cy="933480"/>
            </a:xfrm>
            <a:prstGeom prst="flowChartPunchedTape">
              <a:avLst/>
            </a:prstGeom>
            <a:solidFill>
              <a:srgbClr val="70ad47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T1. Stereotypowe postrzeganie (m.in. przez uczniów i ich rodziców) szkół zawodowych jako „gorszych”.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6" name="Schemat blokowy: taśma dziurkowana 14"/>
            <p:cNvSpPr/>
            <p:nvPr/>
          </p:nvSpPr>
          <p:spPr>
            <a:xfrm>
              <a:off x="4724640" y="4638600"/>
              <a:ext cx="3693960" cy="933480"/>
            </a:xfrm>
            <a:prstGeom prst="flowChartPunchedTape">
              <a:avLst/>
            </a:prstGeom>
            <a:solidFill>
              <a:srgbClr val="70ad47"/>
            </a:solidFill>
            <a:ln w="12600">
              <a:solidFill>
                <a:srgbClr val="507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ffffff"/>
                  </a:solidFill>
                  <a:latin typeface="Times New Roman"/>
                  <a:ea typeface="MS Mincho"/>
                </a:rPr>
                <a:t>T2. Polityki reklamowe konkurencyjnych szkół. 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cxnSp>
        <p:nvCxnSpPr>
          <p:cNvPr id="367" name="Łącznik prosty ze strzałką 22"/>
          <p:cNvCxnSpPr>
            <a:stCxn id="361" idx="3"/>
          </p:cNvCxnSpPr>
          <p:nvPr/>
        </p:nvCxnSpPr>
        <p:spPr>
          <a:xfrm>
            <a:off x="4222440" y="1157400"/>
            <a:ext cx="524160" cy="8229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8" name="Łącznik prosty ze strzałką 24"/>
          <p:cNvCxnSpPr/>
          <p:nvPr/>
        </p:nvCxnSpPr>
        <p:spPr>
          <a:xfrm>
            <a:off x="4243320" y="2060280"/>
            <a:ext cx="473760" cy="144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9" name="Łącznik prosty ze strzałką 26"/>
          <p:cNvCxnSpPr/>
          <p:nvPr/>
        </p:nvCxnSpPr>
        <p:spPr>
          <a:xfrm flipV="1">
            <a:off x="4314600" y="1385640"/>
            <a:ext cx="361080" cy="4356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0" name="Łącznik prosty ze strzałką 28"/>
          <p:cNvCxnSpPr>
            <a:stCxn id="363" idx="1"/>
          </p:cNvCxnSpPr>
          <p:nvPr/>
        </p:nvCxnSpPr>
        <p:spPr>
          <a:xfrm flipH="1" flipV="1">
            <a:off x="4242600" y="1142280"/>
            <a:ext cx="430920" cy="20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1" name="Łącznik prosty ze strzałką 30"/>
          <p:cNvCxnSpPr/>
          <p:nvPr/>
        </p:nvCxnSpPr>
        <p:spPr>
          <a:xfrm flipV="1">
            <a:off x="4295880" y="2323440"/>
            <a:ext cx="380160" cy="727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2" name="Łącznik prosty ze strzałką 32"/>
          <p:cNvCxnSpPr>
            <a:endCxn id="363" idx="1"/>
          </p:cNvCxnSpPr>
          <p:nvPr/>
        </p:nvCxnSpPr>
        <p:spPr>
          <a:xfrm flipV="1">
            <a:off x="4241520" y="1162080"/>
            <a:ext cx="432000" cy="1643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3" name="Łącznik prosty ze strzałką 34"/>
          <p:cNvCxnSpPr>
            <a:stCxn id="365" idx="1"/>
          </p:cNvCxnSpPr>
          <p:nvPr/>
        </p:nvCxnSpPr>
        <p:spPr>
          <a:xfrm flipH="1" flipV="1">
            <a:off x="4273200" y="4080960"/>
            <a:ext cx="451800" cy="186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4" name="Łącznik prosty ze strzałką 37"/>
          <p:cNvCxnSpPr>
            <a:stCxn id="357" idx="3"/>
          </p:cNvCxnSpPr>
          <p:nvPr/>
        </p:nvCxnSpPr>
        <p:spPr>
          <a:xfrm>
            <a:off x="4273920" y="5153040"/>
            <a:ext cx="439560" cy="1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5" name="Łącznik prosty ze strzałką 39"/>
          <p:cNvCxnSpPr/>
          <p:nvPr/>
        </p:nvCxnSpPr>
        <p:spPr>
          <a:xfrm flipV="1">
            <a:off x="4295880" y="4449240"/>
            <a:ext cx="421200" cy="486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6" name="Łącznik prosty ze strzałką 41"/>
          <p:cNvCxnSpPr>
            <a:stCxn id="366" idx="1"/>
          </p:cNvCxnSpPr>
          <p:nvPr/>
        </p:nvCxnSpPr>
        <p:spPr>
          <a:xfrm flipH="1" flipV="1">
            <a:off x="4312800" y="4478040"/>
            <a:ext cx="412200" cy="62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7" name="Łącznik prosty ze strzałką 47"/>
          <p:cNvCxnSpPr/>
          <p:nvPr/>
        </p:nvCxnSpPr>
        <p:spPr>
          <a:xfrm>
            <a:off x="4273560" y="3153960"/>
            <a:ext cx="473760" cy="848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8" name="Łącznik prosty ze strzałką 49"/>
          <p:cNvCxnSpPr/>
          <p:nvPr/>
        </p:nvCxnSpPr>
        <p:spPr>
          <a:xfrm>
            <a:off x="4262400" y="3317760"/>
            <a:ext cx="510480" cy="1642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575f6d"/>
                </a:solidFill>
                <a:latin typeface="Century Schoolbook"/>
              </a:rPr>
              <a:t>PLANOWANIE Z PRZYSZŁOŚC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56" name="Grupa 3"/>
          <p:cNvGrpSpPr/>
          <p:nvPr/>
        </p:nvGrpSpPr>
        <p:grpSpPr>
          <a:xfrm>
            <a:off x="637560" y="2924280"/>
            <a:ext cx="7106400" cy="1886760"/>
            <a:chOff x="637560" y="2924280"/>
            <a:chExt cx="7106400" cy="1886760"/>
          </a:xfrm>
        </p:grpSpPr>
        <p:grpSp>
          <p:nvGrpSpPr>
            <p:cNvPr id="457" name="Grupa 4"/>
            <p:cNvGrpSpPr/>
            <p:nvPr/>
          </p:nvGrpSpPr>
          <p:grpSpPr>
            <a:xfrm>
              <a:off x="637560" y="2924280"/>
              <a:ext cx="7106400" cy="1486800"/>
              <a:chOff x="637560" y="2924280"/>
              <a:chExt cx="7106400" cy="1486800"/>
            </a:xfrm>
          </p:grpSpPr>
          <p:grpSp>
            <p:nvGrpSpPr>
              <p:cNvPr id="458" name="Grupa 6"/>
              <p:cNvGrpSpPr/>
              <p:nvPr/>
            </p:nvGrpSpPr>
            <p:grpSpPr>
              <a:xfrm>
                <a:off x="637560" y="2924280"/>
                <a:ext cx="7106400" cy="1486800"/>
                <a:chOff x="637560" y="2924280"/>
                <a:chExt cx="7106400" cy="1486800"/>
              </a:xfrm>
            </p:grpSpPr>
            <p:grpSp>
              <p:nvGrpSpPr>
                <p:cNvPr id="459" name="Grupa 8"/>
                <p:cNvGrpSpPr/>
                <p:nvPr/>
              </p:nvGrpSpPr>
              <p:grpSpPr>
                <a:xfrm>
                  <a:off x="637560" y="2924280"/>
                  <a:ext cx="7106400" cy="1486800"/>
                  <a:chOff x="637560" y="2924280"/>
                  <a:chExt cx="7106400" cy="1486800"/>
                </a:xfrm>
              </p:grpSpPr>
              <p:grpSp>
                <p:nvGrpSpPr>
                  <p:cNvPr id="460" name="Grupa 13"/>
                  <p:cNvGrpSpPr/>
                  <p:nvPr/>
                </p:nvGrpSpPr>
                <p:grpSpPr>
                  <a:xfrm>
                    <a:off x="4381200" y="2924280"/>
                    <a:ext cx="3362760" cy="1067400"/>
                    <a:chOff x="4381200" y="2924280"/>
                    <a:chExt cx="3362760" cy="1067400"/>
                  </a:xfrm>
                </p:grpSpPr>
                <p:sp>
                  <p:nvSpPr>
                    <p:cNvPr id="461" name="Elipsa 15"/>
                    <p:cNvSpPr/>
                    <p:nvPr/>
                  </p:nvSpPr>
                  <p:spPr>
                    <a:xfrm>
                      <a:off x="6629400" y="2924280"/>
                      <a:ext cx="1114560" cy="1067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3c4ff"/>
                        </a:gs>
                        <a:gs pos="100000">
                          <a:srgbClr val="e5eeff"/>
                        </a:gs>
                      </a:gsLst>
                      <a:lin ang="16200000"/>
                    </a:gradFill>
                    <a:ln w="9360">
                      <a:solidFill>
                        <a:srgbClr val="4a7ebb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mbria"/>
                          <a:ea typeface="MS Mincho"/>
                        </a:rPr>
                        <a:t>WIZ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p:txBody>
                </p:sp>
                <p:sp>
                  <p:nvSpPr>
                    <p:cNvPr id="462" name="Łącznik prosty 16"/>
                    <p:cNvSpPr/>
                    <p:nvPr/>
                  </p:nvSpPr>
                  <p:spPr>
                    <a:xfrm flipH="1">
                      <a:off x="4381200" y="3448440"/>
                      <a:ext cx="2257560" cy="0"/>
                    </a:xfrm>
                    <a:prstGeom prst="line">
                      <a:avLst/>
                    </a:prstGeom>
                    <a:ln w="25560">
                      <a:solidFill>
                        <a:srgbClr val="4bacc6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p:txBody>
                </p:sp>
              </p:grpSp>
              <p:cxnSp>
                <p:nvCxnSpPr>
                  <p:cNvPr id="463" name="Łącznik prosty ze strzałką 14"/>
                  <p:cNvCxnSpPr/>
                  <p:nvPr/>
                </p:nvCxnSpPr>
                <p:spPr>
                  <a:xfrm flipH="1">
                    <a:off x="637560" y="4410360"/>
                    <a:ext cx="7001640" cy="1080"/>
                  </a:xfrm>
                  <a:prstGeom prst="straightConnector1">
                    <a:avLst/>
                  </a:prstGeom>
                  <a:ln w="25560">
                    <a:solidFill>
                      <a:srgbClr val="4bacc6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</p:grpSp>
            <p:sp>
              <p:nvSpPr>
                <p:cNvPr id="464" name="Łącznik prosty 9"/>
                <p:cNvSpPr/>
                <p:nvPr/>
              </p:nvSpPr>
              <p:spPr>
                <a:xfrm>
                  <a:off x="6191640" y="3295800"/>
                  <a:ext cx="0" cy="31428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  <p:sp>
              <p:nvSpPr>
                <p:cNvPr id="465" name="Łącznik prosty 10"/>
                <p:cNvSpPr/>
                <p:nvPr/>
              </p:nvSpPr>
              <p:spPr>
                <a:xfrm>
                  <a:off x="5810400" y="3286440"/>
                  <a:ext cx="0" cy="31428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  <p:sp>
              <p:nvSpPr>
                <p:cNvPr id="466" name="Łącznik prosty 11"/>
                <p:cNvSpPr/>
                <p:nvPr/>
              </p:nvSpPr>
              <p:spPr>
                <a:xfrm>
                  <a:off x="5457960" y="3295800"/>
                  <a:ext cx="0" cy="31428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  <p:sp>
              <p:nvSpPr>
                <p:cNvPr id="467" name="Łącznik prosty 12"/>
                <p:cNvSpPr/>
                <p:nvPr/>
              </p:nvSpPr>
              <p:spPr>
                <a:xfrm>
                  <a:off x="5124600" y="3286440"/>
                  <a:ext cx="0" cy="314280"/>
                </a:xfrm>
                <a:prstGeom prst="line">
                  <a:avLst/>
                </a:prstGeom>
                <a:ln w="25560">
                  <a:solidFill>
                    <a:srgbClr val="4bacc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entury Schoolbook"/>
                  </a:endParaRPr>
                </a:p>
              </p:txBody>
            </p:sp>
          </p:grpSp>
          <p:sp>
            <p:nvSpPr>
              <p:cNvPr id="468" name="Pole tekstowe 2"/>
              <p:cNvSpPr/>
              <p:nvPr/>
            </p:nvSpPr>
            <p:spPr>
              <a:xfrm>
                <a:off x="5143680" y="3715200"/>
                <a:ext cx="11998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Cambria"/>
                    <a:ea typeface="MS Mincho"/>
                  </a:rPr>
                  <a:t> 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Cambria"/>
                    <a:ea typeface="MS Mincho"/>
                  </a:rPr>
                  <a:t>cele, terminy</a:t>
                </a:r>
                <a:endParaRPr b="0" lang="en-US" sz="1200" spc="-1" strike="noStrike">
                  <a:solidFill>
                    <a:srgbClr val="000000"/>
                  </a:solidFill>
                  <a:latin typeface="Century Schoolbook"/>
                </a:endParaRPr>
              </a:p>
            </p:txBody>
          </p:sp>
        </p:grpSp>
        <p:sp>
          <p:nvSpPr>
            <p:cNvPr id="469" name="Pole tekstowe 2"/>
            <p:cNvSpPr/>
            <p:nvPr/>
          </p:nvSpPr>
          <p:spPr>
            <a:xfrm>
              <a:off x="961920" y="4534560"/>
              <a:ext cx="6648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Cambria"/>
                  <a:ea typeface="MS Mincho"/>
                </a:rPr>
                <a:t>przeszłość                                                                    teraźniejszość                                                       przyszłość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5f6d"/>
                </a:solidFill>
                <a:latin typeface="Century Schoolbook"/>
              </a:rPr>
              <a:t>BADANIE WZAJEMNYCH ZALEŻNOŚCI (SYNERGII) MIĘDZY CZYNNIKAMI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Identyfikacja, które z czynników są pierwszorzędne, a które drugorzędne następuje poprzez ocenę wpływu (pozytywnego i negatywnego) wybranych czynników na rozwój szkoły według skali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a. nie wpływa (nie przeszkadza)   - 0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b. wpływa (przeszkadza) słabo      - 1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c. wpływa (przeszkadza) średnio   - 2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entury Schoolbook"/>
              </a:rPr>
              <a:t>d. wpływa (przeszkadza) znacznie - 3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Jaka siła związku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Schemat blokowy: taśma dziurkowana 3"/>
          <p:cNvSpPr/>
          <p:nvPr/>
        </p:nvSpPr>
        <p:spPr>
          <a:xfrm>
            <a:off x="457200" y="4330800"/>
            <a:ext cx="3693960" cy="9334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W2. Mała promocja ucznia uzdolnionego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Schemat blokowy: taśma dziurkowana 4"/>
          <p:cNvSpPr/>
          <p:nvPr/>
        </p:nvSpPr>
        <p:spPr>
          <a:xfrm>
            <a:off x="4427640" y="4308480"/>
            <a:ext cx="3695760" cy="9334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T2. Polityki reklamowe konkurencyjnych szkół. 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Schemat blokowy: taśma dziurkowana 5"/>
          <p:cNvSpPr/>
          <p:nvPr/>
        </p:nvSpPr>
        <p:spPr>
          <a:xfrm>
            <a:off x="482760" y="5446800"/>
            <a:ext cx="3643200" cy="94284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S1. Doświadczenie cz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ęś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ci nauczycieli w stosowaniu technologii informacyjno – komunikacyjnej w procesie kszta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ł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cenia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chemat blokowy: taśma dziurkowana 6"/>
          <p:cNvSpPr/>
          <p:nvPr/>
        </p:nvSpPr>
        <p:spPr>
          <a:xfrm>
            <a:off x="4427640" y="5398920"/>
            <a:ext cx="3695760" cy="9334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T1. Stereotypowe postrzeganie (m.in. przez uczniów i ich rodziców) szkół zawodowych jako „gorszych”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5" name="Łącznik prosty ze strzałką 8"/>
          <p:cNvCxnSpPr/>
          <p:nvPr/>
        </p:nvCxnSpPr>
        <p:spPr>
          <a:xfrm flipH="1">
            <a:off x="3923640" y="4801680"/>
            <a:ext cx="719640" cy="1080"/>
          </a:xfrm>
          <a:prstGeom prst="straightConnector1">
            <a:avLst/>
          </a:prstGeom>
          <a:ln w="28440">
            <a:solidFill>
              <a:srgbClr val="fe863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6" name="Łącznik prosty ze strzałką 10"/>
          <p:cNvCxnSpPr/>
          <p:nvPr/>
        </p:nvCxnSpPr>
        <p:spPr>
          <a:xfrm flipH="1">
            <a:off x="3923640" y="6021000"/>
            <a:ext cx="719640" cy="1080"/>
          </a:xfrm>
          <a:prstGeom prst="straightConnector1">
            <a:avLst/>
          </a:prstGeom>
          <a:ln w="28440">
            <a:solidFill>
              <a:srgbClr val="fe863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7" name="Łącznik prosty ze strzałką 12"/>
          <p:cNvCxnSpPr/>
          <p:nvPr/>
        </p:nvCxnSpPr>
        <p:spPr>
          <a:xfrm>
            <a:off x="3943440" y="4970160"/>
            <a:ext cx="576360" cy="648360"/>
          </a:xfrm>
          <a:prstGeom prst="straightConnector1">
            <a:avLst/>
          </a:prstGeom>
          <a:ln w="28440">
            <a:solidFill>
              <a:srgbClr val="fe8637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8" name="Łącznik prosty ze strzałką 14"/>
          <p:cNvCxnSpPr/>
          <p:nvPr/>
        </p:nvCxnSpPr>
        <p:spPr>
          <a:xfrm flipV="1">
            <a:off x="4014720" y="5073120"/>
            <a:ext cx="558000" cy="496080"/>
          </a:xfrm>
          <a:prstGeom prst="straightConnector1">
            <a:avLst/>
          </a:prstGeom>
          <a:ln w="28440">
            <a:solidFill>
              <a:srgbClr val="ff690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Symbol zastępczy zawartości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75520" cy="47242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060560"/>
            <a:ext cx="8686800" cy="838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Schoolbook"/>
              </a:rPr>
              <a:t>PODEJŚCIE „Z ZEWNĄTRZ DO WEWNĄTRZ” (MACIERZ TOWS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pole tekstowe 5" descr=""/>
          <p:cNvPicPr/>
          <p:nvPr/>
        </p:nvPicPr>
        <p:blipFill>
          <a:blip r:embed="rId2"/>
          <a:stretch/>
        </p:blipFill>
        <p:spPr>
          <a:xfrm>
            <a:off x="2286000" y="3255840"/>
            <a:ext cx="2163600" cy="1193760"/>
          </a:xfrm>
          <a:prstGeom prst="rect">
            <a:avLst/>
          </a:prstGeom>
          <a:ln w="0">
            <a:noFill/>
          </a:ln>
        </p:spPr>
      </p:pic>
      <p:pic>
        <p:nvPicPr>
          <p:cNvPr id="392" name="pole tekstowe 6" descr=""/>
          <p:cNvPicPr/>
          <p:nvPr/>
        </p:nvPicPr>
        <p:blipFill>
          <a:blip r:embed="rId3"/>
          <a:stretch/>
        </p:blipFill>
        <p:spPr>
          <a:xfrm>
            <a:off x="2262240" y="5151600"/>
            <a:ext cx="2254320" cy="1272960"/>
          </a:xfrm>
          <a:prstGeom prst="rect">
            <a:avLst/>
          </a:prstGeom>
          <a:ln w="0">
            <a:noFill/>
          </a:ln>
        </p:spPr>
      </p:pic>
      <p:sp>
        <p:nvSpPr>
          <p:cNvPr id="393" name="pole tekstowe 7"/>
          <p:cNvSpPr/>
          <p:nvPr/>
        </p:nvSpPr>
        <p:spPr>
          <a:xfrm rot="1747200">
            <a:off x="5299200" y="3380040"/>
            <a:ext cx="193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Schoolbook"/>
              </a:rPr>
              <a:t>Czy szansa (i) pozwala przezwyciężyć słabość (j)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ole tekstowe 8" descr=""/>
          <p:cNvPicPr/>
          <p:nvPr/>
        </p:nvPicPr>
        <p:blipFill>
          <a:blip r:embed="rId4"/>
          <a:stretch/>
        </p:blipFill>
        <p:spPr>
          <a:xfrm>
            <a:off x="5572080" y="4863960"/>
            <a:ext cx="1951200" cy="1560600"/>
          </a:xfrm>
          <a:prstGeom prst="rect">
            <a:avLst/>
          </a:prstGeom>
          <a:ln w="0">
            <a:noFill/>
          </a:ln>
        </p:spPr>
      </p:pic>
      <p:sp>
        <p:nvSpPr>
          <p:cNvPr id="395" name="pole tekstowe 9"/>
          <p:cNvSpPr/>
          <p:nvPr/>
        </p:nvSpPr>
        <p:spPr>
          <a:xfrm>
            <a:off x="1187280" y="1916280"/>
            <a:ext cx="70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Obraz 10" descr=""/>
          <p:cNvPicPr/>
          <p:nvPr/>
        </p:nvPicPr>
        <p:blipFill>
          <a:blip r:embed="rId5"/>
          <a:stretch/>
        </p:blipFill>
        <p:spPr>
          <a:xfrm>
            <a:off x="3240" y="-9360"/>
            <a:ext cx="9140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7320" y="36360"/>
            <a:ext cx="746748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5f6d"/>
                </a:solidFill>
                <a:latin typeface="Century Schoolbook"/>
              </a:rPr>
              <a:t>ANALIZA TOWS  - PRZYKŁAD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Czy zagrożenie potęguje słabość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Czy zagrożenie spotęguje słabość?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chemat blokowy: taśma dziurkowana 3"/>
          <p:cNvSpPr/>
          <p:nvPr/>
        </p:nvSpPr>
        <p:spPr>
          <a:xfrm>
            <a:off x="4643280" y="836640"/>
            <a:ext cx="3695760" cy="21970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W2. Mała promocja ucznia uzdolnionego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Schemat blokowy: taśma dziurkowana 4"/>
          <p:cNvSpPr/>
          <p:nvPr/>
        </p:nvSpPr>
        <p:spPr>
          <a:xfrm>
            <a:off x="423720" y="907920"/>
            <a:ext cx="3695760" cy="212580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T2. Polityki reklamowe konkurencyjnych szkół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Schemat blokowy: taśma dziurkowana 6"/>
          <p:cNvSpPr/>
          <p:nvPr/>
        </p:nvSpPr>
        <p:spPr>
          <a:xfrm>
            <a:off x="250920" y="3711600"/>
            <a:ext cx="3868560" cy="295740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T1. Stereotypowe postrzeganie (m.in. przez uczniów i ich rodziców) szkół zawodowych jako „gorszych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2" name="Łącznik prosty ze strzałką 9"/>
          <p:cNvCxnSpPr>
            <a:stCxn id="400" idx="3"/>
            <a:endCxn id="399" idx="1"/>
          </p:cNvCxnSpPr>
          <p:nvPr/>
        </p:nvCxnSpPr>
        <p:spPr>
          <a:xfrm flipV="1">
            <a:off x="4119120" y="1934640"/>
            <a:ext cx="524160" cy="3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03" name="Łącznik prosty ze strzałką 12"/>
          <p:cNvCxnSpPr/>
          <p:nvPr/>
        </p:nvCxnSpPr>
        <p:spPr>
          <a:xfrm flipV="1">
            <a:off x="4140360" y="4177440"/>
            <a:ext cx="48312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404" name="Schemat blokowy: taśma dziurkowana 13"/>
          <p:cNvSpPr/>
          <p:nvPr/>
        </p:nvSpPr>
        <p:spPr>
          <a:xfrm>
            <a:off x="4643280" y="3589200"/>
            <a:ext cx="3695760" cy="279252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MS Mincho"/>
              </a:rPr>
              <a:t>W2. Mała promocja ucznia uzdolnioneg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Symbol zastępczy zawartości 3" descr=""/>
          <p:cNvPicPr/>
          <p:nvPr/>
        </p:nvPicPr>
        <p:blipFill>
          <a:blip r:embed="rId1"/>
          <a:stretch/>
        </p:blipFill>
        <p:spPr>
          <a:xfrm>
            <a:off x="1090440" y="1792440"/>
            <a:ext cx="7169400" cy="47908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903240"/>
            <a:ext cx="8686800" cy="838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Schoolbook"/>
              </a:rPr>
              <a:t>PODEJŚCIE „OD WEWNĄTRZ NA ZEWNĄTRZ” (MACIERZ SWOT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7" name="pole tekstowe 5" descr=""/>
          <p:cNvPicPr/>
          <p:nvPr/>
        </p:nvPicPr>
        <p:blipFill>
          <a:blip r:embed="rId2"/>
          <a:stretch/>
        </p:blipFill>
        <p:spPr>
          <a:xfrm>
            <a:off x="2548080" y="2779560"/>
            <a:ext cx="2103120" cy="1359000"/>
          </a:xfrm>
          <a:prstGeom prst="rect">
            <a:avLst/>
          </a:prstGeom>
          <a:ln w="0">
            <a:noFill/>
          </a:ln>
        </p:spPr>
      </p:pic>
      <p:pic>
        <p:nvPicPr>
          <p:cNvPr id="408" name="pole tekstowe 6" descr=""/>
          <p:cNvPicPr/>
          <p:nvPr/>
        </p:nvPicPr>
        <p:blipFill>
          <a:blip r:embed="rId3"/>
          <a:stretch/>
        </p:blipFill>
        <p:spPr>
          <a:xfrm>
            <a:off x="2382840" y="4614840"/>
            <a:ext cx="2433600" cy="1689120"/>
          </a:xfrm>
          <a:prstGeom prst="rect">
            <a:avLst/>
          </a:prstGeom>
          <a:ln w="0">
            <a:noFill/>
          </a:ln>
        </p:spPr>
      </p:pic>
      <p:sp>
        <p:nvSpPr>
          <p:cNvPr id="409" name="pole tekstowe 7"/>
          <p:cNvSpPr/>
          <p:nvPr/>
        </p:nvSpPr>
        <p:spPr>
          <a:xfrm rot="1747200">
            <a:off x="5543280" y="3126240"/>
            <a:ext cx="196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entury Schoolbook"/>
              </a:rPr>
              <a:t>Czy siła (i) pozwala przezwyciężyć (zredukować) zagrożenie (j)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0" name="pole tekstowe 8" descr=""/>
          <p:cNvPicPr/>
          <p:nvPr/>
        </p:nvPicPr>
        <p:blipFill>
          <a:blip r:embed="rId4"/>
          <a:stretch/>
        </p:blipFill>
        <p:spPr>
          <a:xfrm>
            <a:off x="5327640" y="4608360"/>
            <a:ext cx="2389320" cy="1938600"/>
          </a:xfrm>
          <a:prstGeom prst="rect">
            <a:avLst/>
          </a:prstGeom>
          <a:ln w="0">
            <a:noFill/>
          </a:ln>
        </p:spPr>
      </p:pic>
      <p:sp>
        <p:nvSpPr>
          <p:cNvPr id="411" name="pole tekstowe 9"/>
          <p:cNvSpPr/>
          <p:nvPr/>
        </p:nvSpPr>
        <p:spPr>
          <a:xfrm>
            <a:off x="1111320" y="174636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Obraz 10" descr=""/>
          <p:cNvPicPr/>
          <p:nvPr/>
        </p:nvPicPr>
        <p:blipFill>
          <a:blip r:embed="rId5"/>
          <a:stretch/>
        </p:blipFill>
        <p:spPr>
          <a:xfrm>
            <a:off x="3240" y="-9360"/>
            <a:ext cx="9140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5f6d"/>
                </a:solidFill>
                <a:latin typeface="Century Schoolbook"/>
              </a:rPr>
              <a:t>ANALIZA SWOT  - PRZYKŁAD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Czy siła pozwala wykorzystać szansę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entury Schoolbook"/>
              </a:rPr>
              <a:t>Czy słabość prowadzi do utraty szansy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5" name="Łącznik prosty ze strzałką 9"/>
          <p:cNvCxnSpPr/>
          <p:nvPr/>
        </p:nvCxnSpPr>
        <p:spPr>
          <a:xfrm>
            <a:off x="4206600" y="4134960"/>
            <a:ext cx="45324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16" name="Łącznik prosty ze strzałką 12"/>
          <p:cNvCxnSpPr/>
          <p:nvPr/>
        </p:nvCxnSpPr>
        <p:spPr>
          <a:xfrm flipV="1">
            <a:off x="4190760" y="2525040"/>
            <a:ext cx="484920" cy="1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417" name="Schemat blokowy: taśma dziurkowana 13"/>
          <p:cNvSpPr/>
          <p:nvPr/>
        </p:nvSpPr>
        <p:spPr>
          <a:xfrm>
            <a:off x="534960" y="3668760"/>
            <a:ext cx="3694320" cy="9334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W2. Mała promocja ucznia uzdolnionego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Schemat blokowy: taśma dziurkowana 24"/>
          <p:cNvSpPr/>
          <p:nvPr/>
        </p:nvSpPr>
        <p:spPr>
          <a:xfrm>
            <a:off x="534960" y="2100240"/>
            <a:ext cx="3695760" cy="9334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S3. Niski odsetek uczniów niepromowanych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Schemat blokowy: taśma dziurkowana 25"/>
          <p:cNvSpPr/>
          <p:nvPr/>
        </p:nvSpPr>
        <p:spPr>
          <a:xfrm>
            <a:off x="4675320" y="2036880"/>
            <a:ext cx="3693960" cy="9334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O1. Rozwój technologii informatycznych wspomagających kszta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ł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cenia (e-learning)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chemat blokowy: taśma dziurkowana 26"/>
          <p:cNvSpPr/>
          <p:nvPr/>
        </p:nvSpPr>
        <p:spPr>
          <a:xfrm>
            <a:off x="4702320" y="3668760"/>
            <a:ext cx="3693960" cy="933480"/>
          </a:xfrm>
          <a:prstGeom prst="flowChartPunchedTape">
            <a:avLst/>
          </a:prstGeom>
          <a:solidFill>
            <a:srgbClr val="70ad47"/>
          </a:solidFill>
          <a:ln w="1260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O1. Rozwój technologii informatycznych wspomagających kszta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ł</a:t>
            </a:r>
            <a:r>
              <a:rPr b="0" lang="cs-CZ" sz="1000" spc="-1" strike="noStrike">
                <a:solidFill>
                  <a:srgbClr val="ffffff"/>
                </a:solidFill>
                <a:latin typeface="Times New Roman"/>
                <a:ea typeface="MS Mincho"/>
              </a:rPr>
              <a:t>cenia (e-learning).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5f6d"/>
                </a:solidFill>
                <a:latin typeface="Century Schoolbook"/>
              </a:rPr>
              <a:t>ELEMENTY STRATEGII ROZWOJU SZKOŁY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Trójkąt równoramienny 8"/>
          <p:cNvSpPr/>
          <p:nvPr/>
        </p:nvSpPr>
        <p:spPr>
          <a:xfrm>
            <a:off x="1258920" y="2309760"/>
            <a:ext cx="6049800" cy="1057320"/>
          </a:xfrm>
          <a:prstGeom prst="triangle">
            <a:avLst>
              <a:gd name="adj" fmla="val 49495"/>
            </a:avLst>
          </a:prstGeom>
          <a:solidFill>
            <a:srgbClr val="ffe63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Wizj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ole tekstowe 57"/>
          <p:cNvSpPr/>
          <p:nvPr/>
        </p:nvSpPr>
        <p:spPr>
          <a:xfrm>
            <a:off x="1258920" y="3382920"/>
            <a:ext cx="6049800" cy="278280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Schoolbook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5" name="Grupa 15"/>
          <p:cNvGrpSpPr/>
          <p:nvPr/>
        </p:nvGrpSpPr>
        <p:grpSpPr>
          <a:xfrm>
            <a:off x="5364000" y="1536840"/>
            <a:ext cx="1944720" cy="1460520"/>
            <a:chOff x="5364000" y="1536840"/>
            <a:chExt cx="1944720" cy="1460520"/>
          </a:xfrm>
        </p:grpSpPr>
        <p:sp>
          <p:nvSpPr>
            <p:cNvPr id="426" name="Schemat blokowy: taśma dziurkowana 9"/>
            <p:cNvSpPr/>
            <p:nvPr/>
          </p:nvSpPr>
          <p:spPr>
            <a:xfrm>
              <a:off x="5364000" y="1536840"/>
              <a:ext cx="1944720" cy="664920"/>
            </a:xfrm>
            <a:prstGeom prst="flowChartPunchedTape">
              <a:avLst/>
            </a:prstGeom>
            <a:solidFill>
              <a:srgbClr val="b32c16"/>
            </a:solidFill>
            <a:ln w="34920">
              <a:solidFill>
                <a:srgbClr val="ffffff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Century Schoolbook"/>
                  <a:ea typeface="Calibri"/>
                </a:rPr>
                <a:t>Misja</a:t>
              </a:r>
              <a:r>
                <a:rPr b="1" lang="pl-PL" sz="1100" spc="-1" strike="noStrike">
                  <a:solidFill>
                    <a:srgbClr val="ffffff"/>
                  </a:solidFill>
                  <a:latin typeface="Century Schoolbook"/>
                  <a:ea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7" name="Łącznik prosty 12"/>
            <p:cNvSpPr/>
            <p:nvPr/>
          </p:nvSpPr>
          <p:spPr>
            <a:xfrm>
              <a:off x="6228360" y="2201760"/>
              <a:ext cx="0" cy="79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aphicFrame>
        <p:nvGraphicFramePr>
          <p:cNvPr id="428" name=""/>
          <p:cNvGraphicFramePr/>
          <p:nvPr/>
        </p:nvGraphicFramePr>
        <p:xfrm>
          <a:off x="1258920" y="3429000"/>
          <a:ext cx="6064200" cy="792000"/>
        </p:xfrm>
        <a:graphic>
          <a:graphicData uri="http://schemas.openxmlformats.org/drawingml/2006/table">
            <a:tbl>
              <a:tblPr/>
              <a:tblGrid>
                <a:gridCol w="2022480"/>
                <a:gridCol w="2020680"/>
                <a:gridCol w="202104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Opcja strategiczn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Opcja strategiczn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Opcja strategiczn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5f6d"/>
                </a:solidFill>
                <a:latin typeface="Century Schoolbook"/>
              </a:rPr>
              <a:t>ELEMENTY STRATEGII ROZWOJU SZKOŁY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Trójkąt równoramienny 8"/>
          <p:cNvSpPr/>
          <p:nvPr/>
        </p:nvSpPr>
        <p:spPr>
          <a:xfrm>
            <a:off x="1166760" y="1254240"/>
            <a:ext cx="6048360" cy="1057320"/>
          </a:xfrm>
          <a:prstGeom prst="triangle">
            <a:avLst>
              <a:gd name="adj" fmla="val 49495"/>
            </a:avLst>
          </a:prstGeom>
          <a:solidFill>
            <a:srgbClr val="ffe63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Wizj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ole tekstowe 57"/>
          <p:cNvSpPr/>
          <p:nvPr/>
        </p:nvSpPr>
        <p:spPr>
          <a:xfrm>
            <a:off x="1258920" y="3110040"/>
            <a:ext cx="6049800" cy="300492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Schoolbook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33" name="Grupa 15"/>
          <p:cNvGrpSpPr/>
          <p:nvPr/>
        </p:nvGrpSpPr>
        <p:grpSpPr>
          <a:xfrm>
            <a:off x="5364000" y="765000"/>
            <a:ext cx="1944720" cy="1333800"/>
            <a:chOff x="5364000" y="765000"/>
            <a:chExt cx="1944720" cy="1333800"/>
          </a:xfrm>
        </p:grpSpPr>
        <p:sp>
          <p:nvSpPr>
            <p:cNvPr id="434" name="Schemat blokowy: taśma dziurkowana 9"/>
            <p:cNvSpPr/>
            <p:nvPr/>
          </p:nvSpPr>
          <p:spPr>
            <a:xfrm>
              <a:off x="5364000" y="765000"/>
              <a:ext cx="1944720" cy="664920"/>
            </a:xfrm>
            <a:prstGeom prst="flowChartPunchedTape">
              <a:avLst/>
            </a:prstGeom>
            <a:solidFill>
              <a:srgbClr val="b32c16"/>
            </a:solidFill>
            <a:ln w="34920">
              <a:solidFill>
                <a:srgbClr val="ffffff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Century Schoolbook"/>
                  <a:ea typeface="Calibri"/>
                </a:rPr>
                <a:t>Misja</a:t>
              </a:r>
              <a:r>
                <a:rPr b="1" lang="pl-PL" sz="1100" spc="-1" strike="noStrike">
                  <a:solidFill>
                    <a:srgbClr val="ffffff"/>
                  </a:solidFill>
                  <a:latin typeface="Century Schoolbook"/>
                  <a:ea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5" name="Łącznik prosty 12"/>
            <p:cNvSpPr/>
            <p:nvPr/>
          </p:nvSpPr>
          <p:spPr>
            <a:xfrm>
              <a:off x="6588360" y="1303560"/>
              <a:ext cx="0" cy="79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aphicFrame>
        <p:nvGraphicFramePr>
          <p:cNvPr id="436" name=""/>
          <p:cNvGraphicFramePr/>
          <p:nvPr/>
        </p:nvGraphicFramePr>
        <p:xfrm>
          <a:off x="1258920" y="2347920"/>
          <a:ext cx="6064200" cy="793800"/>
        </p:xfrm>
        <a:graphic>
          <a:graphicData uri="http://schemas.openxmlformats.org/drawingml/2006/table">
            <a:tbl>
              <a:tblPr/>
              <a:tblGrid>
                <a:gridCol w="2022480"/>
                <a:gridCol w="2020680"/>
                <a:gridCol w="202104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Opcja strategiczn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Opcja strategiczn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Opcja strategiczn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pic>
        <p:nvPicPr>
          <p:cNvPr id="437" name="Tabela 3" descr=""/>
          <p:cNvPicPr/>
          <p:nvPr/>
        </p:nvPicPr>
        <p:blipFill>
          <a:blip r:embed="rId1"/>
          <a:stretch/>
        </p:blipFill>
        <p:spPr>
          <a:xfrm>
            <a:off x="1762200" y="3151080"/>
            <a:ext cx="1157040" cy="2292480"/>
          </a:xfrm>
          <a:prstGeom prst="rect">
            <a:avLst/>
          </a:prstGeom>
          <a:ln w="0">
            <a:noFill/>
          </a:ln>
        </p:spPr>
      </p:pic>
      <p:pic>
        <p:nvPicPr>
          <p:cNvPr id="438" name="Tabela 11" descr=""/>
          <p:cNvPicPr/>
          <p:nvPr/>
        </p:nvPicPr>
        <p:blipFill>
          <a:blip r:embed="rId2"/>
          <a:stretch/>
        </p:blipFill>
        <p:spPr>
          <a:xfrm>
            <a:off x="3346560" y="3157560"/>
            <a:ext cx="1158840" cy="235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1332000" y="5589720"/>
          <a:ext cx="3384360" cy="525240"/>
        </p:xfrm>
        <a:graphic>
          <a:graphicData uri="http://schemas.openxmlformats.org/drawingml/2006/table">
            <a:tbl>
              <a:tblPr/>
              <a:tblGrid>
                <a:gridCol w="1152360"/>
                <a:gridCol w="1150920"/>
                <a:gridCol w="10810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Cel operacyjny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Cel operacyjny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Cel operacyjny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3419640" y="5084640"/>
          <a:ext cx="2592360" cy="411120"/>
        </p:xfrm>
        <a:graphic>
          <a:graphicData uri="http://schemas.openxmlformats.org/drawingml/2006/table">
            <a:tbl>
              <a:tblPr/>
              <a:tblGrid>
                <a:gridCol w="1296720"/>
                <a:gridCol w="12956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Cel operacyjny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Century Schoolbook"/>
                          <a:ea typeface="Arial"/>
                        </a:rPr>
                        <a:t>Cel operacyjny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cxnSp>
        <p:nvCxnSpPr>
          <p:cNvPr id="441" name="Łącznik prosty ze strzałką 7"/>
          <p:cNvCxnSpPr/>
          <p:nvPr/>
        </p:nvCxnSpPr>
        <p:spPr>
          <a:xfrm>
            <a:off x="2050560" y="5084280"/>
            <a:ext cx="1080" cy="505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Łącznik prosty ze strzałką 16"/>
          <p:cNvCxnSpPr/>
          <p:nvPr/>
        </p:nvCxnSpPr>
        <p:spPr>
          <a:xfrm>
            <a:off x="3851280" y="4611600"/>
            <a:ext cx="434160" cy="47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5f6d"/>
                </a:solidFill>
                <a:latin typeface="Century Schoolbook"/>
              </a:rPr>
              <a:t>ELEMENTY STRATEGII ROZWOJU SZKOŁY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Trójkąt równoramienny 8"/>
          <p:cNvSpPr/>
          <p:nvPr/>
        </p:nvSpPr>
        <p:spPr>
          <a:xfrm>
            <a:off x="539640" y="1254240"/>
            <a:ext cx="7777440" cy="1057320"/>
          </a:xfrm>
          <a:prstGeom prst="triangle">
            <a:avLst>
              <a:gd name="adj" fmla="val 49495"/>
            </a:avLst>
          </a:prstGeom>
          <a:solidFill>
            <a:srgbClr val="ffe63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Wizja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ole tekstowe 57"/>
          <p:cNvSpPr/>
          <p:nvPr/>
        </p:nvSpPr>
        <p:spPr>
          <a:xfrm>
            <a:off x="457200" y="2311560"/>
            <a:ext cx="7859880" cy="426240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Schoolbook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47" name="Grupa 15"/>
          <p:cNvGrpSpPr/>
          <p:nvPr/>
        </p:nvGrpSpPr>
        <p:grpSpPr>
          <a:xfrm>
            <a:off x="5364000" y="765000"/>
            <a:ext cx="1944720" cy="1284480"/>
            <a:chOff x="5364000" y="765000"/>
            <a:chExt cx="1944720" cy="1284480"/>
          </a:xfrm>
        </p:grpSpPr>
        <p:sp>
          <p:nvSpPr>
            <p:cNvPr id="448" name="Schemat blokowy: taśma dziurkowana 9"/>
            <p:cNvSpPr/>
            <p:nvPr/>
          </p:nvSpPr>
          <p:spPr>
            <a:xfrm>
              <a:off x="5364000" y="765000"/>
              <a:ext cx="1944720" cy="664560"/>
            </a:xfrm>
            <a:prstGeom prst="flowChartPunchedTape">
              <a:avLst/>
            </a:prstGeom>
            <a:solidFill>
              <a:srgbClr val="b32c16"/>
            </a:solidFill>
            <a:ln w="34920">
              <a:solidFill>
                <a:srgbClr val="ffffff"/>
              </a:solidFill>
              <a:miter/>
            </a:ln>
            <a:effectLst>
              <a:outerShdw dist="2484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ffff"/>
                  </a:solidFill>
                  <a:latin typeface="Century Schoolbook"/>
                  <a:ea typeface="Calibri"/>
                </a:rPr>
                <a:t>Misja</a:t>
              </a:r>
              <a:r>
                <a:rPr b="1" lang="pl-PL" sz="1100" spc="-1" strike="noStrike">
                  <a:solidFill>
                    <a:srgbClr val="ffffff"/>
                  </a:solidFill>
                  <a:latin typeface="Century Schoolbook"/>
                  <a:ea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9" name="Łącznik prosty 12"/>
            <p:cNvSpPr/>
            <p:nvPr/>
          </p:nvSpPr>
          <p:spPr>
            <a:xfrm>
              <a:off x="7297920" y="1254960"/>
              <a:ext cx="0" cy="79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450" name="Obraz 17" descr=""/>
          <p:cNvPicPr/>
          <p:nvPr/>
        </p:nvPicPr>
        <p:blipFill>
          <a:blip r:embed="rId1"/>
          <a:stretch/>
        </p:blipFill>
        <p:spPr>
          <a:xfrm>
            <a:off x="1757520" y="2486160"/>
            <a:ext cx="5257800" cy="1047600"/>
          </a:xfrm>
          <a:prstGeom prst="rect">
            <a:avLst/>
          </a:prstGeom>
          <a:ln w="0">
            <a:noFill/>
          </a:ln>
        </p:spPr>
      </p:pic>
      <p:pic>
        <p:nvPicPr>
          <p:cNvPr id="451" name="Obraz 18" descr=""/>
          <p:cNvPicPr/>
          <p:nvPr/>
        </p:nvPicPr>
        <p:blipFill>
          <a:blip r:embed="rId2"/>
          <a:stretch/>
        </p:blipFill>
        <p:spPr>
          <a:xfrm>
            <a:off x="2139840" y="3591000"/>
            <a:ext cx="4498920" cy="981000"/>
          </a:xfrm>
          <a:prstGeom prst="rect">
            <a:avLst/>
          </a:prstGeom>
          <a:ln w="0">
            <a:noFill/>
          </a:ln>
        </p:spPr>
      </p:pic>
      <p:pic>
        <p:nvPicPr>
          <p:cNvPr id="452" name="Obraz 19" descr=""/>
          <p:cNvPicPr/>
          <p:nvPr/>
        </p:nvPicPr>
        <p:blipFill>
          <a:blip r:embed="rId3"/>
          <a:stretch/>
        </p:blipFill>
        <p:spPr>
          <a:xfrm>
            <a:off x="963720" y="4925880"/>
            <a:ext cx="2938320" cy="981360"/>
          </a:xfrm>
          <a:prstGeom prst="rect">
            <a:avLst/>
          </a:prstGeom>
          <a:ln w="0">
            <a:noFill/>
          </a:ln>
        </p:spPr>
      </p:pic>
      <p:pic>
        <p:nvPicPr>
          <p:cNvPr id="453" name="Obraz 20" descr=""/>
          <p:cNvPicPr/>
          <p:nvPr/>
        </p:nvPicPr>
        <p:blipFill>
          <a:blip r:embed="rId4"/>
          <a:stretch/>
        </p:blipFill>
        <p:spPr>
          <a:xfrm>
            <a:off x="4565520" y="4853160"/>
            <a:ext cx="293868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0:58:41Z</dcterms:created>
  <dc:creator>Snis Błękit 2</dc:creator>
  <dc:description/>
  <dc:language>en-US</dc:language>
  <cp:lastModifiedBy>S. Łukasik - Gębska</cp:lastModifiedBy>
  <cp:lastPrinted>2013-12-11T10:02:03Z</cp:lastPrinted>
  <dcterms:modified xsi:type="dcterms:W3CDTF">2015-11-07T11:02:08Z</dcterms:modified>
  <cp:revision>161</cp:revision>
  <dc:subject/>
  <dc:title>„Przywództwo i zarządzanie w oświacie- opracowanie i wdrożenie systemu kształcenia i doskonalenia dyrektorów szkół/ placówek"</dc:title>
</cp:coreProperties>
</file>