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2.png" ContentType="image/png"/>
  <Override PartName="/ppt/media/image10.wmf" ContentType="image/x-wmf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EDF6-F1A0-4A8D-A929-819FE479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BE97-CE14-4CC0-B662-E8D4E98A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9FE8-344E-4B37-90A6-7B59C27C7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8C73-E2CA-42DB-948E-59654827E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06EE-6669-4D69-89F6-D1F13FD4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E11F-71DD-4C27-93CD-107F3E38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F93C-8427-42CF-BA45-94920626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392A-B6B2-4D60-A8E6-AA8686FA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D77C-34A2-4CE7-BE70-7E51FF27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B1BE-3BF7-4869-B81A-5FE13C7E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3210-19B8-45E0-8E25-2C8AB5CA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01E7-6715-424C-8035-C75E7BBF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REZENTACJA_SLAJDY"/>
          <p:cNvPicPr/>
          <p:nvPr/>
        </p:nvPicPr>
        <p:blipFill>
          <a:blip r:embed="rId2"/>
          <a:stretch/>
        </p:blipFill>
        <p:spPr>
          <a:xfrm>
            <a:off x="0" y="0"/>
            <a:ext cx="9144000" cy="1068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636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16365"/>
              </a:solidFill>
              <a:latin typeface="Arial"/>
            </a:endParaRPr>
          </a:p>
          <a:p>
            <a:pPr lvl="1" marL="343080" indent="-343080" algn="ctr">
              <a:spcBef>
                <a:spcPts val="799"/>
              </a:spcBef>
              <a:buClr>
                <a:srgbClr val="616365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636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16365"/>
              </a:solidFill>
              <a:latin typeface="Arial"/>
            </a:endParaRPr>
          </a:p>
          <a:p>
            <a:pPr lvl="2" marL="343080" indent="-343080" algn="ctr">
              <a:spcBef>
                <a:spcPts val="799"/>
              </a:spcBef>
              <a:buClr>
                <a:srgbClr val="616365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636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16365"/>
              </a:solidFill>
              <a:latin typeface="Arial"/>
            </a:endParaRPr>
          </a:p>
          <a:p>
            <a:pPr lvl="3" marL="343080" indent="-343080" algn="ctr">
              <a:spcBef>
                <a:spcPts val="799"/>
              </a:spcBef>
              <a:buClr>
                <a:srgbClr val="616365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636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16365"/>
              </a:solidFill>
              <a:latin typeface="Arial"/>
            </a:endParaRPr>
          </a:p>
          <a:p>
            <a:pPr lvl="4" marL="343080" indent="-343080" algn="ctr">
              <a:spcBef>
                <a:spcPts val="799"/>
              </a:spcBef>
              <a:buClr>
                <a:srgbClr val="616365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636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16365"/>
              </a:solidFill>
              <a:latin typeface="Arial"/>
            </a:endParaRPr>
          </a:p>
          <a:p>
            <a:pPr lvl="5"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636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16365"/>
              </a:solidFill>
              <a:latin typeface="Arial"/>
            </a:endParaRPr>
          </a:p>
          <a:p>
            <a:pPr lvl="6"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636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9BE4-A0AF-4070-B832-6AFAE00EEC5A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KIW_MEN"/>
          <p:cNvPicPr/>
          <p:nvPr/>
        </p:nvPicPr>
        <p:blipFill>
          <a:blip r:embed="rId3"/>
          <a:stretch/>
        </p:blipFill>
        <p:spPr>
          <a:xfrm>
            <a:off x="2486160" y="6205680"/>
            <a:ext cx="419076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glowna"/>
          <p:cNvPicPr/>
          <p:nvPr/>
        </p:nvPicPr>
        <p:blipFill>
          <a:blip r:embed="rId1"/>
          <a:stretch/>
        </p:blipFill>
        <p:spPr>
          <a:xfrm>
            <a:off x="324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3240" y="3284640"/>
            <a:ext cx="9140760" cy="28810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995640" y="6308640"/>
            <a:ext cx="1513080" cy="4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2" descr=""/>
          <p:cNvPicPr/>
          <p:nvPr/>
        </p:nvPicPr>
        <p:blipFill>
          <a:blip r:embed="rId2"/>
          <a:stretch/>
        </p:blipFill>
        <p:spPr>
          <a:xfrm>
            <a:off x="4356000" y="6353280"/>
            <a:ext cx="863640" cy="388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10920" y="3573360"/>
            <a:ext cx="777708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9933"/>
                </a:solidFill>
                <a:latin typeface="Arial"/>
              </a:rPr>
              <a:t>Główne kierunki krajowej polityki edukacyjnej do roku 2020</a:t>
            </a:r>
            <a:endParaRPr b="0" lang="en-US" sz="2800" spc="-1" strike="noStrike">
              <a:solidFill>
                <a:srgbClr val="616365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16365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9933"/>
                </a:solidFill>
                <a:latin typeface="Arial"/>
              </a:rPr>
              <a:t>Warszawa, 4 kwietnia 2013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8" name="Symbol zastępczy numeru slajdu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6600"/>
                </a:solidFill>
                <a:latin typeface="Arial"/>
              </a:rPr>
              <a:t>3. Wyzwania polskiej edukacji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Podstawę wyboru głównych kierunków polityki edukacyjnej stanowi </a:t>
            </a:r>
            <a:r>
              <a:rPr b="1" lang="pl-PL" sz="2400" spc="-1" strike="noStrike">
                <a:solidFill>
                  <a:srgbClr val="cc6600"/>
                </a:solidFill>
                <a:latin typeface="Arial"/>
              </a:rPr>
              <a:t>diagnoza stanu i wyzwań edukacji</a:t>
            </a: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 oparta się na: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wyżej wymienionych krajowych dokumentach strategicznych 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ocenach i zaleceniach instytucji UE w sprawie rozwoju edukacji w Polsce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Zalecenia Rady UE w sprawie reformowania edukacji w Polsce wydawane są już od około dekady – najpierw w odniesieniu do celów Europejskiej Strategii Zatrudnienia, następnie Strategii Lizbońskiej, a obecnie w odniesieniu do celów </a:t>
            </a:r>
            <a:r>
              <a:rPr b="1" lang="pl-PL" sz="2400" spc="-1" strike="noStrike">
                <a:solidFill>
                  <a:srgbClr val="cc6600"/>
                </a:solidFill>
                <a:latin typeface="Arial"/>
              </a:rPr>
              <a:t>strategii Europa 2020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1" name="Symbol zastępczy numeru slajdu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C65C-A7F5-4089-B7D0-BA1AFFFED635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6600"/>
                </a:solidFill>
                <a:latin typeface="Arial"/>
              </a:rPr>
              <a:t>3. Wyzwania polskiej edukacji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Do najważniejszych wyzwań polskiej edukacji określonych w strategiach rozwoju i zaleceniach Rady UE należy: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66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poprawa dostępności form </a:t>
            </a:r>
            <a:r>
              <a:rPr b="1" lang="pl-PL" sz="2000" spc="-1" strike="noStrike">
                <a:solidFill>
                  <a:srgbClr val="cc6600"/>
                </a:solidFill>
                <a:latin typeface="Arial"/>
              </a:rPr>
              <a:t>wczesnej edukacji i opieki</a:t>
            </a: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, w tym edukacji przedszkolnej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66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lepsze dostosowanie kształcenia i szkolenia </a:t>
            </a:r>
            <a:r>
              <a:rPr b="1" lang="pl-PL" sz="2000" spc="-1" strike="noStrike">
                <a:solidFill>
                  <a:srgbClr val="cc6600"/>
                </a:solidFill>
                <a:latin typeface="Arial"/>
              </a:rPr>
              <a:t>do potrzeb rynku pracy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66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poprawa</a:t>
            </a:r>
            <a:r>
              <a:rPr b="1" lang="pl-PL" sz="2000" spc="-1" strike="noStrike">
                <a:solidFill>
                  <a:srgbClr val="cc6600"/>
                </a:solidFill>
                <a:latin typeface="Arial"/>
              </a:rPr>
              <a:t> jakość edukacji </a:t>
            </a: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(kształcenia i szkolenia)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66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opieranie polityki edukacyjnej na kompleksowej i spójnej </a:t>
            </a:r>
            <a:r>
              <a:rPr b="1" lang="pl-PL" sz="2000" spc="-1" strike="noStrike">
                <a:solidFill>
                  <a:srgbClr val="cc6600"/>
                </a:solidFill>
                <a:latin typeface="Arial"/>
              </a:rPr>
              <a:t>strategii uczenia się przez całe życie</a:t>
            </a: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, ze szczególnym uwzględnieniem poprawy w zakresie upowszechnienia </a:t>
            </a:r>
            <a:r>
              <a:rPr b="1" lang="pl-PL" sz="2000" spc="-1" strike="noStrike">
                <a:solidFill>
                  <a:srgbClr val="cc6600"/>
                </a:solidFill>
                <a:latin typeface="Arial"/>
              </a:rPr>
              <a:t>uczenia się dorosłych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4" name="Symbol zastępczy numeru slajdu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03D2-F564-4AC5-BCD4-EEF9FBC3042A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6600"/>
                </a:solidFill>
                <a:latin typeface="Arial"/>
              </a:rPr>
              <a:t>3. Wyzwania polskiej edukacji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34920" y="2492280"/>
            <a:ext cx="504036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7" name="Symbol zastępczy numeru slajdu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0555-04CB-41B8-B43D-E4A4AA15D4EB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3106800" y="1989000"/>
            <a:ext cx="5330880" cy="39610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2987640" y="1268280"/>
            <a:ext cx="5516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cc6600"/>
                </a:solidFill>
                <a:latin typeface="Arial"/>
              </a:rPr>
              <a:t>Europejski wskaźnik wczesnej edukacji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3399"/>
                </a:solidFill>
                <a:latin typeface="Arial"/>
              </a:rPr>
              <a:t>Procent dzieci od 4 r.ż. do wieku obowiązku szkolnego objętych wczesną edukacją w UE i w Pols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39640" y="1625760"/>
            <a:ext cx="216072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c6600"/>
                </a:solidFill>
                <a:latin typeface="Arial"/>
              </a:rPr>
              <a:t>Wyzwanie w zakresie wczesnej edukacji i opie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6699"/>
                </a:solidFill>
                <a:latin typeface="Arial"/>
              </a:rPr>
              <a:t>Mimo szybkiej poprawy w ostatnich latach upowszechnienie wczesnej edukacji w Polsce jest nadal wyraźnie niższe niż w 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6600"/>
                </a:solidFill>
                <a:latin typeface="Arial"/>
              </a:rPr>
              <a:t>3. Wyzwania polskiej edukacji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4920" y="2492280"/>
            <a:ext cx="828036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3" name="Symbol zastępczy numeru slajdu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69F5-E508-405B-9D9D-4937A03D39F3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3564000" y="1217520"/>
            <a:ext cx="52722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336699"/>
                </a:solidFill>
                <a:latin typeface="Arial"/>
              </a:rPr>
              <a:t>Zróżnicowanie poziomu uczestnictwa dzieci w wieku 3-4 lat w wychowaniu przedszkolnym w powiatach (w procentach), 2011/20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747720" y="1911240"/>
            <a:ext cx="21607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c6600"/>
                </a:solidFill>
                <a:latin typeface="Arial"/>
              </a:rPr>
              <a:t>Wyzwanie w zakresie wczesnej edukacji i opie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6699"/>
                </a:solidFill>
                <a:latin typeface="Arial"/>
              </a:rPr>
              <a:t>Poziom upowszechnienia edukacji przedszkolnej </a:t>
            </a:r>
            <a:br>
              <a:rPr sz="1800"/>
            </a:br>
            <a:r>
              <a:rPr b="1" lang="pl-PL" sz="1800" spc="-1" strike="noStrike">
                <a:solidFill>
                  <a:srgbClr val="336699"/>
                </a:solidFill>
                <a:latin typeface="Arial"/>
              </a:rPr>
              <a:t>w Polsce jest silnie zróżnicowany terytorialn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2"/>
          <p:cNvGrpSpPr/>
          <p:nvPr/>
        </p:nvGrpSpPr>
        <p:grpSpPr>
          <a:xfrm>
            <a:off x="3637080" y="1774800"/>
            <a:ext cx="4967280" cy="4248000"/>
            <a:chOff x="3637080" y="1774800"/>
            <a:chExt cx="4967280" cy="4248000"/>
          </a:xfrm>
        </p:grpSpPr>
        <p:pic>
          <p:nvPicPr>
            <p:cNvPr id="87" name="Obraz 0" descr="Dzieci_przedszkola.bmp"/>
            <p:cNvPicPr/>
            <p:nvPr/>
          </p:nvPicPr>
          <p:blipFill>
            <a:blip r:embed="rId1"/>
            <a:srcRect l="12633" t="4139" r="10801" b="3987"/>
            <a:stretch/>
          </p:blipFill>
          <p:spPr>
            <a:xfrm>
              <a:off x="3637440" y="1774800"/>
              <a:ext cx="4966920" cy="42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Obraz 1" descr="Dzieci_przedszkola_leg.bmp"/>
            <p:cNvPicPr/>
            <p:nvPr/>
          </p:nvPicPr>
          <p:blipFill>
            <a:blip r:embed="rId2"/>
            <a:srcRect l="4792" t="6087" r="41494" b="27032"/>
            <a:stretch/>
          </p:blipFill>
          <p:spPr>
            <a:xfrm>
              <a:off x="3637080" y="5222880"/>
              <a:ext cx="150264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6600"/>
                </a:solidFill>
                <a:latin typeface="Arial"/>
              </a:rPr>
              <a:t>3. Wyzwania polskiej edukacji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0" name="Symbol zastępczy numeru slajdu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F231-51FB-424C-ADBA-06F949F1ED4B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466560" y="1951200"/>
            <a:ext cx="81946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336699"/>
                </a:solidFill>
                <a:latin typeface="Arial"/>
              </a:rPr>
              <a:t>Najlepsi uczniowie w czytaniu, matematyce i naukach przyrodniczych w państwach OECD – procent uczniów osiągających najwyższe poziomy kompetencji, tj. poziom 5 (kolor jaśniejszy) i  poziom 6 (kolor ciemniejszy) w badaniu PISA 200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95280" y="1197000"/>
            <a:ext cx="8280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c6600"/>
                </a:solidFill>
                <a:latin typeface="Arial"/>
              </a:rPr>
              <a:t>Wyzwanie w zakresie jakości kształce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6699"/>
                </a:solidFill>
                <a:latin typeface="Arial"/>
              </a:rPr>
              <a:t>Przykład odsetka najlepszych uczniów (według badania PIS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611280" y="2530440"/>
            <a:ext cx="79214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6600"/>
                </a:solidFill>
                <a:latin typeface="Arial"/>
              </a:rPr>
              <a:t>3. Wyzwania polskiej edukacji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634920" y="2492280"/>
            <a:ext cx="504036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6" name="Symbol zastępczy numeru slajdu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CB28-9C89-41AB-8F84-CCEDCB5990C1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68440" y="2205000"/>
            <a:ext cx="81072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336699"/>
                </a:solidFill>
                <a:latin typeface="Arial"/>
              </a:rPr>
              <a:t>Stopa bezrobocia  absolwentów* w Polsce w latach 2003-2012 (I kwartał) według wykształcen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95280" y="1268280"/>
            <a:ext cx="828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c6600"/>
                </a:solidFill>
                <a:latin typeface="Arial"/>
              </a:rPr>
              <a:t>Wyzwanie w zakresie dostosowania kształcenia do potrzeb rynku prac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6699"/>
                </a:solidFill>
                <a:latin typeface="Arial"/>
              </a:rPr>
              <a:t>Przykład bezrobocia absolwentów różnego typu szkó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568440" y="2494080"/>
            <a:ext cx="810720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6600"/>
                </a:solidFill>
                <a:latin typeface="Arial"/>
              </a:rPr>
              <a:t>3. Wyzwania polskiej edukacji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01" name="Symbol zastępczy numeru slajdu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13A6-FFA6-476F-BFDB-037DEDA6667E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333360" y="1989000"/>
            <a:ext cx="83710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336699"/>
                </a:solidFill>
                <a:latin typeface="Arial"/>
              </a:rPr>
              <a:t>Uczestnictwo osób w wieku 25-64 lat w kształceniu i szkoleniu w UE, 2011 – w procentach </a:t>
            </a:r>
            <a:r>
              <a:rPr b="0" lang="pl-PL" sz="1100" spc="-1" strike="noStrike">
                <a:solidFill>
                  <a:srgbClr val="336699"/>
                </a:solidFill>
                <a:latin typeface="Arial"/>
              </a:rPr>
              <a:t>(cztery tygodnie przed badaniem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78000" y="1125360"/>
            <a:ext cx="8280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c6600"/>
                </a:solidFill>
                <a:latin typeface="Arial"/>
              </a:rPr>
              <a:t>Wyzwanie w zakresie uczenia się dorosły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6699"/>
                </a:solidFill>
                <a:latin typeface="Arial"/>
              </a:rPr>
              <a:t>Uczestnictwo dorosłych powyżej 24 roku życia w kształceniu i szkoleni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Wykres 1" descr=""/>
          <p:cNvPicPr/>
          <p:nvPr/>
        </p:nvPicPr>
        <p:blipFill>
          <a:blip r:embed="rId1"/>
          <a:stretch/>
        </p:blipFill>
        <p:spPr>
          <a:xfrm>
            <a:off x="2881440" y="2298600"/>
            <a:ext cx="3490920" cy="1851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677880" y="4508640"/>
            <a:ext cx="3317760" cy="1565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3"/>
          <a:stretch/>
        </p:blipFill>
        <p:spPr>
          <a:xfrm>
            <a:off x="5241960" y="4535640"/>
            <a:ext cx="3354480" cy="15652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677880" y="4162320"/>
            <a:ext cx="33177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336699"/>
                </a:solidFill>
                <a:latin typeface="Arial"/>
              </a:rPr>
              <a:t>Uczestnictwo w edukacji formalnej (2004-2011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148360" y="4221000"/>
            <a:ext cx="36716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336699"/>
                </a:solidFill>
                <a:latin typeface="Arial"/>
              </a:rPr>
              <a:t>Uczestnictwo w edukacji pozaformalnej (2004-2011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6600"/>
                </a:solidFill>
                <a:latin typeface="Arial"/>
              </a:rPr>
              <a:t>3. Wyzwania polskiej edukacji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6600"/>
                </a:solidFill>
                <a:latin typeface="Arial"/>
              </a:rPr>
              <a:t>Zalecenia Rady Unii Europejskiej </a:t>
            </a: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w sprawie krajowego programu reform Polski z 2012 r. w zakresie edukacji wskazują na konieczność: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1" marL="447840" indent="-266760">
              <a:spcBef>
                <a:spcPts val="49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zwiększenia dostępności programów praktyk zawodowych i uczenia się w miejscu pracy, podniesienia jakości szkoleń zawodowych, zapewnienia powszechnego dostępu do wysokiej jakości edukacji i lepszego dopasowania kształcenia do potrzeb rynku pracy i przyjęcia strategii uczenia się przez całe życie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lvl="1" marL="447840" indent="-266760">
              <a:spcBef>
                <a:spcPts val="49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podwyższenia wskaźnika przyjmowania dzieci zarówno do placówek opieki nad najmłodszymi dziećmi, jak i placówek przedszkolnych poprzez zapewnienie stałego finansowania oraz inwestycji w infrastrukturę publiczną, zapewnienie wykwalifikowanego personelu i przystępnych cen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lvl="1"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1" name="Symbol zastępczy numeru slajdu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FB3A-AB1B-4F25-8F52-D39C2A2C649C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6600"/>
                </a:solidFill>
                <a:latin typeface="Arial"/>
              </a:rPr>
              <a:t>4. Główne kierunki krajowej polityki edukacyjnej 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7848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Strategiczna wizja działań do roku 2020  opiera się na </a:t>
            </a:r>
            <a:r>
              <a:rPr b="1" lang="pl-PL" sz="2400" spc="-1" strike="noStrike">
                <a:solidFill>
                  <a:srgbClr val="cc6600"/>
                </a:solidFill>
                <a:latin typeface="Arial"/>
              </a:rPr>
              <a:t>czterech głównych celach </a:t>
            </a: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krajowej polityki edukacyjnej (z wyłączeniem szkolnictwa wyższego):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1.</a:t>
            </a: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Dobry start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Kompetencje – klucz do przyszłości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Wysoka jakość edukacji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Kompetencje dorosłych – stały rozwój 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4" name="Symbol zastępczy numeru slajdu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4B75-2FDF-4368-A571-B022DA8D6018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6600"/>
                </a:solidFill>
                <a:latin typeface="Arial"/>
              </a:rPr>
              <a:t>4. Główne kierunki krajowej polityki edukacyjnej 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921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Cel strategiczny 1:  Dobry start  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Upowszechnienie wysokiej jakości </a:t>
            </a:r>
            <a:r>
              <a:rPr b="1" lang="pl-PL" sz="2000" spc="-1" strike="noStrike">
                <a:solidFill>
                  <a:srgbClr val="cc6600"/>
                </a:solidFill>
                <a:latin typeface="Arial"/>
              </a:rPr>
              <a:t>wczesnej opieki i edukacji</a:t>
            </a: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, w tym ukierunkowanie działań na zindywidualizowane podejście do potrzeb najmłodszych dzieci oraz efektywną współpracę ze środowiskiem domowym i wsparcie rodziców w opiece nad dziećmi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Stworzenie wszystkim dzieciom w wieku od 3 do 5 lat miejsca realizacji wychowania przedszkolnego; zapewnienie łagodnego przejścia z edukacji przedszkolnej do szkoły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Upowszechnianie wczesnej edukacji powinno przyczyniać się do wyrównywania szans edukacyjnych dzieci oraz lepszego rozwoju ich kompetencji do uczenia się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7" name="Symbol zastępczy numeru slajdu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2235-645D-48FA-A9C2-9C5E3EEAE9CA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28036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6600"/>
                </a:solidFill>
                <a:latin typeface="Arial"/>
              </a:rPr>
              <a:t>Porządek prezentacji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84512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Powiązanie krajowej polityki edukacyjnej ze strategiami rozwoju kraju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Znaczenie idei uczenia się przez całe życie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Wyzwania polskiej edukacji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Główne kierunki krajowej polityki edukacyjnej 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Priorytety inwestycyjne UE w edukacji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Krajowe cele inwestycyjne zorientowane na wykorzystanie funduszy UE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1" name="Symbol zastępczy numeru slajdu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A465-DEE6-461C-9F52-D556B53BAA6E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6600"/>
                </a:solidFill>
                <a:latin typeface="Arial"/>
              </a:rPr>
              <a:t>4. Główne kierunki krajowej polityki edukacyjnej 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Cel strategiczny 2:  Kompetencje – klucz do przyszłości   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Współczesna szkoła musi kształtować kompetencje, które pomogą dzisiejszym uczniom sprostać wyzwaniom rynku pracy i społeczeństwa w przyszłości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Coraz ważniejsze są </a:t>
            </a:r>
            <a:r>
              <a:rPr b="1" lang="pl-PL" sz="2000" spc="-1" strike="noStrike">
                <a:solidFill>
                  <a:srgbClr val="cc6600"/>
                </a:solidFill>
                <a:latin typeface="Arial"/>
              </a:rPr>
              <a:t>szerokie kompetencje</a:t>
            </a: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, ułatwiające zmianę zawodu na dynamicznie zmieniającym się rynku pracy, a także sprostanie wyzwaniom technologicznym i społecznym przyszłości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Ponadto, uczniowie muszą nabyć w szkole </a:t>
            </a:r>
            <a:r>
              <a:rPr b="1" lang="pl-PL" sz="2000" spc="-1" strike="noStrike">
                <a:solidFill>
                  <a:srgbClr val="cc6600"/>
                </a:solidFill>
                <a:latin typeface="Arial"/>
              </a:rPr>
              <a:t>kompetencje przydatne już teraz na rynku pracy</a:t>
            </a: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, w tym zarówno wiedzę praktyczną związaną z określonymi zawodami jak i kompetencje przekrojowe, takie jak zdolność do pracy w zespole czy kreatywność, które są coraz ważniejsze we wszystkich zawodach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0" name="Symbol zastępczy numeru slajdu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06F9-090A-4394-8479-DA666BDB76E9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6600"/>
                </a:solidFill>
                <a:latin typeface="Arial"/>
              </a:rPr>
              <a:t>4. Główne kierunki krajowej polityki edukacyjnej 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2803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Cel strategiczny 3: Wysoka jakość edukacji    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6600"/>
                </a:solidFill>
                <a:latin typeface="Arial"/>
              </a:rPr>
              <a:t>Skuteczność całego systemu oświaty </a:t>
            </a: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zależy od skuteczności działania poszczególnych szkół i placówek edukacyjnych, od tego w jakim stopniu potrafią odpowiadać na indywidualne potrzeby każdego ucznia i dobrze współdziałać ze środowiskiem, w którym funkcjonują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Tak jak w centrum działania szkoły jest uczący się, któremu szkoła pomaga w rozwoju, tak w </a:t>
            </a:r>
            <a:r>
              <a:rPr b="1" lang="pl-PL" sz="2000" spc="-1" strike="noStrike">
                <a:solidFill>
                  <a:srgbClr val="cc6600"/>
                </a:solidFill>
                <a:latin typeface="Arial"/>
              </a:rPr>
              <a:t>centrum działań systemowych </a:t>
            </a: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jest szkoła, która jest wspierana w rozwoju, doskonaleniu metod i warunków nauczania i wychowania, ulepszaniu organizacji pracy, oraz stałym podnoszeniu kompetencji kadry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3" name="Symbol zastępczy numeru slajdu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66E3-133E-4D9C-B980-6A6EF430D21D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6600"/>
                </a:solidFill>
                <a:latin typeface="Arial"/>
              </a:rPr>
              <a:t>4. Główne kierunki krajowej polityki edukacyjnej 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4072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Cel strategiczny 4:  Kompetencje dorosłych – stały rozwój    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Zmiany na rynku pracy wymagają od </a:t>
            </a:r>
            <a:r>
              <a:rPr b="1" lang="pl-PL" sz="2000" spc="-1" strike="noStrike">
                <a:solidFill>
                  <a:srgbClr val="cc6600"/>
                </a:solidFill>
                <a:latin typeface="Arial"/>
              </a:rPr>
              <a:t>osób dorosłych </a:t>
            </a: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stałego rozwijania swoich kompetencji i zdobywania nowych kwalifikacji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W tym kontekście konieczne jest </a:t>
            </a:r>
            <a:r>
              <a:rPr b="1" lang="pl-PL" sz="2000" spc="-1" strike="noStrike">
                <a:solidFill>
                  <a:srgbClr val="cc6600"/>
                </a:solidFill>
                <a:latin typeface="Arial"/>
              </a:rPr>
              <a:t>zwiększenie dostępności kształcenia i szkolenia dla dorosłych</a:t>
            </a: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 oraz uświadamianie znaczenia uczenia się przez cały okres dorosłego życia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Realizacji celu będzie sprzyjało promowanie środowiska pracy jako miejsca uczenia się dorosłych, rozwijanie modelu uczenia się dorosłych, którego podstawą jest </a:t>
            </a:r>
            <a:r>
              <a:rPr b="1" lang="pl-PL" sz="2000" spc="-1" strike="noStrike">
                <a:solidFill>
                  <a:srgbClr val="cc6600"/>
                </a:solidFill>
                <a:latin typeface="Arial"/>
              </a:rPr>
              <a:t>uczenie praktyczne </a:t>
            </a: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i wdrażanie nowych standardów i form organizacyjnych szkoleń dla dorosłych, w tym uczenia się na odległość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Szczególnie istotnym zadaniem jest wspieranie edukacji osób z </a:t>
            </a:r>
            <a:r>
              <a:rPr b="1" lang="pl-PL" sz="2000" spc="-1" strike="noStrike">
                <a:solidFill>
                  <a:srgbClr val="cc6600"/>
                </a:solidFill>
                <a:latin typeface="Arial"/>
              </a:rPr>
              <a:t>grup defaworyzowanych</a:t>
            </a: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, w tym bezrobotnych i poszukujących pracy oraz osób niepełnosprawnych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6" name="Symbol zastępczy numeru slajdu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A7CE-DC53-482E-A019-250CFC98E5B2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6600"/>
                </a:solidFill>
                <a:latin typeface="Arial"/>
              </a:rPr>
              <a:t>4. Główne kierunki krajowej polityki edukacyjnej 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921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Cele strategiczne wyznaczają najważniejsze kierunki działań w obszarze edukacji </a:t>
            </a:r>
            <a:br>
              <a:rPr sz="2400"/>
            </a:b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(z wyłączeniem szkolnictwa wyższego)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Cele te obejmują </a:t>
            </a:r>
            <a:r>
              <a:rPr b="1" lang="pl-PL" sz="2400" spc="-1" strike="noStrike">
                <a:solidFill>
                  <a:srgbClr val="cc6600"/>
                </a:solidFill>
                <a:latin typeface="Arial"/>
              </a:rPr>
              <a:t>wszystkie działania w tym </a:t>
            </a: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obszarze podejmowane do roku 2020 </a:t>
            </a:r>
            <a:br>
              <a:rPr sz="2400"/>
            </a:b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i finansowane </a:t>
            </a:r>
            <a:r>
              <a:rPr b="1" lang="pl-PL" sz="2400" spc="-1" strike="noStrike">
                <a:solidFill>
                  <a:srgbClr val="cc6600"/>
                </a:solidFill>
                <a:latin typeface="Arial"/>
              </a:rPr>
              <a:t>ze wszystkich dostępnych źródeł</a:t>
            </a: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: środków budżetu państwa, Europejskiego Funduszu Społecznego oraz innych (np. budżetów jednostek samorządu terytorialnego)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29" name="Symbol zastępczy numeru slajdu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47FA-D464-4840-AD92-390873B385DC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6600"/>
                </a:solidFill>
                <a:latin typeface="Arial"/>
              </a:rPr>
              <a:t>5. Priorytety inwestycyjne UE w edukacji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35344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Zakładamy, że osiągnięcie celów strategicznych krajowej polityki edukacyjnej wspierane będzie przez realizację </a:t>
            </a:r>
            <a:r>
              <a:rPr b="1" lang="pl-PL" sz="2400" spc="-1" strike="noStrike">
                <a:solidFill>
                  <a:srgbClr val="cc6600"/>
                </a:solidFill>
                <a:latin typeface="Arial"/>
              </a:rPr>
              <a:t>dwóch priorytetów inwestycyjnych UE </a:t>
            </a: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ujętych we Wspólnych Ramach Strategicznych 2014-2020: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Ograniczenie zjawiska wczesnego kończenia nauki oraz promowanie równego dostępu do dobrej jakości edukacji elementarnej, kształcenia podstawowego i średniego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Poprawa dostępności uczenia się przez całe życie, podnoszenie umiejętności i kwalifikacji osób i lepsze dopasowanie systemów kształcenia i szkolenia do potrzeb rynku pracy 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32" name="Symbol zastępczy numeru slajdu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27B7-5072-441A-B727-259104B67D6F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6600"/>
                </a:solidFill>
                <a:latin typeface="Arial"/>
              </a:rPr>
              <a:t>6. Krajowe cele inwestycyjne zorientowane na wykorzystanie funduszy UE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7920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Dla realizacji tych dwóch priorytetów MEN proponuje wyznaczenie po trzy </a:t>
            </a:r>
            <a:r>
              <a:rPr b="1" lang="pl-PL" sz="2400" spc="-1" strike="noStrike">
                <a:solidFill>
                  <a:srgbClr val="cc6600"/>
                </a:solidFill>
                <a:latin typeface="Arial"/>
              </a:rPr>
              <a:t>cele inwestycyjne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99"/>
                </a:solidFill>
                <a:latin typeface="Arial"/>
              </a:rPr>
              <a:t>W ramach pierwszego priorytetu UE:</a:t>
            </a:r>
            <a:endParaRPr b="0" lang="en-US" sz="2800" spc="-1" strike="noStrike">
              <a:solidFill>
                <a:srgbClr val="616365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Zwiększenie efektywności systemu zapewniania wysokiej jakości pracy oraz równego dostępu do szkół i przedszkoli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66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Zwiększenie kompetencji kadry zarządzającej oświatą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Rozwój nowoczesnego nauczania poprzez modernizacje treści kształcenia oraz rozwijanie metod aktywnego i praktycznego uczenia się, w tym wykorzystania technologii informacyjno-komunikacyjnych na wszystkich etapach kształcenia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35" name="Symbol zastępczy numeru slajdu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0281-4782-490A-A3FF-8D1D5D6CFC84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6600"/>
                </a:solidFill>
                <a:latin typeface="Arial"/>
              </a:rPr>
              <a:t>6. Krajowe cele inwestycyjne zorientowane na wykorzystanie funduszy UE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Dla realizacji tych dwóch priorytetów MEN proponuje wyznaczenie po trzy </a:t>
            </a:r>
            <a:r>
              <a:rPr b="1" lang="pl-PL" sz="2400" spc="-1" strike="noStrike">
                <a:solidFill>
                  <a:srgbClr val="cc6600"/>
                </a:solidFill>
                <a:latin typeface="Arial"/>
              </a:rPr>
              <a:t>cele inwestycyjne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6699"/>
                </a:solidFill>
                <a:latin typeface="Arial"/>
              </a:rPr>
              <a:t>W ramach drugiego priorytetu UE:</a:t>
            </a:r>
            <a:endParaRPr b="0" lang="en-US" sz="2800" spc="-1" strike="noStrike">
              <a:solidFill>
                <a:srgbClr val="616365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Zwiększenie udziału pracodawców w modernizacji treści i metod kształcenia zawodowego oraz w procesie kształcenia i egzaminowania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Zwiększenie dostępu uczniów do informacji edukacyjno-zawodowej o możliwościach dalszego kształcenia i uczenia się, zintegrowanej z informacją o rynku pracy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Upowszechnianie uczenia się dorosłych zgodnie z ideą uczenia się przez całe życie, z wykorzystaniem narzędzi krajowego systemu kwalifikacji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38" name="Symbol zastępczy numeru slajdu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DCCD-6661-4C78-BE4C-427CCA30496A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85672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6600"/>
                </a:solidFill>
                <a:latin typeface="Arial"/>
              </a:rPr>
              <a:t>6. Krajowe cele inwestycyjne zorientowane na wykorzystanie funduszy UE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9036000" cy="5040360"/>
          </a:xfrm>
          <a:prstGeom prst="rect">
            <a:avLst/>
          </a:prstGeom>
          <a:ln w="0">
            <a:noFill/>
          </a:ln>
        </p:spPr>
      </p:pic>
      <p:sp>
        <p:nvSpPr>
          <p:cNvPr id="141" name="Symbol zastępczy numeru slajdu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016A-3633-45FC-AD81-4B5FC078AB88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6600"/>
                </a:solidFill>
                <a:latin typeface="Arial"/>
              </a:rPr>
              <a:t>1. Powiązanie krajowej polityki edukacyjnej ze strategiami rozwoju kraju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7993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Kierunki krajowej polityki edukacyjnej do roku 2020 zostały określone na podstawie </a:t>
            </a:r>
            <a:r>
              <a:rPr b="1" lang="pl-PL" sz="2400" spc="-1" strike="noStrike">
                <a:solidFill>
                  <a:srgbClr val="cc6600"/>
                </a:solidFill>
                <a:latin typeface="Arial"/>
              </a:rPr>
              <a:t>rządowych dokumentów strategicznych: 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336699"/>
                </a:solidFill>
                <a:latin typeface="Arial"/>
              </a:rPr>
              <a:t>Strategia Rozwoju Kraju 2020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336699"/>
                </a:solidFill>
                <a:latin typeface="Arial"/>
              </a:rPr>
              <a:t>Strategia Rozwoju Kapitału Ludzkiego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336699"/>
                </a:solidFill>
                <a:latin typeface="Arial"/>
              </a:rPr>
              <a:t>Strategia Rozwoju Kapitału Społecznego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336699"/>
                </a:solidFill>
                <a:latin typeface="Arial"/>
              </a:rPr>
              <a:t>Strategia Innowacyjności i Efektywności Gospodarki 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336699"/>
                </a:solidFill>
                <a:latin typeface="Arial"/>
              </a:rPr>
              <a:t>Perspektywa uczenia się przez całe życie  </a:t>
            </a: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(dodatkowy dokument strategiczny wynikający ze zobowiązań międzynarodowych)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4" name="Symbol zastępczy numeru slajdu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F680-273B-4E2F-B628-622050DDF489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6600"/>
                </a:solidFill>
                <a:latin typeface="Arial"/>
              </a:rPr>
              <a:t>1. Powiązanie krajowej polityki edukacyjnej ze strategiami rozwoju kraju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705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cc6600"/>
                </a:solidFill>
                <a:latin typeface="Arial"/>
              </a:rPr>
              <a:t>Strategia Rozwoju Kraju 2020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6699"/>
                </a:solidFill>
                <a:latin typeface="Arial"/>
              </a:rPr>
              <a:t>przyjęta przez Radę Ministrów w dniu 25 września 2012 r.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6699"/>
                </a:solidFill>
                <a:latin typeface="Arial"/>
              </a:rPr>
              <a:t>Działania edukacyjne Strategii Rozwoju Kraju 2020 zostały ujęte głównie w rozdziałach dotyczących: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6699"/>
                </a:solidFill>
                <a:latin typeface="Arial"/>
              </a:rPr>
              <a:t>poprawy jakości kapitału ludzkiego (rozdział II.4.2.)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6699"/>
                </a:solidFill>
                <a:latin typeface="Arial"/>
              </a:rPr>
              <a:t>rozwoju kapitału społecznego (rozdział I.3.2.)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6699"/>
                </a:solidFill>
                <a:latin typeface="Arial"/>
              </a:rPr>
              <a:t>zwiększania aktywności zawodowej (rozdział II.4.1.)</a:t>
            </a: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6699"/>
                </a:solidFill>
                <a:latin typeface="Arial"/>
              </a:rPr>
              <a:t>oraz w ramach zagadnień dotyczących: 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6699"/>
                </a:solidFill>
                <a:latin typeface="Arial"/>
              </a:rPr>
              <a:t>produktywności gospodarki, kadr dla B+R, mobilności zawodowej i przestrzennej, wykorzystania technologii cyfrowych, ubóstwa, podnoszenie jakości i dostępności usług publicznych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6699"/>
                </a:solidFill>
                <a:latin typeface="Arial"/>
              </a:rPr>
              <a:t>Działania te zostały rozwinięte w strategiach zintegrowanych takich, jak </a:t>
            </a:r>
            <a:r>
              <a:rPr b="1" i="1" lang="pl-PL" sz="1800" spc="-1" strike="noStrike">
                <a:solidFill>
                  <a:srgbClr val="336699"/>
                </a:solidFill>
                <a:latin typeface="Arial"/>
              </a:rPr>
              <a:t>Strategia Rozwoju Kapitału Ludzkiego, Strategia Rozwoju Kapitału Społecznego, Strategia Innowacyjności i Efektywności Gospodarki</a:t>
            </a:r>
            <a:r>
              <a:rPr b="1" lang="pl-PL" sz="1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6600"/>
                </a:solidFill>
                <a:latin typeface="Arial"/>
              </a:rPr>
              <a:t>1. Powiązanie krajowej polityki edukacyjnej ze strategiami rozwoju kraju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cc6600"/>
                </a:solidFill>
                <a:latin typeface="Arial"/>
              </a:rPr>
              <a:t>Strategia Rozwoju Kapitału Ludzkiego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6699"/>
                </a:solidFill>
                <a:latin typeface="Arial"/>
              </a:rPr>
              <a:t>projekt został pozytywnie zaopiniowany przez Komitet Koordynacyjny ds. Polityki Rozwoju w dniu 14 marca 2013 r.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Strategia Rozwoju Kapitału Ludzkiego przewiduje działania edukacyjne w następujących obszarach: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6699"/>
                </a:solidFill>
                <a:latin typeface="Arial"/>
              </a:rPr>
              <a:t>6.1 Wczesne dzieciństwo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6699"/>
                </a:solidFill>
                <a:latin typeface="Arial"/>
              </a:rPr>
              <a:t>6.2 Edukacja szkolna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6699"/>
                </a:solidFill>
                <a:latin typeface="Arial"/>
              </a:rPr>
              <a:t>6.4 Aktywność zawodowa, uczenie się dorosłych i rodzicielstwo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Głównym celem podejmowanych działań jest podniesienie poziomu kompetencji oraz kwalifikacji obywateli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6600"/>
                </a:solidFill>
                <a:latin typeface="Arial"/>
              </a:rPr>
              <a:t>1. Powiązanie krajowej polityki edukacyjnej ze strategiami rozwoju kraju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848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cc6600"/>
                </a:solidFill>
                <a:latin typeface="Arial"/>
              </a:rPr>
              <a:t>Strategia Rozwoju Kapitału Społecznego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6699"/>
                </a:solidFill>
                <a:latin typeface="Arial"/>
              </a:rPr>
              <a:t>przyjęta przez Radę Ministrów w dniu 26 marca 2013 r.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Strategia Rozwoju Kapitału Społecznego przewiduje działania edukacyjne w następujących obszarach: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6699"/>
                </a:solidFill>
                <a:latin typeface="Arial"/>
              </a:rPr>
              <a:t>1.1. Wspieranie edukacji formalnej w zakresie metod nauczania sprzyjających kooperacji, kreatywności i komunikacji oraz rozwijanie demokratycznej kultury szkoły.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6699"/>
                </a:solidFill>
                <a:latin typeface="Arial"/>
              </a:rPr>
              <a:t>1.2. Wspieranie edukacji innej niż formalna  ukierunkowanej na kooperację, kreatywność i komunikację społeczną. 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Głównym celem SRKS w obszarze edukacji jest kształtowanie postaw sprzyjających kooperatywności, kreatywności oraz komunikacji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6600"/>
                </a:solidFill>
                <a:latin typeface="Arial"/>
              </a:rPr>
              <a:t>1. Powiązanie krajowej polityki edukacyjnej ze strategiami rozwoju kraju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064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cc6600"/>
                </a:solidFill>
                <a:latin typeface="Arial"/>
              </a:rPr>
              <a:t>Strategia Innowacyjności i Efektywności Gospodarki 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6699"/>
                </a:solidFill>
                <a:latin typeface="Arial"/>
              </a:rPr>
              <a:t>przyjęta przez Radę Ministrów w dniu 15 stycznia 2013 r.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Strategia Innowacyjności i Efektywności Gospodarki przewiduje działania edukacyjne m.in. w następujących obszarach: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6699"/>
                </a:solidFill>
                <a:latin typeface="Arial"/>
              </a:rPr>
              <a:t>Zaangażowanie środowiska biznesu w system uczenia się przez całe życie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6699"/>
                </a:solidFill>
                <a:latin typeface="Arial"/>
              </a:rPr>
              <a:t>Promowanie i rozwój kształcenia i szkolenia zawodowego 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6699"/>
                </a:solidFill>
                <a:latin typeface="Arial"/>
              </a:rPr>
              <a:t>Zwiększenie nacisku w procesie kształcenia kadr na kompetencje kluczowe i umiejętności o charakterze przekrojowym i interdyscyplinarnym </a:t>
            </a: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Realizacja SIEG przyczyni się do poprawy jakości edukacji oraz dostosowania struktury kształcenia do potrzeb gospodarki</a:t>
            </a: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6600"/>
                </a:solidFill>
                <a:latin typeface="Arial"/>
              </a:rPr>
              <a:t>2. Znaczenie idei uczenia się przez całe życie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0920" y="1052640"/>
            <a:ext cx="81421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336699"/>
                </a:solidFill>
                <a:latin typeface="Arial"/>
              </a:rPr>
              <a:t>Perspektywa uczenia się przez całe życie 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6699"/>
                </a:solidFill>
                <a:latin typeface="Arial"/>
              </a:rPr>
              <a:t>(dodatkowy dokument strategiczny wynikający ze zobowiązań międzynarodowych)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336699"/>
                </a:solidFill>
                <a:latin typeface="Arial"/>
              </a:rPr>
              <a:t>projekt został pozytywnie zaopiniowany przez Komitet Koordynacyjny ds. Polityki Rozwoju w dniu 14 marca 2013 r.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cc6600"/>
                </a:solidFill>
                <a:latin typeface="Arial"/>
              </a:rPr>
              <a:t>W Perspektywie wskazuje się na istnienie dużych kontrastów uczenia się w Polsce</a:t>
            </a:r>
            <a:endParaRPr b="0" lang="en-US" sz="1400" spc="-1" strike="noStrike">
              <a:solidFill>
                <a:srgbClr val="616365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16365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3608280" cy="3673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4572000" y="2492280"/>
            <a:ext cx="41814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6600"/>
                </a:solidFill>
                <a:latin typeface="Arial"/>
              </a:rPr>
              <a:t>2. Znaczenie idei uczenia się przez całe życie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68360" y="1268280"/>
            <a:ext cx="82072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W </a:t>
            </a:r>
            <a:r>
              <a:rPr b="1" i="1" lang="pl-PL" sz="2000" spc="-1" strike="noStrike">
                <a:solidFill>
                  <a:srgbClr val="336699"/>
                </a:solidFill>
                <a:latin typeface="Arial"/>
              </a:rPr>
              <a:t>Perspektywie </a:t>
            </a: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promuje się </a:t>
            </a:r>
            <a:r>
              <a:rPr b="1" lang="pl-PL" sz="2000" spc="-1" strike="noStrike">
                <a:solidFill>
                  <a:srgbClr val="cc6600"/>
                </a:solidFill>
                <a:latin typeface="Arial"/>
              </a:rPr>
              <a:t>nowe podejście </a:t>
            </a: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do polityki edukacyjnej, które polega na </a:t>
            </a:r>
            <a:r>
              <a:rPr b="1" lang="pl-PL" sz="2000" spc="-1" strike="noStrike">
                <a:solidFill>
                  <a:srgbClr val="cc6600"/>
                </a:solidFill>
                <a:latin typeface="Arial"/>
              </a:rPr>
              <a:t>równym traktowaniu </a:t>
            </a: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wszystkich form uczenia się i korzystaniu z ich potencjał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336699"/>
                </a:solidFill>
                <a:latin typeface="Arial"/>
              </a:rPr>
              <a:t>Perspektywę</a:t>
            </a: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 opracował </a:t>
            </a:r>
            <a:r>
              <a:rPr b="1" lang="pl-PL" sz="2000" spc="-1" strike="noStrike">
                <a:solidFill>
                  <a:srgbClr val="cc6600"/>
                </a:solidFill>
                <a:latin typeface="Arial"/>
              </a:rPr>
              <a:t>Międzyresortowy Zespół ds. uczenia się przez całe życie, w tym Krajowych Ram Kwalifikacji</a:t>
            </a: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, powołany przez Prezesa 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W </a:t>
            </a:r>
            <a:r>
              <a:rPr b="1" i="1" lang="pl-PL" sz="2000" spc="-1" strike="noStrike">
                <a:solidFill>
                  <a:srgbClr val="336699"/>
                </a:solidFill>
                <a:latin typeface="Arial"/>
              </a:rPr>
              <a:t>Perspektywie</a:t>
            </a: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 następująco </a:t>
            </a:r>
            <a:r>
              <a:rPr b="1" lang="pl-PL" sz="2000" spc="-1" strike="noStrike">
                <a:solidFill>
                  <a:srgbClr val="cc6600"/>
                </a:solidFill>
                <a:latin typeface="Arial"/>
              </a:rPr>
              <a:t>definiuje się politykę LLL</a:t>
            </a:r>
            <a:r>
              <a:rPr b="1" lang="pl-PL" sz="2000" spc="-1" strike="noStrike">
                <a:solidFill>
                  <a:srgbClr val="3366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336699"/>
              </a:buClr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6699"/>
                </a:solidFill>
                <a:latin typeface="Arial Narrow"/>
              </a:rPr>
              <a:t>polega ona na promowaniu i wspieraniu dobrej jakości uczenia się w każdym wieku, w rożnych formach i miejscach oraz na potwierdzaniu efektów uczenia się w systemach kwalifikac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336699"/>
              </a:buClr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6699"/>
                </a:solidFill>
                <a:latin typeface="Arial Narrow"/>
              </a:rPr>
              <a:t>stawia osoby uczące się w centrum, a miarą jej skuteczności są kompetencje </a:t>
            </a:r>
            <a:br>
              <a:rPr sz="1800"/>
            </a:br>
            <a:r>
              <a:rPr b="1" lang="pl-PL" sz="1800" spc="-1" strike="noStrike">
                <a:solidFill>
                  <a:srgbClr val="336699"/>
                </a:solidFill>
                <a:latin typeface="Arial Narrow"/>
              </a:rPr>
              <a:t>i kwalifikacje osób – niezależnie od drogi na jakiej zostały osiągnię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336699"/>
              </a:buClr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6699"/>
                </a:solidFill>
                <a:latin typeface="Arial Narrow"/>
              </a:rPr>
              <a:t>r</a:t>
            </a:r>
            <a:r>
              <a:rPr b="1" lang="pl-PL" sz="1800" spc="-1" strike="noStrike">
                <a:solidFill>
                  <a:srgbClr val="336699"/>
                </a:solidFill>
                <a:latin typeface="Arial Narrow"/>
                <a:ea typeface="Times New Roman"/>
              </a:rPr>
              <a:t>ealizowana jest na zasadzie partnerstwa rządu, samorządu terytorialnego, pracodawców, pracobiorców i organizacji obywatelsk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16365"/>
              </a:buClr>
              <a:buFont typeface="Arial"/>
              <a:buChar char="•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16365"/>
              </a:buClr>
              <a:buFont typeface="Arial"/>
              <a:buChar char="•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61636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0:26:15Z</dcterms:created>
  <dc:creator>w.filipkowski</dc:creator>
  <dc:description/>
  <dc:language>en-US</dc:language>
  <cp:lastModifiedBy>S. Łukasik - Gębska</cp:lastModifiedBy>
  <cp:lastPrinted>2013-04-03T10:45:00Z</cp:lastPrinted>
  <dcterms:modified xsi:type="dcterms:W3CDTF">2015-11-07T11:02:27Z</dcterms:modified>
  <cp:revision>154</cp:revision>
  <dc:subject/>
  <dc:title>Prezentacja programu PowerPoint</dc:title>
</cp:coreProperties>
</file>