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3EA-4FD6-46AB-BBE1-B9A18BD1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355-9B72-4088-87DA-574C19F1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6E7-D30B-4EDA-9177-E05FBC26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636-AA4F-4AD1-9365-E3AA8407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D2AD-162F-4808-B309-3BA13666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38D8-7864-46E6-9A59-1140D29A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8DE2-D0AA-4480-A574-7986676D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4EBD-8ABF-49A1-BA2F-125FEA11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8745-C6E3-4C69-9A13-53673FA0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2002-9D5F-49AB-BD32-7918D098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281D-29A4-4956-9851-AF92B109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7E8-1439-4A82-8FF1-F31992AE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A986-1DCC-415D-97A2-A50B519B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FD27-98D6-4E91-9052-BC563D91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4570-2DB0-4EA4-ADBA-2BBF39D4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0700-E8F0-494D-9DCA-5FEDF0FC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E694-F4B0-49CC-AB30-7E573B04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79DFC-DCB8-4501-A6D2-F644B630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DBA84-037E-4DDC-B4C9-BCC494DD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827A2-5A16-41B8-B937-C0528E93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7FF55-251B-453E-B630-E23FA8A2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B80F4-B83E-4B74-91A1-9D10E668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4AE-1EB9-4E78-A10D-32D8E07E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F0698-913B-44F2-8642-5263055E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35780-05BB-4376-A8A3-22E8D091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69C79-023D-4DD8-B0C5-4CF73809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2B05E-1330-4571-8687-DBC609E3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4B988-91B2-4794-A3F1-1FCFE951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D95D1-D1E5-43F7-9A09-4879198B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F618F-7CE0-4287-B7B7-ABE61AB9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78B7B-19C5-407F-8F5C-347DCD3E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37AD2-4C48-480C-97D4-2D701E6E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FFFC1-5FFD-49C0-963D-E9C7F174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8EC-849E-43D5-864F-25A2AD06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441DD-BAEC-425D-B827-AC92B520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96906-CC21-4116-998A-0C41B047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EF1A-B605-4ADE-8F83-EC03DED3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FD092-9CB2-40FA-8F76-BB593DE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DA81C-98AE-4041-9627-3433615F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E235E-1468-461A-BCDD-EC90E83D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73262-E583-4AC0-9617-0D91DC29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FD982-8FF7-4981-87BF-14DC08D1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24080-0F06-48A8-AA3C-0E79051A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3E5E7-EC9C-43A4-A6A7-36BB2535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813-E7BF-40F5-A284-DA410CD5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54CB9-5688-48D5-8FE4-9C9D8844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ED2B0-C507-4AE8-8BF7-31F912FF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E5BC8-9BAF-4D07-92F1-55E87C9D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7B92F-56D2-40FF-9DD7-5CB63A59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1F633-614F-4692-A6B3-FF2FF60B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F9077-8813-42C3-8B01-ACA76347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52337-61A7-4FD2-BFB0-FFFB0FB6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C8CB0-8101-4413-89FD-AC360514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EE038-2E6E-4BAB-9FE9-90D7F1F6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F9B51-EA13-466B-BE11-8B6AB56C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5E8-1F98-4CB0-8F60-0A560635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183EF-4464-4AB8-A1BF-BC0FFE86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B01023-C007-40F4-AC42-60532E14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A685C-15B7-4091-A948-F9221669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81E54-6CCE-409E-A0A0-4ED9124B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18BC4-C068-4B6C-A7EE-2D002476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F8D064-566E-4E2D-981D-F79811DB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4683B-B7E3-4B38-AFB0-40219759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8EC19-724A-4C5F-8FCD-F1B28BD1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CEA63-6C41-429D-8BF3-83933812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FF9015-F3DB-4FC6-A7A3-285D7E7E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8C6-CB92-4959-9F18-F5CC78B9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A9D8B-AFD3-41D4-88E4-11CA9AF3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F6E77-7B0D-45E9-85C3-FE7018DF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95BC4-FB68-41BF-BC77-78184F85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3A655-46C7-40C9-B00E-AA3CA57C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BD9F3-403E-4C1B-BBDF-8D07F839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2926C-D4CE-4E49-BD24-3B48563B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03301-7A89-4E7A-82F1-34511F8F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1FD196-0915-4AAC-A7E6-316DAC5D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6F0B9-75E3-42D7-9292-C3565415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EBAE4-DE91-4C89-AD81-10E93E25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52C-789F-4632-930A-8C39AAB8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00E75-95E7-49BA-AEAD-051F95A5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FB761-9963-45CF-84C0-3FBF8BCE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3F4BB-3245-4B27-A2F4-3692EE2E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A3BC14-8986-479F-85F4-F2B52C4A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CE456D-D7C8-4E64-992D-FDE4C97C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52D-66BE-47C9-B1FA-2B66B6CE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9FF0-1D02-4102-A0A6-B4EF48CF73F4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ostokąt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rostokąt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rostokąt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rostokąt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Łącznik prosty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Łącznik prosty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Łącznik prosty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Łącznik prosty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Łącznik prosty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Łącznik prosty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0C28-43AF-486F-9397-008BD709921D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994E-24C7-444A-A8D3-3EAD88D6DBEC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ostokąt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rostokąt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Łącznik prosty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Łącznik prosty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Łącznik prosty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Łącznik prosty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Łącznik prosty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rostokąt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Łącznik prosty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EF10-4617-4576-90DB-7BEA124114C9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9371-97D5-4878-A663-984E359416BF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Łącznik prosty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Łącznik prosty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Łącznik prosty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Łącznik prosty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rostokąt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Łącznik prosty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79BB-582E-409A-A8CC-62A9D94B156D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Łącznik prosty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Łącznik prosty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ostokąt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Łącznik prosty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Łącznik prosty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Łącznik prosty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73ED-968D-4DB0-88BF-0B1FF1014FB3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9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ELEMENTY TRENINGU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KOMUNIKACYJNEGO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ARIERY KOMUNIKACYJNE</a:t>
            </a:r>
            <a:br>
              <a:rPr sz="3000"/>
            </a:b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TZW. „BRUDNA DWUNASTKA”  WG T. GORDONA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dwracanie uwag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porozmawiajmy o czymś przyjemniejszym…, nie   wracaj już do tego…, posłuchaj tylko, co mnie spotkało…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giczne argumentowani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pomyśl tylko…….., fakty są takie, że……..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k, ale…….,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pokajani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wszystko będzie dobrze…, takie jest życie….., za rok będziesz się z tego śmiać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OMUNIKACJA NIEWERBALN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adania dowodzą, że tylko 7% informacji jest przekazywanych werbalnie, czyli za pomocą słów. Resztę, czyli 93%, przekazujemy w sposób niewerbalny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Łatwiej zatem skłamać słowami…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OMUNIKACJA NIEWERBALN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 głównych form komunikacji niewerbalnej należą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yraz twarzy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kontakt wzrokowy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esty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tyk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stawa ciała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dległość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ygląd zewnętrzny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iewerbalne aspekty mowy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śmiech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ZASADY PRZEZWYCIĘŻANIA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ARIER KOMUNIKACYJNY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ŁUCHAJ AKTYWNI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kup się na rozmówcy, nie na przygotowywaniu swojej reakcj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ie wydawaj sądó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zrezygnuj z przedwczesnej interpretacj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yrażaj swoje zainteresowanie rozmówcą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zachęcaj do mówieni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ZASADY PRZEZWYCIĘŻANIA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ARIER KOMUNIKACYJNY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ZWRACAJ UWAGĘ NA SYGNAŁY NIEWERBALN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dy pomiędzy komunikatem werbalnym i niewerbalnym pojawia się niespójność, odbiorca  wierzy mowie ciała, nie słowom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ZASADY PRZEZWYCIĘŻANIA </a:t>
            </a:r>
            <a:br>
              <a:rPr sz="3000"/>
            </a:b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ARIER KOMUNIKACYJNY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NUJ NAD EMOCJAMI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Złość, poczucie bezradności nie ułatwiają  porozumienia, zniekształcają rozumienie komunikatu, nastawiają obronnie lub agresywnie do słuchacz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ZASADY DOBREJ KOMUNIKACJ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ozmawiaj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jczęstszą przyczyną nieporozumień miedzy ludźmi nie jest konflikt interesów a brak porozumieni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ozmowa pomaga wyjaśnić nieporozumienia, przedstawić swój punkt widzenia, wysłuchać  drugiej stron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ętaj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rzymywanie dobrych relacji z ludźmi ma istotne znaczenie i pomaga w rozwiązywaniu problemów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BRY SŁUCHACZ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rzymuje kontakt wzrokowy z rozmówcą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kazuje zainteresowanie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ie przerywa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ie kończy za rozmówcę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nuje nad emocjami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kazuje cierpliwoś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ODY AKTYWNEGO SŁUCHAN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RAFRAZOWANI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oddanie innymi słowy sensu przekazu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odzi zatem o…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wiec sądzi pan…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LARYFIKACJ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prośba o wyjaśnieni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 ile dobrze zrozumiałem…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ie jestem pewna, czy chce pan powiedzieć,  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że…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ODY AKTYWNEGO SŁUCHAN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ADAWANIE PYTAŃ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unikamy zadawania pytań zamkniętych i pytania rozpoczynającego się od ‘dlaczego’, by uniknąć efektu przesłuchani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DZWIERCIEDLANI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nazwanie uczuć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dzę, że to pana martwi…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ARIERY KOMUNIKACYJ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kują rozmowę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zeszkadzają  rozwiązać problem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większają dystans emocjonalny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gą wywołać trudne przeżycia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akłócają proces komunikacyj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BARIERY KOMUNIKACYJNE</a:t>
            </a:r>
            <a:br>
              <a:rPr sz="2700"/>
            </a:b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ZW. „BRUDNA DWUNASTKA”  WG T. GORDONA</a:t>
            </a:r>
            <a:br>
              <a:rPr sz="27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rytykowani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zawsze się spóźniasz!, jesteś leniwy!, to twoja wina, nie masz racji, sam jesteś sobie winie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zezywan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typowy facet!,  niezdara z ciebie!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wianie diagnoz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postępujesz tak, by mnie zdenerwować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dzę, że chcesz mnie wyprowadzić z równowagi,                    wiesz jaki jest twój problem?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ARIERY KOMUNIKACYJNE</a:t>
            </a:r>
            <a:br>
              <a:rPr sz="3000"/>
            </a:b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TZW. „BRUDNA DWUNASTKA”  WG T. GORDONA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walenie połączone z oceną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 jesteś taka grzeczna, na pewno mi pomożesz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ozkazywani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marsz do lekcji!, nie płacz!, musisz spojrzeć    prawdzie w oczy!, wracaj natychmiast i przeproś!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ożeni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jak nie przestaniesz, to zobaczysz, co zrobię!, naprawdę prosisz się o kłopoty!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ARIERY KOMUNIKACYJNE</a:t>
            </a:r>
            <a:br>
              <a:rPr sz="3000"/>
            </a:b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TZW. „BRUDNA DWUNASTKA”  WG T. GORDONA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ralizowani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powinieneś przeprosić, powinnaś się wstydzić, to twój obowiązek, żeby……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wianie zbyt wielu lub niewłaściwych pytań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jak możesz tak myśleć? zamierzasz to zrobić? dlaczego?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dzielanie r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ja na twoim miejscu…..,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Obraz 7" descr="LOGA_official.jpg"/>
          <p:cNvPicPr/>
          <p:nvPr/>
        </p:nvPicPr>
        <p:blipFill>
          <a:blip r:embed="rId1"/>
          <a:stretch/>
        </p:blipFill>
        <p:spPr>
          <a:xfrm>
            <a:off x="108000" y="6308640"/>
            <a:ext cx="86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10:58:41Z</dcterms:created>
  <dc:creator>Snis Błękit 2</dc:creator>
  <dc:description/>
  <dc:language>en-US</dc:language>
  <cp:lastModifiedBy>S. Łukasik - Gębska</cp:lastModifiedBy>
  <cp:lastPrinted>2013-12-11T10:02:03Z</cp:lastPrinted>
  <dcterms:modified xsi:type="dcterms:W3CDTF">2015-11-08T15:11:58Z</dcterms:modified>
  <cp:revision>178</cp:revision>
  <dc:subject/>
  <dc:title>„Przywództwo i zarządzanie w oświacie- opracowanie i wdrożenie systemu kształcenia i doskonalenia dyrektorów szkół/ placówek"</dc:title>
</cp:coreProperties>
</file>