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EA53-0CF4-4058-B934-0BBAB9B2A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133C-CAD5-4B28-BAD1-A89C4339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63C9-9724-4C8B-AF6D-B7A20F777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63D0-4A9E-4863-B568-541C62743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CFC7-B5A2-44D2-928F-F3A66B1F5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54CE-1B74-49C9-8D64-A65C043F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C1C7-534F-4C8B-B8BA-76DD6630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A365-22A4-4AEA-9C2E-F35CF5AF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F0CD-D997-4B02-B178-79A8620F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AE7A-1659-4B4D-9671-B5164519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4035-DBF8-4C31-89B6-E20BD04B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DA34-0502-41CD-AC74-12F14614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194D-B9DB-428C-9066-098A3BCE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F263-93A8-41AB-AF3A-20832710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CEE1-3E54-4C9F-9B9C-78B7DEE4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9886-645A-4ADA-9EC1-499FF23B6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1E0F-1DFA-4019-BD6B-A2B95813C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3562D1-CCB7-4E3A-9B39-9B12700B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6F0CD5-A8B9-4B72-ABC8-23C5936D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ECA6D5-7BEE-43BD-9007-F6CAD85C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75ED5-9688-46C8-AA74-FC92AC5A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EED684-44EF-4D6B-8903-4CB15123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A1BF-262B-43ED-90E5-81D75394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10B5F7-39F4-4580-87DE-EB7B3345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4AD786-D3F8-4F6D-B151-8FC1BC67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66E932-2D0B-405C-BA08-94E8D719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F0ABAB-23CB-4B5B-8691-357A03CD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E34FC5-492C-43FD-B796-3C4869BD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D14372-003F-45E9-A067-647A7A28B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92D438-B688-4CC2-8F3A-E85CB006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C37F1-BC19-4359-B58B-F12B1635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A7EC6-AE3F-4483-A114-04FB67D6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7781E-429D-49E1-B61A-2DDD1047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292C-FEF0-401F-AF13-A4C56FE0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C8F00-6D45-4788-AAFA-933CD1DA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E76BF-4513-4D0C-B72C-1A3E7CDF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CD64F-B451-42E9-B60E-0121A778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E17B5-60C5-46BF-A4D2-316BD443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60E62-D180-4935-9480-E2973679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7D817-C7F0-4BF1-9E1C-42437928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6E6C0-F531-4950-AB2F-BC47D9C8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18412-7D24-45F6-B704-F9904E5EC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ED674-9464-453E-81EA-E7BB96B6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3031FE-874E-427E-991F-92DF648F0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91D0-5295-4DEB-B574-29246339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0C00BC-B58E-4AEB-990D-9C565FC7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F1C962-FE1F-47EA-9274-CC1F3295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C10395-3288-4152-AF53-511E2E6C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FAEE02-317C-4C48-909A-C944ABB5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9D57B5-4363-42B7-A96E-835B1241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71E2C6-34F5-45FC-ABF3-2D0E7571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507675-70E8-4DC5-8D59-F0A1BBFE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D058CD-E478-4126-8794-FE8F0902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69EA42-4E35-447C-A9F9-FCA6177D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20CBCF-50C5-4E3C-8D05-A07C54A8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A0FA-4390-430A-A608-1B7B8208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D0982D-6990-4EB0-AD64-AFCFF3FE1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B990A4-103C-4730-B4C0-700668BA0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935F65-8681-409B-B5AA-179289AD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03C444-D0E0-4F14-84E7-A958BE57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B62215-9FD5-4009-A32B-498DF2A5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F4E77F-7370-4E7B-8ED4-29FDDE5A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A02131-632F-4E0D-85CA-BA6C1CAB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256A33-E143-4A89-BBC7-AD3DCA2E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48543E-9129-4026-849A-AE93EFE7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8B0004-A2D2-4E98-B525-C9D61C89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E3BE-354C-47A1-8584-664C9070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CC1207-4486-4A78-9B66-E101E54B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5C1EAB-0065-4C18-A099-2B11835D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F678F9-58FA-4FA6-9397-D65DCFFE8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4CAEBD-9AE3-4EEB-A7E6-E0DDA3040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C3CAB9-A58C-4D29-A527-A48398AC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DD9601-6B26-404F-8FF4-5B332864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7FB54D-329A-4097-B3BE-D703DAE1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8F39AE-C972-4289-A8D6-E1BBB164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F9334E-2CCD-4CB2-A43C-B6F9A742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5AC4F8-45F1-4E21-A3F8-DFAA468C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A3C3-1C69-4D4C-9B01-18E43D7A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2754FE-D6E8-4728-BABB-4483F198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DBC1DB-027C-4CD3-ADC5-F7345B8F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E397D6-2175-4C71-84B2-28FA9762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634D88-69F9-4029-B92D-1C8D70954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0A4568-2AA2-41E3-9BF8-C2B5DC626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D6FF-3341-4AF7-AC91-5561BE67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Łącznik prosty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Łącznik prosty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Łącznik prosty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rostokąt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Łącznik prosty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87F6-5521-43C0-81BD-452C5EED34F4}" type="slidenum">
              <a:rPr b="1" lang="pl-P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ostokąt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rostokąt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rostokąt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rostokąt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Łącznik prosty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Łącznik prosty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Łącznik prosty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Łącznik prosty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Łącznik prosty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Łącznik prosty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a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a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a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a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a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1DEE-29B1-46C1-8FA4-B968DD4831EC}" type="slidenum">
              <a:rPr b="1" lang="pl-P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Łącznik prosty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Łącznik prosty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Łącznik prosty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rostokąt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Łącznik prosty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FE1B-0AAD-48A3-A818-3A2D2B6213F2}" type="slidenum">
              <a:rPr b="1" lang="pl-P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rostokąt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rostokąt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rostokąt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rostokąt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Łącznik prosty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Łącznik prosty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Łącznik prosty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Łącznik prosty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Łącznik prosty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rostokąt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a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a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a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a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a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Łącznik prosty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A4A3-6064-4523-A87D-9DE0CE923C77}" type="slidenum">
              <a:rPr b="1" lang="pl-P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Łącznik prosty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Łącznik prosty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Łącznik prosty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rostokąt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Łącznik prosty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EF03-AE73-4179-9FEE-C267B215AE88}" type="slidenum">
              <a:rPr b="1" lang="pl-P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Łącznik prosty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Łącznik prosty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Łącznik prosty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Łącznik prosty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rostokąt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Łącznik prosty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a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A403-CF27-4858-901F-C58F21A96E44}" type="slidenum">
              <a:rPr b="1" lang="pl-P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Łącznik prosty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a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Łącznik prosty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rostokąt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Łącznik prosty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Łącznik prosty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Łącznik prosty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D6AB-8045-4622-957C-BF7DFE706EDC}" type="slidenum">
              <a:rPr b="1" lang="pl-P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nauczycielbadacz.pl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94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Obraz 7" descr="LOGA_official.jpg"/>
          <p:cNvPicPr/>
          <p:nvPr/>
        </p:nvPicPr>
        <p:blipFill>
          <a:blip r:embed="rId1"/>
          <a:stretch/>
        </p:blipFill>
        <p:spPr>
          <a:xfrm>
            <a:off x="108000" y="6308640"/>
            <a:ext cx="8640720" cy="4478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entury Schoolbook"/>
              </a:rPr>
              <a:t>Wybrane metody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entury Schoolbook"/>
              </a:rPr>
              <a:t>i techniki doskonalenia nauczycieli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Schoolbook"/>
              </a:rPr>
              <a:t>Opracowano na podstawie: Elsner D., Metody i techniki wewnętrznego doskonalenia nauczycieli,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Schoolbook"/>
              </a:rPr>
              <a:t>Dr Josef Raabe Spółka Wydawnicza Sp. z o.o., Warszawa 2009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PORTFOLI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łuży dokumentowaniu i samoocenie osiągnięć zawodowych oraz planowaniu indywidualnego rozwoju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Obraz 3" descr="LOGA_official.jpg"/>
          <p:cNvPicPr/>
          <p:nvPr/>
        </p:nvPicPr>
        <p:blipFill>
          <a:blip r:embed="rId1"/>
          <a:stretch/>
        </p:blipFill>
        <p:spPr>
          <a:xfrm>
            <a:off x="108000" y="6308640"/>
            <a:ext cx="864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PORTFOLI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Kompletowanie portfolio wymag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entury Schoolbook"/>
              </a:rPr>
              <a:t>sformułowania celu, dla którego ma być prowadzone (np. doskonalenie jakości procesu nauczania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entury Schoolbook"/>
              </a:rPr>
              <a:t>ustalenia obszarów pracy szkoły, które mają być dokumentowane (np. ocenianie uczniów, postępy uczniów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entury Schoolbook"/>
              </a:rPr>
              <a:t>określenia struktury portfoli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entury Schoolbook"/>
              </a:rPr>
              <a:t>bieżącej selekcji dokumentów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entury Schoolbook"/>
              </a:rPr>
              <a:t>zapisywaniu refleksji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Obraz 3" descr="LOGA_official.jpg"/>
          <p:cNvPicPr/>
          <p:nvPr/>
        </p:nvPicPr>
        <p:blipFill>
          <a:blip r:embed="rId1"/>
          <a:stretch/>
        </p:blipFill>
        <p:spPr>
          <a:xfrm>
            <a:off x="108000" y="6308640"/>
            <a:ext cx="864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ROTACJA STANOWIS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lega na krótkotrwałej zamianie stanowisk w ramach tej samej instytucji zgodnie z ustaloną kolejnością lub na podstawie losowania. Np. dyrektor szkoły staje się uczniem, uczeń wstępuje w rolę nauczyciela, woźnego czy pani sprzątającej, nauczyciel pełni funkcję sekretarki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6" name="Obraz 3" descr="LOGA_official.jpg"/>
          <p:cNvPicPr/>
          <p:nvPr/>
        </p:nvPicPr>
        <p:blipFill>
          <a:blip r:embed="rId1"/>
          <a:stretch/>
        </p:blipFill>
        <p:spPr>
          <a:xfrm>
            <a:off x="108000" y="6308640"/>
            <a:ext cx="864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ROTACJA STANOWIS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otacja stanowisk może służyć, np.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zeciwdziałaniu koncentracji na wąskim odcinku swojej pracy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pszemu zrozumieniu zadań i ról innych osób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ypracowaniu usprawnień, których nie dostrzegają osoby stale wykonujące określoną pracę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zyzwyczajeniu do radzenia sobie ze zmianami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zyspieszeniu uczenia się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Obraz 3" descr="LOGA_official.jpg"/>
          <p:cNvPicPr/>
          <p:nvPr/>
        </p:nvPicPr>
        <p:blipFill>
          <a:blip r:embed="rId1"/>
          <a:stretch/>
        </p:blipFill>
        <p:spPr>
          <a:xfrm>
            <a:off x="108000" y="6308640"/>
            <a:ext cx="864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ROTACJA STANOWIS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fektem rotacji stanowisk jest nie tylko zauważenie nowych możliwości usprawnienia pracy szkoły, ale także wzrost poziomu empatii, większe wzajemne zrozumienie, w konsekwencji poprawa relacji międzyludzkich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Obraz 3" descr="LOGA_official.jpg"/>
          <p:cNvPicPr/>
          <p:nvPr/>
        </p:nvPicPr>
        <p:blipFill>
          <a:blip r:embed="rId1"/>
          <a:stretch/>
        </p:blipFill>
        <p:spPr>
          <a:xfrm>
            <a:off x="108000" y="6308640"/>
            <a:ext cx="864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ROTACJA STANOWIS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Koncepcja rotacji stanowisk, jakkolwiek teoretycznie uzasadniona, może budzić wątpliwości  natury organizacyjnej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5" name="Obraz 3" descr="LOGA_official.jpg"/>
          <p:cNvPicPr/>
          <p:nvPr/>
        </p:nvPicPr>
        <p:blipFill>
          <a:blip r:embed="rId1"/>
          <a:stretch/>
        </p:blipFill>
        <p:spPr>
          <a:xfrm>
            <a:off x="108000" y="6308640"/>
            <a:ext cx="864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BADANIA W DZIAŁANI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entury Schoolbook"/>
              </a:rPr>
              <a:t>Badania w działaniu są nowym w oświacie typem badań naukowych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entury Schoolbook"/>
              </a:rPr>
              <a:t>Badania w działaniu, prowadzone przez nauczycieli, mają przede wszystkim cele praktyczne, a więc np. zrozumienie istoty określonych sytuacji klasowych, szkolnych, środowiskowych, dotarcie do faktycznych, często ukrytych mechanizmów działania, z myślą o ich zmianie na lepsz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8" name="Obraz 3" descr="LOGA_official.jpg"/>
          <p:cNvPicPr/>
          <p:nvPr/>
        </p:nvPicPr>
        <p:blipFill>
          <a:blip r:embed="rId1"/>
          <a:stretch/>
        </p:blipFill>
        <p:spPr>
          <a:xfrm>
            <a:off x="108000" y="6308640"/>
            <a:ext cx="864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BADANIA W DZIAŁANI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adanie w działaniu to strategia prowadzona przez nauczycieli w celu poddania refleksji i ocenie proces nauczania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auczyciel o podejściu refleksyjnym analizuje zachowania uczniów, identyfikuje potencjalne problemy, modyfikuje swoją nauczycielską praktykę, ocenia rezultaty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Obraz 3" descr="LOGA_official.jpg"/>
          <p:cNvPicPr/>
          <p:nvPr/>
        </p:nvPicPr>
        <p:blipFill>
          <a:blip r:embed="rId1"/>
          <a:stretch/>
        </p:blipFill>
        <p:spPr>
          <a:xfrm>
            <a:off x="108000" y="6308640"/>
            <a:ext cx="864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BADANIA W DZIAŁANI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Przedmiotem badań w działaniu mogą być np.: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błędy najczęściej popełniane przez uczniów w zadaniach z danego przedmiotu,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yndrom nieadekwatnych osiągnięć i sposoby zapobiegania temu zjawisku,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wyniki testów wiadomości i umiejętności z jakiegoś przedmiotu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nuda na lekcjach i sposoby zapobiegania jej konsekwencjom itp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Obraz 3" descr="LOGA_official.jpg"/>
          <p:cNvPicPr/>
          <p:nvPr/>
        </p:nvPicPr>
        <p:blipFill>
          <a:blip r:embed="rId1"/>
          <a:stretch/>
        </p:blipFill>
        <p:spPr>
          <a:xfrm>
            <a:off x="108000" y="6308640"/>
            <a:ext cx="864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BADANIA W DZIAŁANI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755280" y="1673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entury Schoolbook"/>
              </a:rPr>
              <a:t>Schemat pobrano ze strony </a:t>
            </a:r>
            <a:r>
              <a:rPr b="0" lang="pl-PL" sz="10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www.nauczycielbadacz.pl</a:t>
            </a:r>
            <a:r>
              <a:rPr b="0" lang="pl-PL" sz="1000" spc="-1" strike="noStrike">
                <a:solidFill>
                  <a:srgbClr val="000000"/>
                </a:solidFill>
                <a:latin typeface="Century Schoolbook"/>
              </a:rPr>
              <a:t> (data pobrania 5.03.2014)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7" name="Obraz 13" descr="http://www.nauczycielbadacz.pl/data/various/images/schemat.png"/>
          <p:cNvPicPr/>
          <p:nvPr/>
        </p:nvPicPr>
        <p:blipFill>
          <a:blip r:embed="rId2"/>
          <a:stretch/>
        </p:blipFill>
        <p:spPr>
          <a:xfrm>
            <a:off x="2117880" y="2259000"/>
            <a:ext cx="4146480" cy="3700440"/>
          </a:xfrm>
          <a:prstGeom prst="rect">
            <a:avLst/>
          </a:prstGeom>
          <a:ln w="0">
            <a:noFill/>
          </a:ln>
        </p:spPr>
      </p:pic>
      <p:pic>
        <p:nvPicPr>
          <p:cNvPr id="408" name="Obraz 4" descr="LOGA_official.jpg"/>
          <p:cNvPicPr/>
          <p:nvPr/>
        </p:nvPicPr>
        <p:blipFill>
          <a:blip r:embed="rId3"/>
          <a:stretch/>
        </p:blipFill>
        <p:spPr>
          <a:xfrm>
            <a:off x="108000" y="6308640"/>
            <a:ext cx="864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HOSPITACJE KOLEŻEŃSKI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 hospitacje, podczas których nauczyciele odwiedzają się wzajemnie podczas prowadzonych zajęć, a następnie rozmawiają na temat ich przebiegu i wspólnie poszukują możliwości doskonaleni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ie są to organizowane od czasu do czasu zajęcia otwarte dla „koleżanek po fachu”, ale stała praktyka obserwacji cudzej i prezentowanie własnej praktyki oraz wzajemne doko­nywanie oceny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6" name="Obraz 3" descr="LOGA_official.jpg"/>
          <p:cNvPicPr/>
          <p:nvPr/>
        </p:nvPicPr>
        <p:blipFill>
          <a:blip r:embed="rId1"/>
          <a:stretch/>
        </p:blipFill>
        <p:spPr>
          <a:xfrm>
            <a:off x="108000" y="6308640"/>
            <a:ext cx="864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BADANIA W DZIAŁANI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jektowanie badania w działaniu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tap I: identyfikacja problemu (jak wygląda sytuacja, którą chcę zmienić?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tap II: zbieranie informacji (co chcę zmienić?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tap III: analiza informacji (jak mogę osiągnąć cel?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tap IV: decyzje (co zrobię, by osiągnąć cel?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tap V: działanie (konkretne strategie, metody, formy prowadzące do celu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tap VI: ewaluacja (ocena działań; czy cel został osiągnięty?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1" name="Obraz 3" descr="LOGA_official.jpg"/>
          <p:cNvPicPr/>
          <p:nvPr/>
        </p:nvPicPr>
        <p:blipFill>
          <a:blip r:embed="rId1"/>
          <a:stretch/>
        </p:blipFill>
        <p:spPr>
          <a:xfrm>
            <a:off x="108000" y="6308640"/>
            <a:ext cx="864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HOSPITACJE KOLEŻEŃSKI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spitacje koleżeńskie są okazją do obserwacji cudzego warsz­tatu pracy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łużą również przekazywaniu i odbieraniu informacji zwrotnej, również tej negatywnej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spitacje koleżeńskie mogą być cennym źródłem wiedzy na temat jakości warsztatu pracy i dla obserwowanego i dla obserwująceg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 refleksji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laczego są tak rzadko stosowan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zego co budzi obawy nauczycieli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Obraz 3" descr="LOGA_official.jpg"/>
          <p:cNvPicPr/>
          <p:nvPr/>
        </p:nvPicPr>
        <p:blipFill>
          <a:blip r:embed="rId1"/>
          <a:stretch/>
        </p:blipFill>
        <p:spPr>
          <a:xfrm>
            <a:off x="108000" y="6308640"/>
            <a:ext cx="864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„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KRYTYCZNY PRZYJACIEL”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 osoba, która inspiruje do krytycznego myśleni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spirowanie do krytycznego myślenia odbywa się głównie przez stawianie pytań pozwalających n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westionowaniu oczywistych prawd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nikliwym analizowaniu spraw i działań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prawianiu pogłębionej refleksji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ciekaniu przyczyn istniejących stanów i procesów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nioskowaniu z przejawów, symptomów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szukiwaniu alternatywnych sposobów myślenia i działania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rmułowaniu uzasadnień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Obraz 3" descr="LOGA_official.jpg"/>
          <p:cNvPicPr/>
          <p:nvPr/>
        </p:nvPicPr>
        <p:blipFill>
          <a:blip r:embed="rId1"/>
          <a:stretch/>
        </p:blipFill>
        <p:spPr>
          <a:xfrm>
            <a:off x="108000" y="6308640"/>
            <a:ext cx="864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„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KRYTYCZNY PRZYJACIEL”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soba funkcjonująca jako „krytyczny przyjaciel” powinn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mieć stawiać adekwatne pytania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echować się taktem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yć nastawiona życzliwie, ale nie bezkrytyczni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5" name="Obraz 3" descr="LOGA_official.jpg"/>
          <p:cNvPicPr/>
          <p:nvPr/>
        </p:nvPicPr>
        <p:blipFill>
          <a:blip r:embed="rId1"/>
          <a:stretch/>
        </p:blipFill>
        <p:spPr>
          <a:xfrm>
            <a:off x="108000" y="6308640"/>
            <a:ext cx="864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COACH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olega na świadczeniu indywidualnej pomocy osobom, które pragną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udoskonalić wykonywanie zadań,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wdrożyć nabytą na kursie wiedzę i umiejętności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Obraz 3" descr="LOGA_official.jpg"/>
          <p:cNvPicPr/>
          <p:nvPr/>
        </p:nvPicPr>
        <p:blipFill>
          <a:blip r:embed="rId1"/>
          <a:stretch/>
        </p:blipFill>
        <p:spPr>
          <a:xfrm>
            <a:off x="108000" y="6308640"/>
            <a:ext cx="864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COACH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Century Schoolbook"/>
              </a:rPr>
              <a:t>Zadanie coacha zawiera się w przekazie</a:t>
            </a:r>
            <a:r>
              <a:rPr b="1" lang="pl-PL" sz="3600" spc="-1" strike="noStrike">
                <a:solidFill>
                  <a:srgbClr val="000000"/>
                </a:solidFill>
                <a:latin typeface="Century Schoolbook"/>
              </a:rPr>
              <a:t>: „Pomogę ci odnaleźć rozwiązanie,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pl-PL" sz="3600" spc="-1" strike="noStrike">
                <a:solidFill>
                  <a:srgbClr val="000000"/>
                </a:solidFill>
                <a:latin typeface="Century Schoolbook"/>
              </a:rPr>
              <a:t>które jest w tobie”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Obraz 3" descr="LOGA_official.jpg"/>
          <p:cNvPicPr/>
          <p:nvPr/>
        </p:nvPicPr>
        <p:blipFill>
          <a:blip r:embed="rId1"/>
          <a:stretch/>
        </p:blipFill>
        <p:spPr>
          <a:xfrm>
            <a:off x="108000" y="6308640"/>
            <a:ext cx="864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DZIENNIK ZAWODOW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Jest narzędziem refleksji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łuży zapisywaniu faktów, zdarzeń, spostrzeżeń oraz powstałych w ich wyniku odczuć i przemyśleń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zwala spojrzeć z dystansem na rezultat działań i  modyfikować je w przyszłości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Obraz 3" descr="LOGA_official.jpg"/>
          <p:cNvPicPr/>
          <p:nvPr/>
        </p:nvPicPr>
        <p:blipFill>
          <a:blip r:embed="rId1"/>
          <a:stretch/>
        </p:blipFill>
        <p:spPr>
          <a:xfrm>
            <a:off x="108000" y="6308640"/>
            <a:ext cx="864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DZIENNIK ZAWODOW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Zapiski pozwalają systematyzować i analizować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proces wprowadzania w życie nowatorskiego pomysłu,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pojawiające się problemy i sposoby ich rozwiązywania,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reakcje różnych osób,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własne przemyślenia i zachowania,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osiągane sukcesy lub ponoszone porażki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Obraz 3" descr="LOGA_official.jpg"/>
          <p:cNvPicPr/>
          <p:nvPr/>
        </p:nvPicPr>
        <p:blipFill>
          <a:blip r:embed="rId1"/>
          <a:stretch/>
        </p:blipFill>
        <p:spPr>
          <a:xfrm>
            <a:off x="108000" y="6308640"/>
            <a:ext cx="864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2T10:58:41Z</dcterms:created>
  <dc:creator>Snis Błękit 2</dc:creator>
  <dc:description/>
  <dc:language>en-US</dc:language>
  <cp:lastModifiedBy>S. Łukasik - Gębska</cp:lastModifiedBy>
  <cp:lastPrinted>2013-12-11T10:02:03Z</cp:lastPrinted>
  <dcterms:modified xsi:type="dcterms:W3CDTF">2015-11-08T15:14:12Z</dcterms:modified>
  <cp:revision>173</cp:revision>
  <dc:subject/>
  <dc:title>„Przywództwo i zarządzanie w oświacie- opracowanie i wdrożenie systemu kształcenia i doskonalenia dyrektorów szkół/ placówek"</dc:title>
</cp:coreProperties>
</file>