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6379-878F-42EE-805E-4CACA31C9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9804-ADC3-44A4-BE12-2C81EF54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E87F-F64F-4F1C-85E2-FE304A620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811E-76BE-4AE4-9BFD-4B02B403B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9BE5-DC14-4243-9874-E9F717B5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EAA1-B576-42E8-A7D2-3D58F60E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5FBB-56AE-4237-B343-DCA92FB3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09DA-8B52-4F06-8A82-7E027A2B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7FEA-A44E-4894-A621-87136A0B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4D0B-FC45-45D4-B859-AD706013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C1F6-18C0-4A91-8FAA-168C2606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7041-38E3-4A1F-941D-E79A1477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CAAF-4926-4BC4-8507-77B4940EC41A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oskko.net/forum/uzytkownik.php?u=4104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oskko.net/forum/uzytkownik.php?u=4075" TargetMode="External"/><Relationship Id="rId3" Type="http://schemas.openxmlformats.org/officeDocument/2006/relationships/hyperlink" Target="http://oskko.net/forum/uzytkownik.php?u=456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oskko.net/forum/uzytkownik.php?u=1172" TargetMode="External"/><Relationship Id="rId3" Type="http://schemas.openxmlformats.org/officeDocument/2006/relationships/hyperlink" Target="http://oskko.net/forum/uzytkownik.php?u=24" TargetMode="External"/><Relationship Id="rId4" Type="http://schemas.openxmlformats.org/officeDocument/2006/relationships/image" Target="../media/image4.png"/><Relationship Id="rId5" Type="http://schemas.openxmlformats.org/officeDocument/2006/relationships/hyperlink" Target="http://oskko.net/forum/uzytkownik.php?u=4075" TargetMode="Externa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oskko.net/forum/uzytkownik.php?u=4075" TargetMode="External"/><Relationship Id="rId2" Type="http://schemas.openxmlformats.org/officeDocument/2006/relationships/hyperlink" Target="http://oskko.net/forum/uzytkownik.php?u=2874" TargetMode="External"/><Relationship Id="rId3" Type="http://schemas.openxmlformats.org/officeDocument/2006/relationships/hyperlink" Target="http://oskko.net/forum/uzytkownik.php?u=4075" TargetMode="External"/><Relationship Id="rId4" Type="http://schemas.openxmlformats.org/officeDocument/2006/relationships/hyperlink" Target="http://oskko.net/forum/uzytkownik.php?u=2030" TargetMode="Externa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oskko.net/forum/uzytkownik.php?u=24" TargetMode="External"/><Relationship Id="rId2" Type="http://schemas.openxmlformats.org/officeDocument/2006/relationships/hyperlink" Target="http://oskko.net/forum/uzytkownik.php?u=4075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oskko.net/forum/uzytkownik.php?u=18156" TargetMode="External"/><Relationship Id="rId2" Type="http://schemas.openxmlformats.org/officeDocument/2006/relationships/hyperlink" Target="http://oskko.net/forum/uzytkownik.php?u=6602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rostokąt 1"/>
          <p:cNvSpPr/>
          <p:nvPr/>
        </p:nvSpPr>
        <p:spPr>
          <a:xfrm>
            <a:off x="755640" y="2367000"/>
            <a:ext cx="748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Garamond"/>
              </a:rPr>
              <a:t>KODEKS ETYCZNY</a:t>
            </a:r>
            <a:br>
              <a:rPr sz="4400"/>
            </a:br>
            <a:r>
              <a:rPr b="1" lang="pl-PL" sz="4400" spc="-1" strike="noStrike">
                <a:solidFill>
                  <a:srgbClr val="000000"/>
                </a:solidFill>
                <a:latin typeface="Garamond"/>
              </a:rPr>
              <a:t>wizytatora kuratorium oświa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7974000" cy="493560"/>
          </a:xfrm>
          <a:prstGeom prst="rect">
            <a:avLst/>
          </a:prstGeom>
          <a:ln w="0">
            <a:noFill/>
          </a:ln>
        </p:spPr>
      </p:pic>
      <p:sp>
        <p:nvSpPr>
          <p:cNvPr id="64" name="Prostokąt 1"/>
          <p:cNvSpPr/>
          <p:nvPr/>
        </p:nvSpPr>
        <p:spPr>
          <a:xfrm>
            <a:off x="179280" y="2136600"/>
            <a:ext cx="876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Zasada bezstronności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– niedopuszczanie do podejrzeń                   o konflikt interesów, jednakowe traktowanie wszystkich uczestników prowadzonych spraw, nie demonstrowanie zażyłości z osobami publicznie znanymi ze swej działalnoś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Zasada rzetelności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– dotrzymywanie zobowiązań, twórcze podejmowanie zadań, aktywne realizowanie obowiązk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7974000" cy="493560"/>
          </a:xfrm>
          <a:prstGeom prst="rect">
            <a:avLst/>
          </a:prstGeom>
          <a:ln w="0">
            <a:noFill/>
          </a:ln>
        </p:spPr>
      </p:pic>
      <p:sp>
        <p:nvSpPr>
          <p:cNvPr id="66" name="Prostokąt 1"/>
          <p:cNvSpPr/>
          <p:nvPr/>
        </p:nvSpPr>
        <p:spPr>
          <a:xfrm>
            <a:off x="9360" y="1341360"/>
            <a:ext cx="86410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rostokąt 2"/>
          <p:cNvSpPr/>
          <p:nvPr/>
        </p:nvSpPr>
        <p:spPr>
          <a:xfrm>
            <a:off x="2195640" y="1428840"/>
            <a:ext cx="511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9933"/>
                </a:solidFill>
                <a:latin typeface="Arial"/>
              </a:rPr>
              <a:t>Złota reguł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rostokąt 3"/>
          <p:cNvSpPr/>
          <p:nvPr/>
        </p:nvSpPr>
        <p:spPr>
          <a:xfrm>
            <a:off x="200160" y="2708280"/>
            <a:ext cx="864072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Postępuj tak, jak byś chciał(a), by inni postępowali wobec cieb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Unikaj takiego postępowania, jakiego sam nie chciał(a)byś zaznawa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974000" cy="493920"/>
          </a:xfrm>
          <a:prstGeom prst="rect">
            <a:avLst/>
          </a:prstGeom>
          <a:ln w="0">
            <a:noFill/>
          </a:ln>
        </p:spPr>
      </p:pic>
      <p:sp>
        <p:nvSpPr>
          <p:cNvPr id="70" name="Prostokąt 1"/>
          <p:cNvSpPr/>
          <p:nvPr/>
        </p:nvSpPr>
        <p:spPr>
          <a:xfrm>
            <a:off x="395280" y="88416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Arial"/>
              </a:rPr>
              <a:t>Główne wartości etyczne urzęd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rostokąt 2"/>
          <p:cNvSpPr/>
          <p:nvPr/>
        </p:nvSpPr>
        <p:spPr>
          <a:xfrm>
            <a:off x="539640" y="1773360"/>
            <a:ext cx="3600720" cy="42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personal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sumienność                       i rzetelnoś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uprzejmość                     i życzliwoś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odpowiedzialnoś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(opr. Tomasz Barankiewic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rostokąt 3"/>
          <p:cNvSpPr/>
          <p:nvPr/>
        </p:nvSpPr>
        <p:spPr>
          <a:xfrm>
            <a:off x="4427640" y="1773360"/>
            <a:ext cx="4422600" cy="41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procedural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praworządnoś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przeciwdziałanie konfliktowi interesó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bezstronność                          i obiektywność postępow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neutralność politycz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ahoma"/>
              </a:rPr>
              <a:t>jawność i ochrona tajemn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604800" y="549360"/>
            <a:ext cx="7974000" cy="493560"/>
          </a:xfrm>
          <a:prstGeom prst="rect">
            <a:avLst/>
          </a:prstGeom>
          <a:ln w="0">
            <a:noFill/>
          </a:ln>
        </p:spPr>
      </p:pic>
      <p:sp>
        <p:nvSpPr>
          <p:cNvPr id="74" name="Prostokąt 1"/>
          <p:cNvSpPr/>
          <p:nvPr/>
        </p:nvSpPr>
        <p:spPr>
          <a:xfrm>
            <a:off x="468360" y="105084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Z forum OSKKO       -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ideał wizytat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rostokąt 2"/>
          <p:cNvSpPr/>
          <p:nvPr/>
        </p:nvSpPr>
        <p:spPr>
          <a:xfrm>
            <a:off x="114480" y="1628640"/>
            <a:ext cx="878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adamm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Dobry wizytator ( oczywiście zaznaczam  ,to jest moje ,być może bardzo indywidulane zdanie 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. Merytorycznie dobrze przygotowany ( studia maja z tym niewiele  wspólneg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2.Taktowny ,kulturalny ( myślę ze wszyscy wiedza o co chodz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3. Powinien zauważać i wskazywać "pomyłki" oraz nazwijmy sobie tak : sukces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4. Nie musi głaskać ,ale w miarę zgodnie z pkt. 2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5. Powinno "Mu" się chcieć pracować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6. Jeśli wypełnia pkt. 1 - 5 ,to nawet przy różnicy zdań można się porozumieć i wiele zrobić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561960" y="487440"/>
            <a:ext cx="7974000" cy="493560"/>
          </a:xfrm>
          <a:prstGeom prst="rect">
            <a:avLst/>
          </a:prstGeom>
          <a:ln w="0">
            <a:noFill/>
          </a:ln>
        </p:spPr>
      </p:pic>
      <p:sp>
        <p:nvSpPr>
          <p:cNvPr id="77" name="Prostokąt 1"/>
          <p:cNvSpPr/>
          <p:nvPr/>
        </p:nvSpPr>
        <p:spPr>
          <a:xfrm>
            <a:off x="531720" y="1949400"/>
            <a:ext cx="56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8000"/>
                </a:solidFill>
                <a:latin typeface="Arial"/>
              </a:rPr>
              <a:t>bogn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: ja mam idealnego wizytatora :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rostokąt 2"/>
          <p:cNvSpPr/>
          <p:nvPr/>
        </p:nvSpPr>
        <p:spPr>
          <a:xfrm>
            <a:off x="514440" y="2781360"/>
            <a:ext cx="8280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arna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zdroszczę wam takiego wizytatora. I ja tak myślałam przez wiele lat ,do pewnego momentu.   Przede wszystkim oprócz merytorycznego przygotowania dobry wizytator powinien posiadać obiektywizm w ocenie różnych sytuacji i zdarzeń . Powinien umieć rozmawiać i mediować z organem prowadzący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 przede wszystkim być szczerym w rozmowach z dyrektorem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00000" indent="-90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izytator nie może "układać"  się z nauczycielam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rostokąt 3"/>
          <p:cNvSpPr/>
          <p:nvPr/>
        </p:nvSpPr>
        <p:spPr>
          <a:xfrm>
            <a:off x="684360" y="119700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Z forum OSKKO       -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ideał wizytat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rostokąt 4"/>
          <p:cNvSpPr/>
          <p:nvPr/>
        </p:nvSpPr>
        <p:spPr>
          <a:xfrm>
            <a:off x="561960" y="5516640"/>
            <a:ext cx="735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lusi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:  I chyba powinien sam być wcześniej dyrektorem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974360" cy="493920"/>
          </a:xfrm>
          <a:prstGeom prst="rect">
            <a:avLst/>
          </a:prstGeom>
          <a:ln w="0">
            <a:noFill/>
          </a:ln>
        </p:spPr>
      </p:pic>
      <p:sp>
        <p:nvSpPr>
          <p:cNvPr id="82" name="Prostokąt 1"/>
          <p:cNvSpPr/>
          <p:nvPr/>
        </p:nvSpPr>
        <p:spPr>
          <a:xfrm>
            <a:off x="270000" y="1413000"/>
            <a:ext cx="869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iter Kalla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... dodałbym: krytyczny przyjaciel, wskazujący, co i jak usprawnić, aby było lepiej. Mający zaufanie i jak najmniej ,,papierkowy", bron Boże tylko nie urzędnik, ale człowiek; dobrze zorganizowany .... -)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rostokąt 2"/>
          <p:cNvSpPr/>
          <p:nvPr/>
        </p:nvSpPr>
        <p:spPr>
          <a:xfrm>
            <a:off x="270000" y="2924280"/>
            <a:ext cx="8550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OLGIE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oja p. Ania Z. - nieoceniona... niezwykła... (wytrzymuje ze mną trochę) i taki ktoś - kto wierzy we mnie, że potrafię jako dyrektor załatwić, taki, kto mi ufa i przekaże klienta niezadowolonego, taki, który odeśle podenerwowanego, skrzywdzonego - przekaże jakiegoś w dyskomforcie człowieka do mnie. Dyrektor dla niego znaczy Dyrektor. Wizytator, który powie - wierzę, że trafia pan - pani w dobre ręce, albo - pani dyrektor przekazała stan prawny prawidłowy.   Za wszystko dziękuję Pa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4"/>
          <a:stretch/>
        </p:blipFill>
        <p:spPr>
          <a:xfrm>
            <a:off x="2124000" y="947880"/>
            <a:ext cx="4322880" cy="487080"/>
          </a:xfrm>
          <a:prstGeom prst="rect">
            <a:avLst/>
          </a:prstGeom>
          <a:ln w="0">
            <a:noFill/>
          </a:ln>
        </p:spPr>
      </p:pic>
      <p:sp>
        <p:nvSpPr>
          <p:cNvPr id="85" name="Prostokąt 3"/>
          <p:cNvSpPr/>
          <p:nvPr/>
        </p:nvSpPr>
        <p:spPr>
          <a:xfrm>
            <a:off x="395280" y="5373720"/>
            <a:ext cx="78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arna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...czyli wizytator , to partner a nie konkurent dla dyrek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rostokąt 1"/>
          <p:cNvSpPr/>
          <p:nvPr/>
        </p:nvSpPr>
        <p:spPr>
          <a:xfrm>
            <a:off x="900000" y="476280"/>
            <a:ext cx="73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Z forum OSKKO       -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ideał wizytat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rostokąt 2"/>
          <p:cNvSpPr/>
          <p:nvPr/>
        </p:nvSpPr>
        <p:spPr>
          <a:xfrm>
            <a:off x="324000" y="1413000"/>
            <a:ext cx="84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arn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....czyli wizytator , to partner a nie konkurent dla dyrekt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rostokąt 3"/>
          <p:cNvSpPr/>
          <p:nvPr/>
        </p:nvSpPr>
        <p:spPr>
          <a:xfrm>
            <a:off x="324000" y="206064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la 13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Ja bym jeszcze dodała, że ten idealny wizytator potrafi pokierować zespołem dyrektorów tak, aby się czegoś od siebie nauczyl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rostokąt 4"/>
          <p:cNvSpPr/>
          <p:nvPr/>
        </p:nvSpPr>
        <p:spPr>
          <a:xfrm>
            <a:off x="324000" y="2997360"/>
            <a:ext cx="8494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arn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....po prostu nie każdy może być wizytatorem  przez wielkie lite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ak jak nie każdy lekarz jest LEKARZEM , nie każdy nauczyciel jest NAUCZYCIELEM i nie trzeba uczyć się sześciu przykazań , "aby sięgnąć" szczytu, to  za mało , po prostu trzeba się do tej pracy nadawa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ojalność, komunikatywność , uczciwość w tym co się mówi i co czy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rostokąt 5"/>
          <p:cNvSpPr/>
          <p:nvPr/>
        </p:nvSpPr>
        <p:spPr>
          <a:xfrm>
            <a:off x="324000" y="4689360"/>
            <a:ext cx="828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Tatiana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 wielką uwagą czytałam opinie o wizytatorach / jestem wizytatorem ho, ho, a może i dłużej/ i uważam, że wiele osób ma rację, i powinniśmy być świadomi tej oceny. Pozwala to na wyciągnięcie wniosków, na samokrytycyzm, bo niestety wchodzi się w rutynę. Piszcie, co jeszcze złego jest w nas. Pozdrawiam Tat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rostokąt 1"/>
          <p:cNvSpPr/>
          <p:nvPr/>
        </p:nvSpPr>
        <p:spPr>
          <a:xfrm>
            <a:off x="835200" y="41436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Z forum OSKKO       -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ideał wizytat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rostokąt 2"/>
          <p:cNvSpPr/>
          <p:nvPr/>
        </p:nvSpPr>
        <p:spPr>
          <a:xfrm>
            <a:off x="249120" y="784080"/>
            <a:ext cx="878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OLGIE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bry wizytator - to człowiek otwarty, szukający prawdy, człowiek krytyczny, świadomy bzdurności prawa i pozoranctwa, człowiek o odwadze cywilnej,  mówiący o potrzebach szkoły, nie lubię wysłuchujących skarg dla wysłuchania i zbywania, chciałabym, by wizytatorzy mogli mówić swoim głosem o trudnościach szkół, by pokazywali ograniczoność rozwiąza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rostokąt 3"/>
          <p:cNvSpPr/>
          <p:nvPr/>
        </p:nvSpPr>
        <p:spPr>
          <a:xfrm>
            <a:off x="255600" y="2470320"/>
            <a:ext cx="8785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arna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edług mnie i dyrektor i wizytator współuczestniczą w wielkiej grze tworzenia edukacji. Powinni w niej brać udział najlepsi. I taką sytuacje miałam na myśli: dobrego dyrektora i dobrego wizytatora. Wtedy partnerstwo w rozwiązywaniu problemów zdecydowanie  przeważa . W kontrolowaniu też i we wszystkich innych sytuacjach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izytator - konkurent ,to faktycznie sytuacja nienormalna. Ale bywa . Proszę sobie wyobrazić wizytatora , który  rozmawia z nauczycielami , lub władzami samorządowymi, a nie rozmawia z dyrektorem wręcz  kryjąc  to , wizytatora , który źle interpretuje prawo ,który nie wyjaśnia spraw z dyrektorem , a ocenia pisemnie dyrektora bardzo wysoko. To jak takiego nazwać ? Może walczy o strefę wpływów , tylko po co ?  Zachowuje się wyraźnie dziwnie , ale na pewno nie jak wizytator K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rostokąt 1"/>
          <p:cNvSpPr/>
          <p:nvPr/>
        </p:nvSpPr>
        <p:spPr>
          <a:xfrm>
            <a:off x="684360" y="549360"/>
            <a:ext cx="75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Z forum OSKKO       -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ideał wizytat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rostokąt 2"/>
          <p:cNvSpPr/>
          <p:nvPr/>
        </p:nvSpPr>
        <p:spPr>
          <a:xfrm>
            <a:off x="228600" y="965160"/>
            <a:ext cx="8466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ylwia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ój idealny wizytator to taki, który jest pogodnym człowiekiem, ma wiedzę, zna prawo i potrafi się tym dzielić. Nie jest to kontroler tylko podpora dla dyrektora aby go wspierać w trudnych sprawach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rostokąt 3"/>
          <p:cNvSpPr/>
          <p:nvPr/>
        </p:nvSpPr>
        <p:spPr>
          <a:xfrm>
            <a:off x="228600" y="1982880"/>
            <a:ext cx="8690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lrym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izytator, to dla mnie osoba, z która rozwiązuję problem, kiedy go mam osoba, która mnie wspiera, potrafi doradzić, wspomaga dyrektora, świetnie porusza się w gąszczu przepisów, osoba, do której nie boję się zatelefonować, kiedy potrzebuję porady :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.S. znam "taką jedną rudą", szkoda tylko że nie jest z mojego KO :-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rostokąt 4"/>
          <p:cNvSpPr/>
          <p:nvPr/>
        </p:nvSpPr>
        <p:spPr>
          <a:xfrm>
            <a:off x="228600" y="3665520"/>
            <a:ext cx="8470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zewa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jak dla mnie wizytator, powinien być profesjonalistą, znającym prawo oświatowe oraz wiedzieć na czym polega nadzór pedagogiczny oraz znać się na organizacji i zarządzaniu szkoł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winien też wiedzieć w jaki sposób prowadzić skuteczną kontrolę (kontrolując, jeśli to wskazane, wizytator powinien udzielać instruktażu - tak jak inspektor PIP) no i chyba najważniejsze: wizytator powinien posiadać umiejętność logicznego myślenia - w żadnym razie nie może mylić przyczyn ze skutk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rostokąt 1"/>
          <p:cNvSpPr/>
          <p:nvPr/>
        </p:nvSpPr>
        <p:spPr>
          <a:xfrm>
            <a:off x="611280" y="47628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Z forum OSKKO       - 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ideał wizytat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rostokąt 2"/>
          <p:cNvSpPr/>
          <p:nvPr/>
        </p:nvSpPr>
        <p:spPr>
          <a:xfrm>
            <a:off x="324000" y="1484280"/>
            <a:ext cx="849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nJa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gadzam się z tym, co napisała rzewa. Wizytator nie jest od tego by mu się niekompetentny dyrek czy opek  w rękaw wypłakiwał i o wsparcie błagał, kiedy właśnie coś spieprzy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rostokąt 3"/>
          <p:cNvSpPr/>
          <p:nvPr/>
        </p:nvSpPr>
        <p:spPr>
          <a:xfrm>
            <a:off x="271440" y="2637000"/>
            <a:ext cx="84978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ylwia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swojej pracy często spotykałam się z wizytatorami, którzy uważali, że tylko oni mają rację a czasami, że są ponad prawem. Ostatnio w jednej ze szkół wizytator widział problem ale powiedział, że nie może tego wpisać do protokołu bo z góry dostał inne zalecenia. Nie wiem co to była ta góra. Myślę, że wizytator  powinien być po prostu człowiekiem, który nie szuka błędów tylko widzi je i podpowiada jak je naprawić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latego uważam że wizytator powinien być nie tylko kontrolującym ale także wpierającym, miłym i mądrym człowieki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o i jakby tak było to każdy dyrektor by prosił o częste kontrole ;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KODEKS  PEDAGOGA 1876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320" y="1052640"/>
            <a:ext cx="8928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1. Nauczyciel każdego dnia powinien zadbać o to, aby lampy były napełnione a kominek czys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2. Każdy nauczyciel winien codziennie przynosić wiadro wody i kubeł węg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3. Pióra należy przygotowywać starannie. Końcówki piór można ostrzyć zgodnie z indywidualnymi upodobaniami wychowankó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4. Nauczycielowi płci męskiej zezwala się na wykorzystanie jednego wieczoru w tygodniu na sprawy osobiste (bądź też dwóch wieczorów, jeśli regularnie uczęszcza do kościoł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5. Po spędzeniu dziesięciu godzin w szkole, nauczyciele mogą     oddać się czytaniu Biblii lub innych pożytecznych ksią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rostokąt 1"/>
          <p:cNvSpPr/>
          <p:nvPr/>
        </p:nvSpPr>
        <p:spPr>
          <a:xfrm>
            <a:off x="179280" y="404640"/>
            <a:ext cx="878544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Natka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 jeszcze gorszy taki, który próbuje coś na siłę znaleźć ... miałam kilku wizytatorów - kontrole doraźne i planowe najbardziej denerwowała i denerwuje mnie niekompetentność - wizytator kontroluje szkołę (dyrektora) zgodnie z arkuszem kontroli, a czy w nim pytania są zgodne z prawem, to już nie jego problem, ba, on nawet czasami nie wie, że coś w nim jest niezgodne ..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miałam takich, którzy przychodzili, sprawdzali i weryfikowali informacje, rozmawiali z nauczycielami, wychowawcą, przeglądali dokumentację i niekiedy od razu przekazywali wstępną informację (wynik kontroli), czasami sugerowali, żeby większą uwagę zwrócić na... lub notować w zeszycie wychowawczym to lub tamto (biurokracja :(  ), fakt, sami wskazywali, że to biurokracja, ale w wielu przypadkach chroni d ... przy rodzicach roszczeniowych, czy konfliktach między dziećmi, a które znajdują finał w postaci skargi do KO na szkołę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miałam i takiego, który na siłę próbował coś znaleźć (arkusz kontroli MEN), "dobił" mnie, kiedy wołał dowody na to, że współpracujemy np. z sanepidem - protokoły z kontroli, realizacji programu nie wystarczyły, dopiero wskazanie realizacji programu MEN przy współudziale KO (KO koordynowało i zatwierdzało sprawozdania) poskutkowało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no i miałam takiego, który przemaglował mnie, pedagoga, wychowawców, skrupulatnie sprawdzał dokumentację, weryfikował opinię, zalecenia i ich realizację, skargi, itd. - kontrola mało przyjemna, ścieranie się, cały czas na pełnych obrotach (palcem musiałam pokazywać i udowadniać, że to jest, że to zgodne z prawem), kiedy wychodził, niczego nie byłam pewna, chyba że tego, że będą jakieś zalecenia - czekanie 7 dni na to, żeby przeczytać brak zaleceń i uwag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czego ja oczekuję? kompetencji, profesjonalizmu, znajomości prawa, nie wydawania wyników przed kontrol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rostokąt 1"/>
          <p:cNvSpPr/>
          <p:nvPr/>
        </p:nvSpPr>
        <p:spPr>
          <a:xfrm>
            <a:off x="324000" y="793800"/>
            <a:ext cx="8569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Izael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emocjonalne: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 bardzo pozytywne i zadziwione, ale oni także widzą podobnie funkcjonowanie wizytator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 cechy idealnego wizytatora to także cechy idealnego dyrektora szkoły - taka konkluz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ie bardzo widzą drogę powrotu do stanu: wizytator=wspiera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wracali także uwagę na to, że zdarzają im się telefony od dyrektorów w jakiejś sprawie, gdzie dyrektor nie chce przedyskutować, jak rozumieć przepis, tylko chce, by wizytator powiedział mu jak ma coś zrobić...przepisu nie czytał, bo KO wie lepiej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izytator może pomóc, ale na pewno nie będzie wyręcza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jeśli tak jest, a pewnie czasem bywa, to taki dyrektor "do kozy":))) (to jest mój komentar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roblemem jest w KO dostęp do szkoleń - kasa? sam kurator?...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hoć są delegatury, które dofinansowują (na tym szkoleniu jedna) studia podyplomowe i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o jak masz zostać autorytetem, jeśli nie doskonalisz swojego warsztatu pracy?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rostokąt 2"/>
          <p:cNvSpPr/>
          <p:nvPr/>
        </p:nvSpPr>
        <p:spPr>
          <a:xfrm>
            <a:off x="335880" y="349200"/>
            <a:ext cx="360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Jacek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 reakcje wizytatoró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95280" y="981000"/>
            <a:ext cx="822960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36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6. Nauczycielki, które wychodzą za mąż bądź angażują się      w romanse dostaną natychmiastowe wypowiedzen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7. Nauczyciel, który pali, używa alkoholu w jakiejkolwiek formie, uczęszcza do kasyna lub domu publicznego, lub też goli się u fryzjera dostarcza znakomitych powodów, by żywić poważne wątpliwości, co do jeg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artości, zamiarów, prawości i uczciwoś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8. Nauczyciel powinien odkładać drobne sumy z każdej wypłacanej mu pensji, aby w latach starości nie stać się ciężarem dla społeczeństw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9. Nauczyciel wykonujący swą pracę sumiennie i wiernie przez 5 lat spodziewać się może podwyżki w wysokości dwudziestu pięciu centów tygodniowo, o ile zarząd wyrazi na to zgod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rostokąt 3"/>
          <p:cNvSpPr/>
          <p:nvPr/>
        </p:nvSpPr>
        <p:spPr>
          <a:xfrm>
            <a:off x="5299920" y="333360"/>
            <a:ext cx="33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00"/>
                </a:solidFill>
                <a:latin typeface="Arial"/>
              </a:rPr>
              <a:t>KODEKS  PEDAGOGA 1876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rostokąt 2"/>
          <p:cNvSpPr/>
          <p:nvPr/>
        </p:nvSpPr>
        <p:spPr>
          <a:xfrm>
            <a:off x="971640" y="47628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Garamond"/>
              </a:rPr>
              <a:t>KODEKS ETYCZ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rostokąt 3"/>
          <p:cNvSpPr/>
          <p:nvPr/>
        </p:nvSpPr>
        <p:spPr>
          <a:xfrm>
            <a:off x="395280" y="1628640"/>
            <a:ext cx="8172360" cy="48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Garamond"/>
              </a:rPr>
              <a:t>Po co kodeks etycz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aramond"/>
              </a:rPr>
              <a:t>Świadomość oczekiwań- zasad postępowania wizytatora (czy moje zachowanie jest w porządku, czy sprzyja … rozwojowi szkoły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aramond"/>
              </a:rPr>
              <a:t>Budowanie wizerunku instytucji (K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Garamond"/>
              </a:rPr>
              <a:t>Deficyt społecznego zaufania do Państwa, do instytucji, polityków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rostokąt 1"/>
          <p:cNvSpPr/>
          <p:nvPr/>
        </p:nvSpPr>
        <p:spPr>
          <a:xfrm>
            <a:off x="268200" y="1149480"/>
            <a:ext cx="872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0000"/>
                </a:solidFill>
                <a:latin typeface="Arial"/>
              </a:rPr>
              <a:t>Wiarygodność to szybkość zaufani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S.M.R Covey, R.R Merr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rostokąt 2"/>
          <p:cNvSpPr/>
          <p:nvPr/>
        </p:nvSpPr>
        <p:spPr>
          <a:xfrm>
            <a:off x="971640" y="47628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Garamond"/>
              </a:rPr>
              <a:t>KODEKS ETYCZ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rostokąt 3"/>
          <p:cNvSpPr/>
          <p:nvPr/>
        </p:nvSpPr>
        <p:spPr>
          <a:xfrm>
            <a:off x="281160" y="2349360"/>
            <a:ext cx="833112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Arial"/>
              </a:rPr>
              <a:t>KOMPETENCJE -  wiedza, umiejętności i postaw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MIEJĘTNOŚĆI-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dolność wykonywania zadań                            i rozwiązywania problemów właściwych dla działalności zawodow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rostokąt 4"/>
          <p:cNvSpPr/>
          <p:nvPr/>
        </p:nvSpPr>
        <p:spPr>
          <a:xfrm>
            <a:off x="281160" y="4292640"/>
            <a:ext cx="8624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70c0"/>
                </a:solidFill>
                <a:latin typeface="Arial"/>
              </a:rPr>
              <a:t>POSTAW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AWOŚĆ – uczciwość, robienie tego, co się mówi, odwaga postępowania zgodnie z oczekiwaniam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TENCJE – motywy, zamiary, czy są czytelne? czy okazujemy dbałość o ludz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rostokąt 1"/>
          <p:cNvSpPr/>
          <p:nvPr/>
        </p:nvSpPr>
        <p:spPr>
          <a:xfrm>
            <a:off x="324000" y="905040"/>
            <a:ext cx="85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00"/>
                </a:solidFill>
                <a:latin typeface="Arial"/>
              </a:rPr>
              <a:t>Cel sprawowania nadzoru pedagogiczn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141560" y="189000"/>
            <a:ext cx="7974000" cy="493560"/>
          </a:xfrm>
          <a:prstGeom prst="rect">
            <a:avLst/>
          </a:prstGeom>
          <a:ln w="0">
            <a:noFill/>
          </a:ln>
        </p:spPr>
      </p:pic>
      <p:sp>
        <p:nvSpPr>
          <p:cNvPr id="54" name="Prostokąt 2"/>
          <p:cNvSpPr/>
          <p:nvPr/>
        </p:nvSpPr>
        <p:spPr>
          <a:xfrm>
            <a:off x="290520" y="2276640"/>
            <a:ext cx="8742240" cy="38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000000"/>
                </a:solidFill>
                <a:uFillTx/>
                <a:latin typeface="Arial"/>
              </a:rPr>
              <a:t>Wspieranie jakościowego rozwoju placówek oświatowy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aństwo formułuje kierunki polityki oświatowej oraz 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wymagania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wobec szkół i placówek na ogólnym poziomie pozwalającym szkołom  prowadzenie działalności zgodnie z </a:t>
            </a: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lokalnymi potrzebami i właściwościami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rostokąt 3"/>
          <p:cNvSpPr/>
          <p:nvPr/>
        </p:nvSpPr>
        <p:spPr>
          <a:xfrm>
            <a:off x="324000" y="148896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70c0"/>
                </a:solidFill>
                <a:latin typeface="Arial"/>
              </a:rPr>
              <a:t>doskonalenie systemu oświaty, a w szczególności jakościowy rozwój szkół                       i placówek z ukierunkowaniem na rozwój ucznia i rozwój zawodowy nauczycie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rostokąt 1"/>
          <p:cNvSpPr/>
          <p:nvPr/>
        </p:nvSpPr>
        <p:spPr>
          <a:xfrm>
            <a:off x="468360" y="1341360"/>
            <a:ext cx="83516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Kodeks etyki korpusu służby cywilnej zawiera się w zarządzeniu nr 70 Prezesa Rady Ministrów z dnia 6 października 2011 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Urzędnicy korpusu służby cywilnej w swym postępowaniu powinni wyróżniać się </a:t>
            </a:r>
            <a:r>
              <a:rPr b="0" lang="pl-PL" sz="3200" spc="-1" strike="noStrike">
                <a:solidFill>
                  <a:srgbClr val="ff0000"/>
                </a:solidFill>
                <a:latin typeface="Arial"/>
              </a:rPr>
              <a:t>profesjonalizmem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3200" spc="-1" strike="noStrike">
                <a:solidFill>
                  <a:srgbClr val="ff0000"/>
                </a:solidFill>
                <a:latin typeface="Arial"/>
              </a:rPr>
              <a:t>rzetelnością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3200" spc="-1" strike="noStrike">
                <a:solidFill>
                  <a:srgbClr val="ff0000"/>
                </a:solidFill>
                <a:latin typeface="Arial"/>
              </a:rPr>
              <a:t>bezstronnością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pl-PL" sz="3200" spc="-1" strike="noStrike" u="sng">
                <a:solidFill>
                  <a:srgbClr val="ff0000"/>
                </a:solidFill>
                <a:uFillTx/>
                <a:latin typeface="Arial"/>
              </a:rPr>
              <a:t>apolitycznością</a:t>
            </a:r>
            <a:r>
              <a:rPr b="0" lang="pl-PL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846000" y="404640"/>
            <a:ext cx="79740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974000" cy="493560"/>
          </a:xfrm>
          <a:prstGeom prst="rect">
            <a:avLst/>
          </a:prstGeom>
          <a:ln w="0">
            <a:noFill/>
          </a:ln>
        </p:spPr>
      </p:pic>
      <p:sp>
        <p:nvSpPr>
          <p:cNvPr id="59" name="Prostokąt 1"/>
          <p:cNvSpPr/>
          <p:nvPr/>
        </p:nvSpPr>
        <p:spPr>
          <a:xfrm>
            <a:off x="179280" y="1006560"/>
            <a:ext cx="820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złonek korpusu służby cywilnej przestrzega zasad etyki korpusu służby cywilnej, którymi są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rostokąt 2"/>
          <p:cNvSpPr/>
          <p:nvPr/>
        </p:nvSpPr>
        <p:spPr>
          <a:xfrm>
            <a:off x="395280" y="3038400"/>
            <a:ext cx="842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Zasada godnego zachowania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– poszanowanie godności innych osób, życzliwość wobec ludzi, właściwe zachowanie się poza prac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Zasada służby publicznej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– służebny charakter pracy wobec obywateli, służba państwu, nie uchylanie się od podejmowania trudnych rozstrzygnięć, nie uchylanie się od odpowiedzialności za swoje postępowan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7974360" cy="493560"/>
          </a:xfrm>
          <a:prstGeom prst="rect">
            <a:avLst/>
          </a:prstGeom>
          <a:ln w="0">
            <a:noFill/>
          </a:ln>
        </p:spPr>
      </p:pic>
      <p:sp>
        <p:nvSpPr>
          <p:cNvPr id="62" name="Prostokąt 1"/>
          <p:cNvSpPr/>
          <p:nvPr/>
        </p:nvSpPr>
        <p:spPr>
          <a:xfrm>
            <a:off x="179280" y="2205000"/>
            <a:ext cx="885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Zasada lojalności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– lojalność wobec Rzeczypospolitej Polskiej, lojalne i rzetelne realizowanie programu Rządu, lojalność wobec urzędu, powściągliwość w publicznym wypowiadaniu poglądów na temat urzędów administracji rządow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Zasada neutralności politycznej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– nie manifestowanie publiczne poglądów i sympatii politycznych, nie stwarzanie podejrzeń             o sprzyjanie partiom politycznym, jasność i przejrzystość relacji z osobami pełniącymi funkcje politycz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09:26:17Z</dcterms:created>
  <dc:creator>Barbara Jechalska</dc:creator>
  <dc:description/>
  <dc:language>en-US</dc:language>
  <cp:lastModifiedBy>Basia</cp:lastModifiedBy>
  <dcterms:modified xsi:type="dcterms:W3CDTF">2017-04-02T16:17:41Z</dcterms:modified>
  <cp:revision>25</cp:revision>
  <dc:subject/>
  <dc:title>Slajd 1</dc:title>
</cp:coreProperties>
</file>