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</p:sldIdLst>
  <p:sldSz cx="9144000" cy="6858000"/>
  <p:notesSz cx="6854825" cy="9712325"/>
</p:presentation>
</file>

<file path=ppt/commentAuthors.xml><?xml version="1.0" encoding="utf-8"?>
<p:cmAuthorLst xmlns:p="http://schemas.openxmlformats.org/presentationml/2006/main">
  <p:cmAuthor id="0" name="pracownik" initials="p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presProps" Target="presProps.xml"/><Relationship Id="rId71" Type="http://schemas.openxmlformats.org/officeDocument/2006/relationships/commentAuthors" Target="commentAuthors.xml"/>
</Relationships>
</file>

<file path=ppt/comments/comment16.xml><?xml version="1.0" encoding="utf-8"?>
<p:cmLst xmlns:p="http://schemas.openxmlformats.org/presentationml/2006/main">
  <p:cm authorId="0" dt="2010-08-13T11:03:54.111000000" idx="1">
    <p:pos x="5644" y="3007"/>
    <p:text>"nawet wtedy, gdy jedynie druga osoba mówi"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802E-2790-4E8C-8B5F-5CE0A6D9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65AE-2023-43D1-ABF2-E713F0C2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79A90-5A2D-45F2-A3BB-F1DD52F6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5BE1F-118F-4EF5-9DEA-60E23AC4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F2622-3029-4AF0-9544-CE62C6F1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8AC4E-F1D4-4414-838D-86208093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601D7-30C8-475D-8E17-FCA68469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AD480-7E2E-4294-804E-7A9686D1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E85EA-1BD3-403E-ABA3-EF47A1FB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D098FB-E083-4C1D-96D2-6FF966A8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9E299-CE81-4C19-9FBC-237671A2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3F1D12-4F01-44D6-B783-50670ECE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1CF3-2E81-466E-8B1B-12C659CE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B1280-4BCB-4C6C-9E53-EC53244F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0F968-0BB7-46B8-B293-91C3420A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6CB24-B006-45AC-95BB-62413BBF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83403-F27F-42EE-A006-451124F6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2D3B6-DDA8-4DAB-BB74-12CD7C1C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C6F259-4316-4C79-BBC8-9E6C4E88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6BE80-D5FC-4F12-9A89-9CCFB76B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FBBB8-D47A-4D24-A8F3-061DC87A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0E7B9-5A1A-48B1-A0C1-AE3AA5B3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23017-859E-4F79-B264-34534188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B6F4-7AC7-49C7-B92A-51F6F00C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1C239-ADCB-407D-88F9-E6F3B0D6F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61B03-BCD8-46A0-9AE1-A23F77F4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AAE8F-853C-478C-8C42-15A7A5C6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A0870-06FC-4913-BC13-A51FC468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9746F-62AF-4414-872E-CEBC6D7A9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5A70C6-F209-4C7D-928C-840FDBF7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02999-1F42-436C-B91D-0DCB2881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6A571-A664-4062-8DBB-79A262A4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4384C-CBBD-430D-ADEF-F121D4C4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E6913-2A56-4EEE-A11C-EC779E96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7B42-5A70-4077-9C92-75D53A9D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85AB2-13F9-4CAF-ABCB-C4752564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4F538-2E89-4A82-96FA-C3C3A6B18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4F8AF-3486-4E4A-BBBA-433E7EC3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C59AB-D043-4A67-81AD-E454C4C5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2178B5-32FB-4585-837B-FFF5A43D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DF1DD-62BF-467C-BEEA-F5E88262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A931E-19E1-4EBB-826A-2E00AB55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ACEE0-6165-4DB8-9650-127DE78C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AA6B58-00A6-4942-BF52-A9DA28CA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F002E-A008-4434-B6A4-D2D3CDF0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343D-53D3-4622-8C65-AC9A636D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76519-687F-4102-BC44-2E4D7C02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F83FF-07DD-425E-A894-ED24C2C2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20530-9286-4374-9BB7-A50C704A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C35C2D-F75C-4D60-8A90-132B8ED4B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2480F-D509-475A-AEF3-BDAC06BCD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1678F-69D0-4C70-9499-CD459C51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2606A9-4AF4-4351-937A-B967078C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F7178-6DC8-44ED-BE0C-304287C2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D38311-F8FC-4CD9-BC89-B9F64A4F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653A1-6C54-41B9-8169-63344134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183E-123F-4A38-80C8-878EC6B1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B75011-6CA8-45B1-B44A-87568479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55A5B-5B69-47F9-BBDF-8FF5AA2E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43BD42-2978-426E-BD3B-582150A0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DC71D-9E31-4376-8F1D-B635D9C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AE994-1D1F-4F59-A635-7C9195BC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1F06C6-6C57-4DC0-9B0B-B3DED75D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B3D03D-B9BF-4061-BF6D-D96FA15C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7BE6-39C9-46F6-9434-A95687A7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83E2-111E-4841-96E7-4143A2DA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ABDE-39E4-46EA-873D-C0D3E08B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B3AE-4A57-4BE2-80CB-EEBBF9E1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E49-D958-4E22-B28C-5601DF18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4DA5-5D2E-4BC2-83FA-328F7D45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2A56-C81A-4308-A920-6F18C886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8D68-F7A4-4267-8E93-C3800809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E084-D61C-46A1-B65C-75DDD412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BC460-BF1E-4031-ACA2-3D753095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15F4-4A6F-4DBE-B3B0-AE8125DE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D967-D73A-4EED-B0F7-21C680C7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0674A-3ADF-431E-9994-78BCCAAA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403D8-6483-4E4A-998E-6091910A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0CBDF-27D9-4B3E-B2A1-3E474035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97D3-5318-409C-A287-24BBB33C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BF68-D00C-4247-8BC9-822EBE39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C94DC-B51E-4006-A5D8-5F5DB806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88EA9-A25E-4CA8-8E61-75B29C19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2DD6-DC94-44C7-B17C-7CAB8554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7E158-9E2B-4C17-BC1E-5B960343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BDBF1-3C82-4A5C-AF5F-DD30C588C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4A5B1-6320-45B6-A96F-5CAF519E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0787B-8BF3-404E-8695-F8C47F96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0BB5F-2930-40DA-871D-FA9B96AB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06AFC-D7A3-484B-A4A7-D35BADE2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333-7CC8-4F47-A547-BA30D228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38633-F102-4379-AB64-347F8B3B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B0D55-EB5E-4301-817B-6DE5E665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7FD60-3A55-408D-BDC5-D6AB0CE3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41556-1AFF-4F1C-989F-BA7A425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C093-952E-4743-9DB0-FABDA030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E9F80-C4AB-4FFD-9349-EC2B39DE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0E63-C6BE-448B-B36F-58876F51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9B766-7EBB-48CB-AA3A-DB58E3D9C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EDF27-E284-42FF-932A-07F94514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074DA-4ADD-4012-BFE9-B5C10E5D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065-F42D-4DCD-B787-F96B7FB8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8CB89-1DB8-4BAB-A645-86847F19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9B0F4-269D-4EAC-9B4A-4CDE7F6C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6F8E3-1919-41A6-9A97-E05FE81C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4ED82-7729-40CF-AC49-8A202C12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C1D1B-CF37-46A9-AA66-F846B170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DFC31-F1C8-4104-B9B2-4F0AE44F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A9F22-A525-4498-B638-8228414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1D83D-8D14-4DBE-BB5A-AF9A8D37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4C502-C0DB-41CC-93BF-7DFD96CC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D5AE6-FA45-4E31-B55C-1D5C278C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0E61-4A05-4924-8589-30B48FD9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4C8A1-CC2E-47C3-8B20-027DAE7A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D2E12-7163-486B-918B-DD6027A3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60CE1-147B-44E3-BE67-CED680BB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FFB91C-6D24-43C8-B104-0D4AB3EA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31CAF-D0E2-49A3-B186-64A5CE6E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96E79-A3FB-4A28-9DC8-03791196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730C3-8C28-4CD6-9B30-5ED14C975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14FE8-8791-486D-A0B2-5ED599CF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34DF1-C82C-4CBC-8931-23BE0C54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89832-3D7A-438D-9556-C357D304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4501-01A8-4A91-965A-059FC3BB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41025-E6DB-4267-86A3-9A374FA1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5CFA5-AA52-4411-A261-9340A6F91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AFBDE-5FFE-4461-B539-A555F11BF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49FD5-6EBA-4034-B899-328F945F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41A7A-318A-4EDF-811A-5B2AAA4D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0409B-A6CC-4FBB-84B0-DE379AC3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FEE11-F41E-4FD7-979C-89049D00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12984-5C68-4784-B9E8-A1E43D52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1870D-8678-4973-B0CC-4CB7C9EA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EF21F-E997-4F2D-8CEE-F4AB7AA3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E490-7105-4364-B72C-A59E2806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9B723-A1A7-4DD3-95D8-CA84DBC2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A74A9-7534-44BE-8D3C-63BB4148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E5EA4F-1C7A-4124-B85D-94352CC0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CF815-5FF8-4EE1-968A-EA3C688B6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EB391-CA15-4441-87EF-D0884542E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152AE-AFD5-407B-829B-DBEE5531A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16EF3-89F5-491A-B03D-141E9AAF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9E657-820B-4DC9-B48F-65666C0F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F9BDD-E1EB-433B-9ECA-D2A94B56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2728F-49F3-4216-8160-69A209AD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7A7F-1B7F-4714-A249-3D2FA155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3FC6E-34F7-4C7D-98A0-FB619766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FF474-6F2B-497E-A359-7C6F9427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10CA2-D2A7-4C74-94DE-BB5FDCC0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64760-83CF-4BED-AA6D-D5DE8BD3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AE6F1-EFCE-46F4-9D5D-0AAA8871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BDF82-386A-45A1-9A70-F1C1095B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1F7E3-8D0C-4148-A182-34604EDEA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40B915-394B-421B-87B7-D085138C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98F8B-1912-43B4-998A-8C167523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7BC39-9AEC-4777-BE69-84DC7188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61AB-4630-42F8-91BE-219907F280C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E6D5-DD28-422B-8559-BAFF033BA46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8F6E-CBC5-4780-B724-2E74A4506F6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990C-414E-4E4F-83CC-9C97DE18F93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9D4A-71E3-467F-81B9-D674F85EBBA6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8710-CD9B-4CA8-AA16-6449242AF20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8B73-3C25-4E0C-A2CD-EFF787A6684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A908-9172-45C8-BDE0-133103345E0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1C4D-2A66-4E40-A3D1-05FC7DB06AD4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5B68-2F0E-4B6B-807D-3518492216F9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2F5F-760A-45F6-9BCC-EB8E8EFA55F1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45AA-99F5-467C-A6BF-D3F33288D9B7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046B-A348-40D2-96C8-EECE254E5DF2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rostokąt 1"/>
          <p:cNvSpPr/>
          <p:nvPr/>
        </p:nvSpPr>
        <p:spPr>
          <a:xfrm>
            <a:off x="900000" y="2444760"/>
            <a:ext cx="73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EFEKTYWNA KOMUNIKACJ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SKUTECZNA WSPÓŁPRA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Komunikacja werbalna i niewerb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09480" y="1989000"/>
            <a:ext cx="785016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łowa należą do sfery umysłu. Mowa ciała jest instynktow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łowa dobieramy świadomie i przepuszczamy przez wewnętrzny filtr. Mowa ciała wyraża się spontanicznie i bez cenzu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łowa mają konkretne znaczenie dla użytkowników danego języka. Mowa ciała jest zwykle uniwersal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a pomocą słowa można tworzyć opisy i snuć opowieści. Mowa ciała potrafi bardzo szybko oddać i wywołać skomplikowane emoc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Słowa i mowa ciała razem tworzą dialo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Komunikacja werbalna i niewerb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94920" y="2707920"/>
            <a:ext cx="7529400" cy="16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Gdy komunikaty werbalne                             i niewerbalne nie są zgodne, większość ludzi wierzy językowi ciał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6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Podstawowy model procesu komunikac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upa 27"/>
          <p:cNvGrpSpPr/>
          <p:nvPr/>
        </p:nvGrpSpPr>
        <p:grpSpPr>
          <a:xfrm>
            <a:off x="1332000" y="836640"/>
            <a:ext cx="6189480" cy="4645080"/>
            <a:chOff x="1332000" y="836640"/>
            <a:chExt cx="6189480" cy="4645080"/>
          </a:xfrm>
        </p:grpSpPr>
        <p:sp>
          <p:nvSpPr>
            <p:cNvPr id="556" name="Rectangle 2"/>
            <p:cNvSpPr/>
            <p:nvPr/>
          </p:nvSpPr>
          <p:spPr>
            <a:xfrm>
              <a:off x="1332000" y="2781000"/>
              <a:ext cx="1442160" cy="702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"/>
                </a:rPr>
                <a:t>Nadaw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3"/>
            <p:cNvSpPr/>
            <p:nvPr/>
          </p:nvSpPr>
          <p:spPr>
            <a:xfrm>
              <a:off x="3314880" y="1862640"/>
              <a:ext cx="540720" cy="253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80808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80808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80808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80808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80808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4"/>
            <p:cNvSpPr/>
            <p:nvPr/>
          </p:nvSpPr>
          <p:spPr>
            <a:xfrm>
              <a:off x="4997520" y="1862640"/>
              <a:ext cx="540720" cy="25387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808080"/>
                  </a:solidFill>
                  <a:latin typeface="Arial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808080"/>
                  </a:solidFill>
                  <a:latin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808080"/>
                  </a:solidFill>
                  <a:latin typeface="Arial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80808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808080"/>
                  </a:solidFill>
                  <a:latin typeface="Arial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5"/>
            <p:cNvSpPr/>
            <p:nvPr/>
          </p:nvSpPr>
          <p:spPr>
            <a:xfrm>
              <a:off x="6079320" y="2781000"/>
              <a:ext cx="1442160" cy="702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800" spc="-1" strike="noStrike">
                  <a:solidFill>
                    <a:srgbClr val="000000"/>
                  </a:solidFill>
                  <a:latin typeface="Arial"/>
                </a:rPr>
                <a:t>Odbiorc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3194640" y="5103720"/>
              <a:ext cx="2283480" cy="37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Informacja zwrot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3675600" y="1376640"/>
              <a:ext cx="150228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2000" spc="-1" strike="noStrike">
                  <a:solidFill>
                    <a:srgbClr val="000000"/>
                  </a:solidFill>
                  <a:latin typeface="Arial"/>
                </a:rPr>
                <a:t>Zakłóce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10"/>
            <p:cNvSpPr/>
            <p:nvPr/>
          </p:nvSpPr>
          <p:spPr>
            <a:xfrm>
              <a:off x="6740280" y="3483360"/>
              <a:ext cx="0" cy="151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1"/>
            <p:cNvSpPr/>
            <p:nvPr/>
          </p:nvSpPr>
          <p:spPr>
            <a:xfrm flipH="1">
              <a:off x="1992600" y="4995720"/>
              <a:ext cx="4747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12"/>
            <p:cNvSpPr/>
            <p:nvPr/>
          </p:nvSpPr>
          <p:spPr>
            <a:xfrm flipV="1">
              <a:off x="1992960" y="3483000"/>
              <a:ext cx="0" cy="151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13"/>
            <p:cNvSpPr/>
            <p:nvPr/>
          </p:nvSpPr>
          <p:spPr>
            <a:xfrm>
              <a:off x="2894400" y="2889000"/>
              <a:ext cx="24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14"/>
            <p:cNvSpPr/>
            <p:nvPr/>
          </p:nvSpPr>
          <p:spPr>
            <a:xfrm>
              <a:off x="2894400" y="3159360"/>
              <a:ext cx="24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15"/>
            <p:cNvSpPr/>
            <p:nvPr/>
          </p:nvSpPr>
          <p:spPr>
            <a:xfrm>
              <a:off x="2894400" y="3429360"/>
              <a:ext cx="24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16"/>
            <p:cNvSpPr/>
            <p:nvPr/>
          </p:nvSpPr>
          <p:spPr>
            <a:xfrm>
              <a:off x="4096080" y="305100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17"/>
            <p:cNvSpPr/>
            <p:nvPr/>
          </p:nvSpPr>
          <p:spPr>
            <a:xfrm>
              <a:off x="4096080" y="3321360"/>
              <a:ext cx="42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18"/>
            <p:cNvSpPr/>
            <p:nvPr/>
          </p:nvSpPr>
          <p:spPr>
            <a:xfrm>
              <a:off x="5658840" y="315936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19"/>
            <p:cNvSpPr/>
            <p:nvPr/>
          </p:nvSpPr>
          <p:spPr>
            <a:xfrm>
              <a:off x="2593800" y="1160640"/>
              <a:ext cx="30024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0"/>
            <p:cNvSpPr/>
            <p:nvPr/>
          </p:nvSpPr>
          <p:spPr>
            <a:xfrm>
              <a:off x="3074760" y="998640"/>
              <a:ext cx="30024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21"/>
            <p:cNvSpPr/>
            <p:nvPr/>
          </p:nvSpPr>
          <p:spPr>
            <a:xfrm>
              <a:off x="3615480" y="890640"/>
              <a:ext cx="30024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22"/>
            <p:cNvSpPr/>
            <p:nvPr/>
          </p:nvSpPr>
          <p:spPr>
            <a:xfrm>
              <a:off x="4456800" y="83664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3"/>
            <p:cNvSpPr/>
            <p:nvPr/>
          </p:nvSpPr>
          <p:spPr>
            <a:xfrm flipH="1">
              <a:off x="4997160" y="890640"/>
              <a:ext cx="24012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4"/>
            <p:cNvSpPr/>
            <p:nvPr/>
          </p:nvSpPr>
          <p:spPr>
            <a:xfrm flipH="1">
              <a:off x="5538240" y="998640"/>
              <a:ext cx="24012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5"/>
            <p:cNvSpPr/>
            <p:nvPr/>
          </p:nvSpPr>
          <p:spPr>
            <a:xfrm flipH="1">
              <a:off x="6019200" y="1160640"/>
              <a:ext cx="30024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26"/>
            <p:cNvSpPr/>
            <p:nvPr/>
          </p:nvSpPr>
          <p:spPr>
            <a:xfrm>
              <a:off x="3375000" y="3969360"/>
              <a:ext cx="420480" cy="37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27"/>
            <p:cNvSpPr/>
            <p:nvPr/>
          </p:nvSpPr>
          <p:spPr>
            <a:xfrm>
              <a:off x="5057640" y="3969360"/>
              <a:ext cx="420480" cy="37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921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Łańcuch komunikacyj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Group 3"/>
          <p:cNvGrpSpPr/>
          <p:nvPr/>
        </p:nvGrpSpPr>
        <p:grpSpPr>
          <a:xfrm>
            <a:off x="826920" y="1700280"/>
            <a:ext cx="7921800" cy="374760"/>
            <a:chOff x="826920" y="1700280"/>
            <a:chExt cx="7921800" cy="374760"/>
          </a:xfrm>
        </p:grpSpPr>
        <p:sp>
          <p:nvSpPr>
            <p:cNvPr id="582" name="Text Box 4"/>
            <p:cNvSpPr/>
            <p:nvPr/>
          </p:nvSpPr>
          <p:spPr>
            <a:xfrm>
              <a:off x="826920" y="1706760"/>
              <a:ext cx="158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NADAW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5"/>
            <p:cNvSpPr/>
            <p:nvPr/>
          </p:nvSpPr>
          <p:spPr>
            <a:xfrm>
              <a:off x="2195640" y="18511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6"/>
            <p:cNvSpPr/>
            <p:nvPr/>
          </p:nvSpPr>
          <p:spPr>
            <a:xfrm>
              <a:off x="2627280" y="170676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PRZE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7"/>
            <p:cNvSpPr/>
            <p:nvPr/>
          </p:nvSpPr>
          <p:spPr>
            <a:xfrm>
              <a:off x="3924360" y="18511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Text Box 8"/>
            <p:cNvSpPr/>
            <p:nvPr/>
          </p:nvSpPr>
          <p:spPr>
            <a:xfrm>
              <a:off x="4356000" y="17067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KANA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9"/>
            <p:cNvSpPr/>
            <p:nvPr/>
          </p:nvSpPr>
          <p:spPr>
            <a:xfrm>
              <a:off x="7236000" y="1851120"/>
              <a:ext cx="431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0"/>
            <p:cNvSpPr/>
            <p:nvPr/>
          </p:nvSpPr>
          <p:spPr>
            <a:xfrm>
              <a:off x="5364000" y="1851120"/>
              <a:ext cx="4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Text Box 11"/>
            <p:cNvSpPr/>
            <p:nvPr/>
          </p:nvSpPr>
          <p:spPr>
            <a:xfrm>
              <a:off x="5796000" y="170676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ODBIOR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Text Box 12"/>
            <p:cNvSpPr/>
            <p:nvPr/>
          </p:nvSpPr>
          <p:spPr>
            <a:xfrm>
              <a:off x="7667640" y="170028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Arial"/>
                </a:rPr>
                <a:t>EFEK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1" name="Picture 13" descr="1"/>
          <p:cNvPicPr/>
          <p:nvPr/>
        </p:nvPicPr>
        <p:blipFill>
          <a:blip r:embed="rId1"/>
          <a:stretch/>
        </p:blipFill>
        <p:spPr>
          <a:xfrm>
            <a:off x="2627280" y="2060640"/>
            <a:ext cx="3398760" cy="34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Kto w następujących sytuacjach jest nadawcą, a kto odbiorcą wiadomoś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09120" y="1844640"/>
            <a:ext cx="76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 zajęciach nauczyciel wyjaśnia uczniowi trudne pojęc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odzic wykładający nastolatkowi reguły obowiązujące w życiu rodzinny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przedawca udzielający klientowi informacji na temat produ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Odpowied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68000" y="1773000"/>
            <a:ext cx="82947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ierwszy odruch: nauczyciel, rodzic, sprzedawca to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nadawc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wiadomośc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czeń, nastolatek, klient to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odbiorc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0000"/>
                </a:solidFill>
                <a:uFillTx/>
                <a:latin typeface="Arial"/>
              </a:rPr>
              <a:t>Ale, al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yraz zagubienia na twarzy uczn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stolatek przerywający mówiącemu rodzicow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 klient pustym wzrokiem patrzący w d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Te werbalne i niewerbalne odpowiedzi są wiadomościami wysyłanymi nawet wtedy, gdy jedynie druga osoba mów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 txBox="1"/>
          <p:nvPr/>
        </p:nvSpPr>
        <p:spPr>
          <a:xfrm>
            <a:off x="468000" y="1484280"/>
            <a:ext cx="8142120" cy="39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zęsto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ie można odróżni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nadawcy od odbior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epiej mówić o „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orozumiewających się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Ludzie są równocześ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nadawcami                         i odbiorcami wymieniającymi liczne wiadomości (ale i przeżycia, postawy, potrzeb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468360" y="907920"/>
            <a:ext cx="770256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koro nie udaje się łatwo oddzielić osoby nadającej od tej, która odbiera wiadomość, nie można powiedzieć, czyją wiadomość uznać za odpowiedź ( w takim ujęciu pojęcie informacji zwrotnej to „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niewiadom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p. czy krytyczne uwagi szefa wobec źle wywiązującego się z obowiązków pracownika są informacją zwrotną czy też zła praca jest odpowiedzią na niejasne instrukcje wcześniej udzielone przez szefa?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Model porozumiewania si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1258560" y="2781000"/>
            <a:ext cx="7086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98989"/>
                </a:solidFill>
                <a:latin typeface="Arial"/>
              </a:rPr>
              <a:t>Wysyłanie i odbieranie wiadomości zachodzi zazwyczaj jednocześ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Wstęp do komunikac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23640" y="2565000"/>
            <a:ext cx="8543880" cy="26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5000"/>
              </a:lnSpc>
              <a:spcBef>
                <a:spcPts val="185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 Unicode MS"/>
              </a:rPr>
              <a:t>„</a:t>
            </a:r>
            <a:r>
              <a:rPr b="1" lang="pl-PL" sz="2700" spc="-1" strike="noStrike">
                <a:solidFill>
                  <a:srgbClr val="000000"/>
                </a:solidFill>
                <a:latin typeface="Arial Unicode MS"/>
              </a:rPr>
              <a:t>Umiejętność komunikowania się stała się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Arial Unicode MS"/>
              </a:rPr>
              <a:t>w dzisiejszym świecie towarem,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Arial Unicode MS"/>
              </a:rPr>
              <a:t>za który gotów jestem płacić więcej,</a:t>
            </a:r>
            <a:br>
              <a:rPr sz="2700"/>
            </a:br>
            <a:r>
              <a:rPr b="1" lang="pl-PL" sz="2700" spc="-1" strike="noStrike">
                <a:solidFill>
                  <a:srgbClr val="000000"/>
                </a:solidFill>
                <a:latin typeface="Arial Unicode MS"/>
              </a:rPr>
              <a:t>niż za jakikolwiek inny”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51"/>
              </a:spcBef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r>
              <a:rPr b="1" lang="pl-PL" sz="2700" spc="-1" strike="noStrike">
                <a:solidFill>
                  <a:srgbClr val="000000"/>
                </a:solidFill>
                <a:latin typeface="Arial Unicode MS"/>
              </a:rPr>
              <a:t>John D. Rockefeller</a:t>
            </a:r>
            <a:r>
              <a:rPr b="1" lang="pl-PL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upa 25"/>
          <p:cNvGrpSpPr/>
          <p:nvPr/>
        </p:nvGrpSpPr>
        <p:grpSpPr>
          <a:xfrm>
            <a:off x="250920" y="1125360"/>
            <a:ext cx="8669160" cy="4141800"/>
            <a:chOff x="250920" y="1125360"/>
            <a:chExt cx="8669160" cy="4141800"/>
          </a:xfrm>
        </p:grpSpPr>
        <p:sp>
          <p:nvSpPr>
            <p:cNvPr id="601" name="Oval 17"/>
            <p:cNvSpPr/>
            <p:nvPr/>
          </p:nvSpPr>
          <p:spPr>
            <a:xfrm>
              <a:off x="3573720" y="1953720"/>
              <a:ext cx="5346360" cy="228528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2"/>
            <p:cNvSpPr/>
            <p:nvPr/>
          </p:nvSpPr>
          <p:spPr>
            <a:xfrm>
              <a:off x="250920" y="1815480"/>
              <a:ext cx="5346360" cy="228528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7"/>
            <p:cNvSpPr/>
            <p:nvPr/>
          </p:nvSpPr>
          <p:spPr>
            <a:xfrm>
              <a:off x="3196080" y="2989080"/>
              <a:ext cx="2643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477360" y="2160720"/>
              <a:ext cx="1963440" cy="15184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Comic Sans MS"/>
                </a:rPr>
                <a:t>Porozumiewają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Comic Sans MS"/>
                </a:rPr>
                <a:t>się wysyła, odbiera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Comic Sans MS"/>
                </a:rPr>
                <a:t>nadaje s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10"/>
            <p:cNvSpPr/>
            <p:nvPr/>
          </p:nvSpPr>
          <p:spPr>
            <a:xfrm>
              <a:off x="4782240" y="1470240"/>
              <a:ext cx="0" cy="30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11"/>
            <p:cNvSpPr/>
            <p:nvPr/>
          </p:nvSpPr>
          <p:spPr>
            <a:xfrm>
              <a:off x="5839560" y="1470240"/>
              <a:ext cx="0" cy="30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14"/>
            <p:cNvSpPr/>
            <p:nvPr/>
          </p:nvSpPr>
          <p:spPr>
            <a:xfrm>
              <a:off x="3573720" y="1539360"/>
              <a:ext cx="0" cy="30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15"/>
            <p:cNvSpPr/>
            <p:nvPr/>
          </p:nvSpPr>
          <p:spPr>
            <a:xfrm>
              <a:off x="2289960" y="1470240"/>
              <a:ext cx="0" cy="30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16"/>
            <p:cNvSpPr/>
            <p:nvPr/>
          </p:nvSpPr>
          <p:spPr>
            <a:xfrm>
              <a:off x="855000" y="1539360"/>
              <a:ext cx="0" cy="30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18"/>
            <p:cNvSpPr/>
            <p:nvPr/>
          </p:nvSpPr>
          <p:spPr>
            <a:xfrm>
              <a:off x="401760" y="1194120"/>
              <a:ext cx="981720" cy="2761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cc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omic Sans MS"/>
                </a:rPr>
                <a:t>sz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19"/>
            <p:cNvSpPr/>
            <p:nvPr/>
          </p:nvSpPr>
          <p:spPr>
            <a:xfrm>
              <a:off x="2516400" y="3058200"/>
              <a:ext cx="981720" cy="27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33339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Comic Sans MS"/>
                </a:rPr>
                <a:t>kana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3"/>
            <p:cNvSpPr/>
            <p:nvPr/>
          </p:nvSpPr>
          <p:spPr>
            <a:xfrm>
              <a:off x="7803000" y="4577040"/>
              <a:ext cx="981720" cy="2761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cc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omic Sans MS"/>
                </a:rPr>
                <a:t>sz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4"/>
            <p:cNvSpPr/>
            <p:nvPr/>
          </p:nvSpPr>
          <p:spPr>
            <a:xfrm>
              <a:off x="4329000" y="4646160"/>
              <a:ext cx="981720" cy="2761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cc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omic Sans MS"/>
                </a:rPr>
                <a:t>sz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5"/>
            <p:cNvSpPr/>
            <p:nvPr/>
          </p:nvSpPr>
          <p:spPr>
            <a:xfrm>
              <a:off x="326160" y="4646160"/>
              <a:ext cx="981720" cy="2761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cc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omic Sans MS"/>
                </a:rPr>
                <a:t>sz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6"/>
            <p:cNvSpPr/>
            <p:nvPr/>
          </p:nvSpPr>
          <p:spPr>
            <a:xfrm>
              <a:off x="7878600" y="1125360"/>
              <a:ext cx="981720" cy="2761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cc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omic Sans MS"/>
                </a:rPr>
                <a:t>sz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7"/>
            <p:cNvSpPr/>
            <p:nvPr/>
          </p:nvSpPr>
          <p:spPr>
            <a:xfrm>
              <a:off x="4329000" y="1125360"/>
              <a:ext cx="981720" cy="2761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cc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omic Sans MS"/>
                </a:rPr>
                <a:t>sz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5613120" y="3058200"/>
              <a:ext cx="981720" cy="2761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33339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600" spc="-1" strike="noStrike">
                  <a:solidFill>
                    <a:srgbClr val="000000"/>
                  </a:solidFill>
                  <a:latin typeface="Comic Sans MS"/>
                </a:rPr>
                <a:t>kana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1912320" y="4784040"/>
              <a:ext cx="2039040" cy="4831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omic Sans MS"/>
                </a:rPr>
                <a:t>ŚRODOWIDKO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2"/>
            <p:cNvSpPr/>
            <p:nvPr/>
          </p:nvSpPr>
          <p:spPr>
            <a:xfrm>
              <a:off x="5461920" y="4784040"/>
              <a:ext cx="2039040" cy="48312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800" spc="-1" strike="noStrike">
                  <a:solidFill>
                    <a:srgbClr val="000000"/>
                  </a:solidFill>
                  <a:latin typeface="Comic Sans MS"/>
                </a:rPr>
                <a:t>ŚRODOWIDKO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43"/>
            <p:cNvSpPr/>
            <p:nvPr/>
          </p:nvSpPr>
          <p:spPr>
            <a:xfrm>
              <a:off x="6745680" y="2298960"/>
              <a:ext cx="1963440" cy="151848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Comic Sans MS"/>
                </a:rPr>
                <a:t>Porozumiewając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pl-PL" sz="1600" spc="-1" strike="noStrike">
                  <a:solidFill>
                    <a:srgbClr val="ffffff"/>
                  </a:solidFill>
                  <a:latin typeface="Comic Sans MS"/>
                </a:rPr>
                <a:t>się wysyła, odbiera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Comic Sans MS"/>
                </a:rPr>
                <a:t>nadaje s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2"/>
            <p:cNvSpPr/>
            <p:nvPr/>
          </p:nvSpPr>
          <p:spPr>
            <a:xfrm>
              <a:off x="7123320" y="1470240"/>
              <a:ext cx="0" cy="30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3"/>
            <p:cNvSpPr/>
            <p:nvPr/>
          </p:nvSpPr>
          <p:spPr>
            <a:xfrm>
              <a:off x="8331840" y="1470240"/>
              <a:ext cx="0" cy="30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del procesu komunikowania się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wg. Stankiewic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468360" y="1773360"/>
          <a:ext cx="8147160" cy="4141800"/>
        </p:xfrm>
        <a:graphic>
          <a:graphicData uri="http://schemas.openxmlformats.org/drawingml/2006/table">
            <a:tbl>
              <a:tblPr/>
              <a:tblGrid>
                <a:gridCol w="4073400"/>
                <a:gridCol w="40737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ŹRÓDŁ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aw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bior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ywat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ubli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specjal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rzypadk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NAŁ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ba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werbal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ŁASY (ZAKŁÓCEN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izy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izjologi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sychologicz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ZĘŻENIE ZWROT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EDBAC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ytyw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yw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EK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Warunk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c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Znaczenia istnieją w ludziach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 pomiędzy ludź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2133360"/>
            <a:ext cx="829152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adomości werbalne, jak i niewerbalne,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ie mają znaczenia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ame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sob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naczenia nadają im ludzie, którzy j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yrażają i interpretuj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ożliwość rozmaitych interpretacji oznacza, że dla satysfakcjonującego porozumienia często niezbędne jest uzgodnieni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spólnego znaczen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Środowisko i szum wpływają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a porozumiewanie si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9280" y="1773360"/>
            <a:ext cx="8964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Środowisk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różne zasoby doświadczeń, które pomagają zrozumieć zachowania innych. Wspólna przestrzeń reprezentuje zakres wspólnych doświadcze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u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wszystko co wpływa na przekaz i odbiór wiadomoś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rozumienie może zostać zakłócone przez trzy rodzaje szumó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ewnętrzn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zadymiona sala, odległe miejs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fizjologiczn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czynniki biologiczne: słabszy słuch, chorob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1713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sychologiczny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czynniki poznawcze, mechanizmy obr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2080" indent="-1713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anał wpływa na zróżnicowanie wiadomoś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94920" y="1904760"/>
            <a:ext cx="820908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anał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– medium pośredniczące w wymianie wiadomości. Zastosowanie odpowiedniego kanału porozumiewania się wpływa na to, jak odbiorca odpowie na wiadom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lepiej powiedzieć przepraszam osobiście , czy przez telef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Jaki kanał wyrazi gnie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w sprawie o podwyżkę  lepiej zwrócić się do szefa osobiście czy pisemn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zy wysłana e-mailem prośba o zwrot kosztów będzie skuteczniejsza od przekazanej osobiści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ormy komunikowania niewerbaln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457200" y="2133720"/>
          <a:ext cx="8229600" cy="3168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ZYJ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KSEMICZ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LINGWIS-TYCZ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M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TY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AKT WZROKOW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DYST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USADOWIE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OSTAWA CIAŁ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YKULAC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GŁOŚNOŚ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TEM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R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BARWA GŁOS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LEŻNOŚCI PRZESTRZENNE (PROKSEM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68360" y="191628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zachowaniach przestrzennych wyróżnia się cztery strefy używane przez nas nieświadomie podczas kontakt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interakcji zachodzących pomiędzy nami a innymi osobami w kontaktach społecznych. Są to: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•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trefa intymna (0-45cm),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 • strefa osobista (45-120 cm),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 • strefa społeczna (1,2-3,6 m),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         • strefa publiczna (3,6-6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liskość przestrzenna jest wskaźnikiem lubienia, sympatii. Im mniejszy dystans, tym bliższa relacja.</a:t>
            </a:r>
            <a:br>
              <a:rPr sz="24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Mowa niewerbalna – mity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 rzeczywistoś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68360" y="162864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łamca nie patrzy prosto w oczy: patologiczni kłamcy patrzą właśnie prosto w oc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 więcej kontaktu wzrokowego tym lepiej: zależy od kontekstu  i sytuac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kładanie za siebie rąk to gest władzy: gest źle odczytywany, gdyż nie widzimy rąk i tego, co się z nimi dzie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Łączenie palców w wieżę oznacza intelektualistę: sporo badań łączy z myśleniem ruchy dłoni w kierunku dolnej części twarzy np. pocieranie brody, opieranie podbródka na dłoni, dotykanie policzka pal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owa niewerbalna – mity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 rzeczywist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68360" y="177300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udzie o wysokiej pozycji okazują opanowanie przez dotykanie innych:  takie gesty wykonują częściej osoby o niższym statusie, a także kob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Ludzie uśmiechają się, kiedy są szczęśliw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 można ufać osobie szybko mówiącej: tempo mówienia wynosi zwykle od 125 do 225 słów na minutę, przy górnej granicy ludzie zwykle opierają się mówiącemu; jednak to mowa powolna jest wskaźnikiem oszustwa, np. zbyt długie i częste pau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280" y="2133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Reguły rządzące porozumiewaniem si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186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Komunikacj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95280" y="234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Proces tworzenia, nadawania, odbierania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i interpretowania komunikató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między ludź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Komunikacja jest transgresyj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23640" y="148428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rozumiewanie się jest dynamicznym procesem, który zachodzi poprzez wzajemne interakc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rozumiewanie się nie jest działaniem dla innych, jest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zynnością wykonywaną razem z inny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ie informujemy kogoś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lecz porozumiewamy się z kim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Porozumiewanie się może być zamierzone lub nie zamier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9280" y="1844280"/>
            <a:ext cx="8785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imo woli wysyłamy całe mnóstwo komunikatów niewerbalnyc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awet brak określonego zachowania także ma znaczenie komunikują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Cokolwiek czynisz – mówisz, czy milczysz, konfrontujesz się czy unikasz, ujawniasz emocje czy zachowujesz kamienne oblicze pokerzysty – dostarczasz innym informacji o swoich myślach i uczuciach.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458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Każda wypowiedź ma wymiar treściowy i relacyj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250920" y="170028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miar treściow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– informacja bezpośrednio przekazyw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miar relacyjny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– uczucia mówiącego do drugiej osoby – sympatia, niechęć, poczucie kontroli lub podporządkowania, uczucie spokoju lub niepokoju i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kontekście jakościowym analizowanego porozumiewania się </a:t>
            </a:r>
            <a:r>
              <a:rPr b="0" lang="pl-PL" sz="2800" spc="-1" strike="noStrike" u="sng">
                <a:solidFill>
                  <a:srgbClr val="000000"/>
                </a:solidFill>
                <a:uFillTx/>
                <a:latin typeface="Arial"/>
              </a:rPr>
              <a:t>relacyjny wymiar wiadomości często jest ważniejszy niż treściow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spieramy się o naturę naszych relacji: kto w niej dominuje, jak ważni jesteśmy dla siebie nawzajem itp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dstawowe różnice komunikowania werbalnego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 niewerbal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468360" y="2205000"/>
          <a:ext cx="8229600" cy="3876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ŁO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WA CIAŁ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ARYGODNOŚĆ (słowa nie zawsze są wiarygod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wa ciała nie zawsze podlega kontroli i dlatego jest wiarygo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ELOZNACZNOŚĆ (każde zdanie analizujemy i poddajemy oce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ekiedy mowa ciała jest jednoznacz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łowa są FILTROWANE przez móz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y to UCZU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łowa są KONKRETNE (okno=okn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wa ciała wymaga interpretac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łowa są przesadne, trzeba ich użyć wielu, aby opisać uczu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y są zwięzł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łowa dzielą, określają pozi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y są podobne w wielu kultur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Porozumiewanie się jest niepowtarzal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50560" y="1916280"/>
            <a:ext cx="8785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rozumiewanie się jest toczącym się procesem, zdarzeń nie można powtórzy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 potrzeba bez przerwy wymyślać nowych sposobów zachowania wobec znanych osób, ale trzeba wiedzieć, że „takie same” słowa i zachowania są za każdym razem in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01640" y="40464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Wywieranie wrażenia - autoprezentac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Grupa 29"/>
          <p:cNvGrpSpPr/>
          <p:nvPr/>
        </p:nvGrpSpPr>
        <p:grpSpPr>
          <a:xfrm>
            <a:off x="684360" y="2060640"/>
            <a:ext cx="7848360" cy="3384360"/>
            <a:chOff x="684360" y="2060640"/>
            <a:chExt cx="7848360" cy="3384360"/>
          </a:xfrm>
        </p:grpSpPr>
        <p:sp>
          <p:nvSpPr>
            <p:cNvPr id="652" name="Rectangle 4"/>
            <p:cNvSpPr/>
            <p:nvPr/>
          </p:nvSpPr>
          <p:spPr>
            <a:xfrm>
              <a:off x="3052440" y="3222360"/>
              <a:ext cx="2571120" cy="70704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Wymiar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2000" spc="-1" strike="noStrike">
                  <a:solidFill>
                    <a:srgbClr val="000000"/>
                  </a:solidFill>
                  <a:latin typeface="Arial"/>
                </a:rPr>
                <a:t>wizerunk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7"/>
            <p:cNvSpPr/>
            <p:nvPr/>
          </p:nvSpPr>
          <p:spPr>
            <a:xfrm>
              <a:off x="2104920" y="2414160"/>
              <a:ext cx="2029680" cy="65664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wiarygodnoś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9"/>
            <p:cNvSpPr/>
            <p:nvPr/>
          </p:nvSpPr>
          <p:spPr>
            <a:xfrm>
              <a:off x="1902240" y="4081320"/>
              <a:ext cx="2029680" cy="65664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dominacj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0"/>
            <p:cNvSpPr/>
            <p:nvPr/>
          </p:nvSpPr>
          <p:spPr>
            <a:xfrm>
              <a:off x="5217480" y="4030560"/>
              <a:ext cx="2097360" cy="65664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atrakcyjność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interpersonal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1"/>
            <p:cNvSpPr/>
            <p:nvPr/>
          </p:nvSpPr>
          <p:spPr>
            <a:xfrm>
              <a:off x="5285160" y="2414160"/>
              <a:ext cx="2029680" cy="65664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wzbudza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800" spc="-1" strike="noStrike">
                  <a:solidFill>
                    <a:srgbClr val="000000"/>
                  </a:solidFill>
                  <a:latin typeface="Arial"/>
                </a:rPr>
                <a:t>sympat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7"/>
            <p:cNvSpPr/>
            <p:nvPr/>
          </p:nvSpPr>
          <p:spPr>
            <a:xfrm>
              <a:off x="684360" y="2060640"/>
              <a:ext cx="1691280" cy="2523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kompetencj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18"/>
            <p:cNvSpPr/>
            <p:nvPr/>
          </p:nvSpPr>
          <p:spPr>
            <a:xfrm>
              <a:off x="751680" y="3020400"/>
              <a:ext cx="1691280" cy="2523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dynamiz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19"/>
            <p:cNvSpPr/>
            <p:nvPr/>
          </p:nvSpPr>
          <p:spPr>
            <a:xfrm>
              <a:off x="2578680" y="2060640"/>
              <a:ext cx="2638440" cy="2523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asługiwanie na zaufani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0"/>
            <p:cNvSpPr/>
            <p:nvPr/>
          </p:nvSpPr>
          <p:spPr>
            <a:xfrm>
              <a:off x="684360" y="4788360"/>
              <a:ext cx="1691280" cy="2523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ładz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21"/>
            <p:cNvSpPr/>
            <p:nvPr/>
          </p:nvSpPr>
          <p:spPr>
            <a:xfrm>
              <a:off x="2104920" y="5142240"/>
              <a:ext cx="1691280" cy="2523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asertywn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22"/>
            <p:cNvSpPr/>
            <p:nvPr/>
          </p:nvSpPr>
          <p:spPr>
            <a:xfrm>
              <a:off x="4338000" y="5192640"/>
              <a:ext cx="1691280" cy="25236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towarzysk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3"/>
            <p:cNvSpPr/>
            <p:nvPr/>
          </p:nvSpPr>
          <p:spPr>
            <a:xfrm>
              <a:off x="6164640" y="4788360"/>
              <a:ext cx="2368080" cy="4543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ekspresyjnoś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emocjonal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4"/>
            <p:cNvSpPr/>
            <p:nvPr/>
          </p:nvSpPr>
          <p:spPr>
            <a:xfrm>
              <a:off x="6096960" y="3475080"/>
              <a:ext cx="2232720" cy="40392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wzbudzani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Arial"/>
                </a:rPr>
                <a:t>zainteresowan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25"/>
            <p:cNvSpPr/>
            <p:nvPr/>
          </p:nvSpPr>
          <p:spPr>
            <a:xfrm>
              <a:off x="2037240" y="2313000"/>
              <a:ext cx="405720" cy="151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26"/>
            <p:cNvSpPr/>
            <p:nvPr/>
          </p:nvSpPr>
          <p:spPr>
            <a:xfrm flipV="1">
              <a:off x="1699200" y="2919240"/>
              <a:ext cx="541080" cy="100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27"/>
            <p:cNvSpPr/>
            <p:nvPr/>
          </p:nvSpPr>
          <p:spPr>
            <a:xfrm flipH="1">
              <a:off x="3322440" y="2313000"/>
              <a:ext cx="135000" cy="100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28"/>
            <p:cNvSpPr/>
            <p:nvPr/>
          </p:nvSpPr>
          <p:spPr>
            <a:xfrm flipV="1">
              <a:off x="1969920" y="4636800"/>
              <a:ext cx="202680" cy="151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29"/>
            <p:cNvSpPr/>
            <p:nvPr/>
          </p:nvSpPr>
          <p:spPr>
            <a:xfrm flipH="1" flipV="1">
              <a:off x="3119760" y="4737960"/>
              <a:ext cx="67320" cy="40392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30"/>
            <p:cNvSpPr/>
            <p:nvPr/>
          </p:nvSpPr>
          <p:spPr>
            <a:xfrm flipV="1">
              <a:off x="5691240" y="4687200"/>
              <a:ext cx="135000" cy="5050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31"/>
            <p:cNvSpPr/>
            <p:nvPr/>
          </p:nvSpPr>
          <p:spPr>
            <a:xfrm flipH="1" flipV="1">
              <a:off x="6908760" y="4636800"/>
              <a:ext cx="405720" cy="151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32"/>
            <p:cNvSpPr/>
            <p:nvPr/>
          </p:nvSpPr>
          <p:spPr>
            <a:xfrm flipH="1">
              <a:off x="6841080" y="3879000"/>
              <a:ext cx="608760" cy="2019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33"/>
            <p:cNvSpPr/>
            <p:nvPr/>
          </p:nvSpPr>
          <p:spPr>
            <a:xfrm>
              <a:off x="3390480" y="3070800"/>
              <a:ext cx="270360" cy="151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34"/>
            <p:cNvSpPr/>
            <p:nvPr/>
          </p:nvSpPr>
          <p:spPr>
            <a:xfrm flipH="1">
              <a:off x="5284800" y="3020400"/>
              <a:ext cx="405720" cy="2019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35"/>
            <p:cNvSpPr/>
            <p:nvPr/>
          </p:nvSpPr>
          <p:spPr>
            <a:xfrm flipV="1">
              <a:off x="3255480" y="3929760"/>
              <a:ext cx="135000" cy="1512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36"/>
            <p:cNvSpPr/>
            <p:nvPr/>
          </p:nvSpPr>
          <p:spPr>
            <a:xfrm flipH="1" flipV="1">
              <a:off x="5081760" y="3929400"/>
              <a:ext cx="405720" cy="2019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2"/>
          <p:cNvSpPr/>
          <p:nvPr/>
        </p:nvSpPr>
        <p:spPr>
          <a:xfrm>
            <a:off x="684360" y="333360"/>
            <a:ext cx="777240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Asertywnoś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3"/>
          <p:cNvSpPr/>
          <p:nvPr/>
        </p:nvSpPr>
        <p:spPr>
          <a:xfrm>
            <a:off x="179280" y="134136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omunikat asertywn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to jasne i precyzyjne w formie i treści wyrażenie wprost tego, co się myśli i czuje, bez udawania, oszukiw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sertywność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o przyjazna stanowczość bez napięcia agresywnego i lękoweg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w obronie własnych praw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podczas prezentacji swojego zdania wobec niechęt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udytoriu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przy przyjmowaniu i wyrażaniu krytyk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protestowani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występowaniu w cudzej obroni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 w różnych trudnych społecznych sytuacjach, w któr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cemy podkreślić, że jesteśmy równie ważni jak i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6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457200" y="3333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Siedem warunków asertywnoś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457200" y="1557360"/>
            <a:ext cx="8362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awanie innym takich samych praw jak so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(np. do słabości, zmęczenia, błędów, niewiedzy itp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. Zwięzłość i precyzja wypowied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. Używanie komunikatów typu „JA” do wyrażania opinii, nie ocen (np. myślę, sądzę, moim zdaniem, według mnie, moja opinia to..., mam wrażenie, że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4. Przyjazna i zdecydowana mowa ciał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5. Spójność mowy ciała ze słow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6. Naturalność, brak poz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7. Uprzejma forma wypowiedz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6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6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6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Negocjacje integracyj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23640" y="2492280"/>
            <a:ext cx="7986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egocjacje integracyjne polegają na otwartości wobec cudzych interesów, asertywnej komunikacji i harmonijnej współpracy w celu wypracowania optymalnego rozwiąza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Praktyczne wskazówki dla negocjatoró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539280" y="1844640"/>
            <a:ext cx="80708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kładnie analizuj posiadane informacje przed rozmow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dejmuj negocjacje wyłącznie w dobrym stanie psychiczny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stetycznie przygotuj miejsce negocjacj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 dopuść do chaos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Okazuj uprzejmość i zainteresowan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efiniuj poję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zyznaj się do błę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 daj się w żaden sposób wyprowadzić z równowagi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ie strasz, nie groź, nie szantażu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baj o zwięzłość i precyzję wypowied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chowaj dyskrecj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7160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Komunikacja interpers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24000" y="2276280"/>
            <a:ext cx="8178480" cy="39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munikacja jest procesem wzajemnego przekazywania sobie informacji pomiędzy nadawcą, a odbiorc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biega ona na wielu poziomach, z których jedne są świadome a inne 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celu wymiany informacji dotyczącej naszych przekonań, doznań odczuć, sądów potrzeb, oczekiwań wykorzystujemy komunikację werbalną i niewerbaln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Mechanizmy perswaz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ntrast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wszystkie oceny są względne, zastosuj więc kontrast by uczynić swą argumentację bardziej przekonywując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Odwzajemnia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zawsze bądź gotowy na ustępstwo w negocjacjach, idź na kompromis w drobnych sprawach, by móc liczyć na odwzajemnie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jątkowoś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w sposób naturalny pragniemy rzeczy, które postrzegamy jako niepowtarzal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Arial"/>
              </a:rPr>
              <a:t>Mechanizmy perswaz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Asymilacj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choć wolimy myśleć inaczej, to wolimy być w gru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podobania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: w naturalny sposób, wolimy utrzymywać kontakty z osobami, które lubimy, podkreślaj więc, swoje podobieństwo do otocze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Czego nie należy robić przekonując innyc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68360" y="1988640"/>
            <a:ext cx="8229600" cy="35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nikaj nachalnośc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 silne stanowisko już na wstępie określa, że jest coś przeciwko czemu możemy walczy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ie bój się kompromis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 przekonywanie to proces da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 br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ie myl argumentowania z przekonywani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: pamiętaj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 nawiązaniu kontaktu emocjonaln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konywanie nie jest jednorazowym wysiłkie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0000"/>
                </a:solidFill>
                <a:latin typeface="Arial"/>
              </a:rPr>
              <a:t>PRZESZKODY W KOMUNIKACJ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groż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nieśmielen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tosunek do uczenia si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Konkuren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Język (nie rozumiemy słów, zdajemy sobie sprawę z własnej ignorancj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Inne rodzaje barier (wg. R. Bolto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468360" y="1413000"/>
          <a:ext cx="8229600" cy="4059000"/>
        </p:xfrm>
        <a:graphic>
          <a:graphicData uri="http://schemas.openxmlformats.org/drawingml/2006/table">
            <a:tbl>
              <a:tblPr/>
              <a:tblGrid>
                <a:gridCol w="2890800"/>
                <a:gridCol w="5338800"/>
              </a:tblGrid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ĄDZ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KRYTYKOW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OBRAŻ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ORZEK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CHWALENIE POŁĄCZONE Z OCEN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YDOW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 INNY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Rozkazyw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Groże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Moralizow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Nadmierne wypytyw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IECZKA 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LE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Doradz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Zmiana tem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Logiczne argumentowan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 Pocieszan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ariery komunikacyj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50560" y="1916280"/>
            <a:ext cx="8055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Bariery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omunikacyjne </a:t>
            </a:r>
            <a:r>
              <a:rPr b="0" lang="pl-P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to słowa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wysokim stopniu ryzyka – ich wpływ na komunika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jest c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o, ch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ie w sposób nieunikniony, negatyw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kutki blokad w komunikacji 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iczne i ró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rodne. Zwykle obn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ne samooce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rugiej osoby, bud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pór i w przyszło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iadom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ub nieświadomą reakc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dwetu (niekoniecznie na nadawcy niewł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ś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iwego komunikatu). Tworz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klimat bardzo utrudniaj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ą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y konstruktywne wyr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ż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ie prawdziwego uczucia lub przekonania.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Bariery komunikacyjne – 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pl-PL" sz="2900" spc="-1" strike="noStrike">
                <a:solidFill>
                  <a:srgbClr val="000000"/>
                </a:solidFill>
                <a:latin typeface="Arial"/>
              </a:rPr>
              <a:t>brudna dwunastka” T. Gord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468360" y="1484280"/>
            <a:ext cx="79898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rytykow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zyw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wianie diagno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hwalenie połączone z ocen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ozkazyw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roże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ralizow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wianie zbyt wielu lub niewłaściwych pyta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zielanie r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dwracanie uwa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ogiczne argumentow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pokaj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684360" y="272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Cechy skutecznego komunika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684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sn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więzł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pasowanie do odbior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Jak uzyskać wysoki wpływ komunika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50560" y="2349360"/>
            <a:ext cx="4249800" cy="30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żywaj metafor i analog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dstawiaj dane                 w formie graficz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akty umieszczaj                    w kontekś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korzystaj moc symb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4" descr=""/>
          <p:cNvPicPr/>
          <p:nvPr/>
        </p:nvPicPr>
        <p:blipFill>
          <a:blip r:embed="rId1"/>
          <a:srcRect l="28826" t="7820" r="14852" b="3571"/>
          <a:stretch/>
        </p:blipFill>
        <p:spPr>
          <a:xfrm>
            <a:off x="5364000" y="2349360"/>
            <a:ext cx="3095640" cy="30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munikowanie w sytuacji kryzysow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4" descr="gKM6Wo3GTv"/>
          <p:cNvPicPr/>
          <p:nvPr/>
        </p:nvPicPr>
        <p:blipFill>
          <a:blip r:embed="rId1"/>
          <a:stretch/>
        </p:blipFill>
        <p:spPr>
          <a:xfrm>
            <a:off x="1979640" y="1700280"/>
            <a:ext cx="51782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Wszystko już był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50920" y="1773000"/>
            <a:ext cx="84470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nuk do dziadka: -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iedyś to mieliście źle. Nie było Internetu, komórek, czatu ani gadu-gadu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k ty w ogóle babcie poznałeś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o jak nie było? Wszystko to było - odpowiada dziadek.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- Ale jak to?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o przecież babcia mieszkała w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internac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, jak wracała ze szkoły, to stałem na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czatach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wychodziłem i z babcią na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gadu-gadu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a jakby nie 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komórka,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to i ciebie i twojego ojca by nie było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MUNIKOWANIE W SYTUACJI KRYZYSOW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6836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Zadbanie o skuteczne komunikowanie się ( język „ja”, oddzielenie ludzi od problemu, wyrażenie braku akceptacji dla zachowania a nie człowieka, szacunek dla rozmówcy, wysłuchan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9E3A-45EB-4B66-A060-BEE41C5D1E9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KOMUNIKOWANIE W SYTUACJI KRYZYSOWEJ C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826920" y="1988640"/>
            <a:ext cx="7345440" cy="362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sno określ intencje, spokojnie przejdź do meritum sprawy. Opisz dokładnie swoje myśli i uczucia związane z zachowaniem osob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 rób wyrzutów , ponieważ celem jest ukazanie drugiej osobie zależności między jego nieodpowiednim postępowaniem a naszymi realnymi odczuciam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FAA6-07B0-4913-9467-2C3EF78844A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 Unicode MS"/>
              </a:rPr>
              <a:t>POSTĘPOWANIE W SYTUACJI KRYZYSOWEJ</a:t>
            </a:r>
            <a:r>
              <a:rPr b="1" lang="pl-PL" sz="3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68360" y="2060640"/>
            <a:ext cx="8229600" cy="36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ednoznacznie pokaz, że zależy Ci na rozwiązaniu problemu i na dobrych stosunka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yznacz optymalny czas i miejsce rozmow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informuj o ewentualnych następstwach                   w przypadku braku zmiany na lepsz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ie strasz, nie szantażuj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oinformuj rodziców jeżeli jest to koniecz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22E5-E048-4D2F-A473-F95AD53464A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stępowanie w sytuacji kryzysowe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organizować miejsce pracy wybrać pokój, zastanowić się nad usadowieniem, wyeliminować to, co może zakłócić spokó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nać dokładnie swoje kompetenc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dawać sobie sprawę z własnych ograniczeń, stereotypów myślowych i skłonnoś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B545-B2FC-42DE-938F-CE5C0D8F64B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ZASADY POSTĘPOWANIA W SYTUACJI KONFLIKTOWEJ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68000" y="2205000"/>
            <a:ext cx="8064360" cy="398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1. Prowadzenie rozmowy „sam na sa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2. Bezwzględne opanowanie w czasie rozmow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3. Zwracanie się do rozmówcy  z szacunki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4. Zachowanie odpowiedniej odległości od osoby (ok. 1-1,5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5. Utrzymywanie kontaktu wzrokowego bez wyrażania wrogości czy ironi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ymbol zastępczy numeru slajdu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8F0B-7F37-4D98-B89D-9E4B684BAB39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Podsumowanie: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trening czyni mistr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68360" y="2205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 Unicode MS"/>
              </a:rPr>
              <a:t>Umiejętność komunikowania się trzeba ćwiczyć </a:t>
            </a: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tak, jak mięśnie – im więcej ćwiczysz, tym stajesz się sprawniejszy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5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 Unicode MS"/>
              </a:rPr>
              <a:t>Don G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Oto różnice w nadawaniu                        i odbieraniu informacji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395280" y="2276640"/>
          <a:ext cx="8229600" cy="30240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wnie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ś jesteśmy leniwi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 Unicode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ysiłek (mówc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 Unicode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dział (osobist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 Unicode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łuchani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 Unicode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Wysiłek (słuchacz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 Unicode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ozumienie</a:t>
                      </a:r>
                      <a:r>
                        <a:rPr b="0" lang="pl-P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 Unicode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asywność (brak wysiłku            w zdobywaniu informacj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 Unicode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empo (szybsz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 Unicode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zyjemność bez wysił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 Unicode MS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Rozumienie na poziomie podstawowym („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lerz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Wymaga to od nas nowych technik mówienia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395280" y="1773360"/>
          <a:ext cx="8229600" cy="34066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424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ÓTKO- a potem wzmocnienie, obraz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ENCJA- tylko to, co najważniejsz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ŁYNNIE- bez wysiłku i zakłóce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K CIĄGŁOŚCI- z przerwami na relaks i rozluźnieni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DLACZEGO LUDZIE SŁUCHAJĄ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95280" y="184428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sobiste zainteresowanie (bo lubią robić to, na co mają ochotę, wiec szukaj punktów wspólny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Osoba mówiącego (osobisty sty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Sposób mówienia (dobra technik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Dlaczego komunikacja jest ważn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95280" y="1773360"/>
            <a:ext cx="7834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Człowiek nie może 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komunikować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munikacja jest procesem organizowania wiadomości w celu uzgodnienia znacze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munikacja jest funkcjonalna i tworzy nasze światy społecz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pływa na jakość naszego życia, jakość tworzonych przez nas związków i budowane przez nas społeczno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19:53:33Z</dcterms:created>
  <dc:creator>Grzegorz Polański</dc:creator>
  <dc:description/>
  <dc:language>en-US</dc:language>
  <cp:lastModifiedBy>M.Bochenek</cp:lastModifiedBy>
  <dcterms:modified xsi:type="dcterms:W3CDTF">2016-12-27T13:43:23Z</dcterms:modified>
  <cp:revision>35</cp:revision>
  <dc:subject/>
  <dc:title>Model procesu komunikacji</dc:title>
</cp:coreProperties>
</file>