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A2A-60F5-442B-A03A-67623C21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D6B-EBF2-4508-81B2-ACAD711A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44D-24E3-400C-AE69-81D57759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BB5-8F54-4F15-862E-6DB48314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622-03CA-4AA1-8DD8-E66D1CF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8468-B9A7-44C4-8AC2-58CD710D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366-FD25-4227-B263-4D6ED547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2DB-EE59-4B83-94E4-0A12A2A2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339F-BA33-4FE3-AFCB-C22ED31C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90D4-C44B-4F20-BF5B-55B1A2F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2369-5C74-46CF-8DEE-5175C464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CF8-4942-4661-9F13-7D71E4D3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A6D1-0031-4BD1-94A2-664890E30BB0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94440" y="3200760"/>
            <a:ext cx="775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63640" y="40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ofil kompetencyjny wizytat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50920" y="1717560"/>
            <a:ext cx="8497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. W zakresie wymienionym w ust. 1 pkt 1 i 2 nadzorowi podleg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szczególnoś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) posiadanie przez nauczycieli wymaganych kwalifikacji</a:t>
            </a:r>
            <a:r>
              <a:rPr b="0" lang="pl-PL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o prowadzenia przydzielonych im zajęć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) realizacja podstaw programowych i ramowych planów naucza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) przestrzeganie zasad oceniania, klasyfikowania i promowania uczniów oraz przeprowadzania egzaminów, a także przestrzeganie przepisów dotyczących obowiązku szkolnego oraz obowiązku nauk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4) przestrzeganie statutu szkoły lub placówk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) przestrzeganie praw dziecka i praw ucznia oraz upowszechnianie wiedzy o tych prawa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6) zapewnienie uczniom bezpiecznych i higienicznych warunków nauki, wychowania i opie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50920" y="10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5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856040" y="530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250920" y="162216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. Nauczyciele, o których mowa w art. 60 ust. 8, wykonujący czynności z zakresu nadzoru pedagogicznego mają praw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wstępu do szkół i placów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glądu do prowadzonej przez szkołę lub placówkę dokumentacji dotyczącej przebiegu nauczania, wychowania i opieki oraz organizacji prac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glądu do znajdujących się w szkole lub placówce dokumentów nauczycieli potwierdzających kwalifikacje do prowadzenia przydzielonych im zajęć oraz dokumentów osób, o których mowa w art. 15, potwierdzających przygotowanie do prowadzenia danych zajęć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udziału w posiedzeniu rady pedagogicznej, po uprzednim powiadomieniu dyrektora szkoł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 wstępu w charakterze obserwatora na zajęcia dydaktyczne, wychowawcze, opiekuńcze i inne zajęcia organizowane przez szkołę lub placówkę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 przeprowadzania badań służących ocenie efektywności działalności dydaktycznej, wychowawczej oraz opiekuńczej szkół i placów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50920" y="1052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5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4856040" y="530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250920" y="1232280"/>
            <a:ext cx="88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Nadzór pedagogiczny jest sprawowany z uwzględnien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spółdziałania organów sprawujących nadzó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edagogiczny z organami prowadzącymi szkoły lub placówki, dyrektorami szkół i placówek oraz nauczyciela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2) tworzenia warunków sprzyjających rozwojowi szkó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lacówe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3) pozyskiwania informacji zapewniających obiektywną                  i pełną ocenę działalności dydaktycznej, wychowawczej          i opiekuńczej oraz innej działalności statutowej szkoł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b placów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24000" y="2584440"/>
            <a:ext cx="849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Ewaluacja (zewnętrzna),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jmu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bieranie i analizowanie informacji o działaniach szkoł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lub placówki w zakresie badanych wymaga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isanie działań szkoły lub placówki w zakresie badanych wymagań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anie raportu z ewaluac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395280" y="91260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ntrola plano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ontrola podejmowana przez kuratora oświaty, przewidziana w planie nadzoru jest przeprowadzana z wykorzystaniem </a:t>
            </a: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arkuszy kontrol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zatwierdzonych przez ministra właściwego do spraw oświaty i wychowan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urator oświaty zawiadamia, w terminie co najmniej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7 dni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d planowanym rozpoczęciem kontroli, dyrektora szkoły lub placówki oraz organ prowadzący szkołę lub placówkę o zamiarze przeprowadzenia kontroli przewidzianej                    w planie nadzoru, jej terminie i tematy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24000" y="1886760"/>
            <a:ext cx="856908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Kontrolę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przeprowadza się na podstawie imiennego upoważnienia zawierająceg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atę wydania i numer upoważnien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dstawę prawną przeprowadzenia kontro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mię i nazwisko osoby upoważnionej do przeprowadzenia  kontro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nazwę i siedzibę szkoły lub placówk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matykę kontro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erminy rozpoczęcia i zakończenia czynności kontrol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ieczęć i podpis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rgan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sprawującego nadzór pedagogicz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324000" y="1512720"/>
            <a:ext cx="8496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prowadzenie w szkole lub placówce czynności kontroli nie może zakłócać pracy szkoły lub  placówki.  Kontrola przewidziana w planie nadzoru, nie powinna trwać dłużej niż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 dni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soba upoważniona do przeprowadzenia kontroli, zwana dalej „kontrolującym”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telnie i obiektywnie ustala stan faktyczn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biera niezbędne dowody stanowiące podstawę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taleń kontro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apewnia dyrektorowi szkoły lub placówki czy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dział w kontro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kumentuje czynności kontro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250920" y="1070640"/>
            <a:ext cx="8569080" cy="56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Arial"/>
              </a:rPr>
              <a:t>Wspomag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 sprawujący nadzór pedagogiczny wspomaga szkoły            i placówki w szczególności prze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ygotowywanie i podawanie do publiczne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iadomości na stronie internetowej organu anal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yników sprawowanego nadzoru pedagogiczneg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tym wniosków z ewaluacji zewnętrznych i kontrol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owanie konferencji i narad dla dyrektorów szkół         i placówe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zekazywanie informacji o istotnych zagadnieniach dotyczących systemu oświaty i zmianach w przepisach pr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27120" indent="-173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tyczących funkcjonowania szkół i placów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50920" y="1250640"/>
            <a:ext cx="864216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izytatorzy  mogą </a:t>
            </a:r>
            <a:r>
              <a:rPr b="0" lang="pl-PL" sz="2800" spc="-1" strike="noStrike">
                <a:solidFill>
                  <a:srgbClr val="ff0000"/>
                </a:solidFill>
                <a:latin typeface="Arial"/>
              </a:rPr>
              <a:t>monitorować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pracę szkoł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lan nadzoru pedagogicznego Kuratora Oświaty zawie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1) liczbę ewaluacji całościowych oraz liczbę i zakres ewaluacji problemowych, planowanych w poszczególnych typach szkół i rodzajach placów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2) liczbę i tematykę kontroli planowanych w poszczególnych typach szkół i rodzajach placów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pl-PL" sz="2000" spc="-1" strike="noStrike">
                <a:solidFill>
                  <a:srgbClr val="ff0000"/>
                </a:solidFill>
                <a:latin typeface="Arial"/>
              </a:rPr>
              <a:t>zakres monitorow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typy szkół i rodzaje placówek objętych monitorowaniem oraz ich liczb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962520" y="333360"/>
            <a:ext cx="48924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Rozporządzenie MEN w sprawie nadzoru pedagogicz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00" y="1270440"/>
            <a:ext cx="838836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STAWA z dnia 14 grudnia 2016 r. Prawo oświat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ra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OZPORZĄDZENIE MINISTRA EDUKACJI NARODOWEJ z dnia 25 sierpnia 2017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sprawie nadzoru pedagogiczn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(Dz. U. poz. 16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932360" y="31428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468360" y="226584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Nadzór pedagogiczny jest realizowany przez wykonywanie zadań i czynności określonych  w art. 53-56 oraz art.60               i 180.  ustawy Prawo Oświatowe                     w trybie działań </a:t>
            </a:r>
            <a:r>
              <a:rPr b="1" lang="pl-PL" sz="3200" spc="-1" strike="noStrike" u="sng">
                <a:solidFill>
                  <a:srgbClr val="000000"/>
                </a:solidFill>
                <a:uFillTx/>
                <a:latin typeface="Arial"/>
              </a:rPr>
              <a:t>planowych lub doraźny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4932360" y="31428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50920" y="174420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planowe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ą prowadzone przez kuratorów oświaty zgodnie z podstawowymi kierunkami realizacji polityki oświatowej państwa w zakresie nadzoru pedagogi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ziałania doraźne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ą prowadzone przez organy sprawujące nadzór pedagogiczny w przypadku, gdy zaistnieje potrzeba podjęcia działań nieprzewidzianych w planie nadzoru pedagogiczn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4932360" y="31428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79280" y="1120680"/>
            <a:ext cx="871380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Nadzór pedagogiczny polega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bserwowaniu, analizowaniu i ocenianiu przebiegu procesów kształcenia i wychowania oraz efektów działalności dydaktycznej, wychowawczej i opiekuńczej oraz innej działalności statutowej szkół  i placów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enianiu stanu i warunków działalności dydaktycznej, wychowawczej i opiekuńczej oraz innej działalności statutowej szkół  i placów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udzielaniu pomocy szkołom i placówkom , a także nauczycielom             w wykonywaniu ich zadań dydaktycznych, wychowawczych                    i opiekuńczyc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spirowaniu nauczycieli do poprawy istniejących lub wdrożenia nowych rozwiązań w procesie kształcenia, przy zastosowaniu innowacyjnych działań programowych, organizacyjnych lub metodycznych, których celem jest rozwijanie kompetencji uczniów, metodycznych i organizacyjny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9640" y="6332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Art. 55 UPO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4932360" y="31428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4932360" y="31428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rostokąt 1"/>
          <p:cNvSpPr/>
          <p:nvPr/>
        </p:nvSpPr>
        <p:spPr>
          <a:xfrm>
            <a:off x="468360" y="1197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t. 51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Kurator oświaty, w imieniu wojewody, wykonuje zadani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kompetencje w zakresie oświaty określone w ustawie i przepisach odrębnych na obszarze województwa, a w szczególnośc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) sprawuje nadzór pedagogiczny nad publicznymi i niepublicznymi przedszkolami, innymi formami wychowania przedszkolnego, szkołami, placówkami oraz kolegiami pracowników służb społecznych, które znajdują się na obszarze danego województ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2) wydaje decyzje administracyjne w sprawach określonych w ustawi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) współdziała z radami oświatowymi powołanymi na podstawie art. 78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4) wykonuje zadania organu wyższego stopnia w rozumieniu przepisów ustawy z dnia 14 czerwca 1960 r. – Kodeks postępowania administracyjnego (Dz. U. z 2016 r. poz. 23, 868, 996, 1579 i 2138) w stosunku 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) organów jednostek samorządu terytorialnego – w sprawach szkół publicznych, zakładanych i prowadzonych przez osoby prawne i fizyczne, oraz szkół i placówek niepubliczny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) dyrektorów szkół – w sprawach z zakresu obowiązku szkolnego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obowiązku nauki oraz w sprawach skreślenia uczniów z listy uczni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4932360" y="31428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rostokąt 1"/>
          <p:cNvSpPr/>
          <p:nvPr/>
        </p:nvSpPr>
        <p:spPr>
          <a:xfrm>
            <a:off x="324000" y="119700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t. 51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(c.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5) realizuje politykę oświatową państwa, a także współdziała z organami jednostek samorządu terytorialnego w tworzeniu i realizowaniu odpowiednio regionalnej i lokalnej polityki oświatowej, zgodnych z polityką oświatową państ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6) opracowuje programy wykorzystania środków na dofinansowanie doskonalenia nauczycieli, wyodrębnionych w budżecie wojewody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o zasięgnięciu opinii związków zawodowych, reprezentatywnych w rozumieniu ustawy o Radzie Dialogu Społeczneg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7) organizuje olimpiady, konkursy, turnieje, przeglądy oraz inne formy współzawodnictwa i prezentacji osiągnięć uczniów szkół na obszarze województ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) współdziała z okręgowymi komisjami egzaminacyjnym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9) współdziała z placówkami doskonalenia nauczycieli, poradniami psychologiczno-pedagogicznymi i bibliotekami pedagogicznymi w realizacji zadań dotyczących diagnozowania, na podstawie wyników nadzoru pedagogicznego, potrzeb w zakresie doskonalenia nauczyciel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4932360" y="31428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1"/>
          <p:cNvSpPr/>
          <p:nvPr/>
        </p:nvSpPr>
        <p:spPr>
          <a:xfrm>
            <a:off x="324000" y="1197000"/>
            <a:ext cx="84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t. 51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(c.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0) wspomaga działania w zakresie organizowania egzaminów w szkołach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1) opiniuje plany pracy publicznych placówek doskonalenia nauczycieli, z wyjątkiem placówek prowadzonych przez ministra właściwego do spraw oświaty i wychowania, ministra właściwego do spraw kultury i ochrony dziedzict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narodowego, ministra właściwego do spraw rolnictwa i ministra właściwego do spraw zdrow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2) opiniuje arkusze organizacji publicznych szkół i placówek, z wyjątkiem szkół i placówek prowadzonych przez ministrów, w zakresie ich zgodności z przepisami, przedstawiane przez organy prowadzące szkoły i placówki przed zatwierdzeni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rkusz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3) współdziała z organami jednostek samorządu terytorialnego w zakresie kształtowania i rozwoju bazy materialnej szkół i placówe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4932360" y="314280"/>
            <a:ext cx="38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dzór pedagogiczny w przepisach pr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Ustawa Prawo oświat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rostokąt 1"/>
          <p:cNvSpPr/>
          <p:nvPr/>
        </p:nvSpPr>
        <p:spPr>
          <a:xfrm>
            <a:off x="324000" y="170028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Art. 51.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. (c.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4) współdziała z właściwymi organami, organizacjami i innymi podmiotam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sprawach dotyczących warunków rozwoju dzieci i młodzieży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tym w przeciwdziałaniu zjawiskom patologii społecznej, a także może wspomagać działania tych podmiotó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5) nadzoruje i wspomaga organizację wypoczynku, o którym mo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art. 92a–92t ustawy o systemie oświaty, na obszarze województw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16) wykonuje inne zadania określone w przepisach odrębnych, w szczególności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 zakresie obronnośc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9:26:17Z</dcterms:created>
  <dc:creator>Barbara Jechalska</dc:creator>
  <dc:description/>
  <dc:language>en-US</dc:language>
  <cp:lastModifiedBy>Magdalena Godlewska-Dudek</cp:lastModifiedBy>
  <dcterms:modified xsi:type="dcterms:W3CDTF">2018-03-26T11:06:27Z</dcterms:modified>
  <cp:revision>19</cp:revision>
  <dc:subject/>
  <dc:title>Slajd 1</dc:title>
</cp:coreProperties>
</file>