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31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3098-8D4E-4E4D-B489-3A98981DE2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7FE1-8EEA-42AE-888A-5410B32EDE9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D8DD-0312-4638-9CAB-E21A9AC716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A964-8823-4C2A-B9FA-CD71D497E61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DE30-EDA9-47A1-B5C8-4DFB47E42F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4E6-05A9-4EEE-A13B-ED820283D3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F569-AC6D-40C0-9580-F3F911B496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FC4B-6A63-4DA6-9971-A662A7DF87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0218-8039-4E48-B41E-E372A26FDE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6379-9FD9-48DF-979F-151090929B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7DA0-BE62-4CAE-A3E6-FC3EBB2ADD5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233-3EB9-42B0-BED8-DB20A3FF98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922A-E249-4C78-9267-3858D289C2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7EBC-3258-4730-8C48-370CC38CFD2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CD04-FE0F-4F16-9C7C-6F1392AA33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0F41-6A26-42ED-B0CD-4B1D91AD73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659F-3DCA-4092-9DEC-8F6173DD56B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D153-767D-4072-A9AE-10F32ADAC77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0FAD-FC8F-42E7-BB3A-8881692489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C631-B621-4776-984C-886C4E375EB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01EF-C3DE-4FA2-A462-37C03923099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7AE7-D328-4C93-9724-5FAAC20F46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2A1C-E197-4E8B-A6EE-76FCF7FF31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0199-DAE8-46EE-AE66-5847A9C88C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D744-799F-4704-9788-2BE85CAE0F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E1F34-36B0-441E-94F6-49ED0704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A1098-FE07-4FDE-96B0-33869216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E6F71-CAD7-44D3-86E7-63324DE4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62D6A-7341-46B0-870F-FFA9457D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8BC6-E3B4-4766-AA10-C9EF363A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17816-16AC-4F82-90E3-BA6EEBB8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2F5A1-624F-4607-9B1A-F3C02637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925D5-5801-4A6F-8A95-7EBC0C17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A8925-F177-48C2-8374-36233B3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A1D2-335C-43A7-91DB-7CBF0630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7A52B-BDF2-464B-A051-B097B1C9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AEAB6-A96D-4B1E-8B79-8C1F06C3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A9A3-173F-4A50-B7ED-AEDEB4ED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3F4EA-3825-41E5-A966-14858C52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87AE9-45C2-4DD7-BA11-670F2501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FE3DB-1F6A-4739-A797-A03F8943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FA087-EA3B-415F-B735-93332F63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0103F-9171-4A2A-9973-09E5C7E4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8CEB9-1A67-45A3-9FD2-0CAB5EE3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388D0-8ABF-4C5F-ADFB-CC2506B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08939-2FB0-4D16-A065-83CD4F71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92BF3-E94D-427A-83B7-EB611AD9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1451E-715E-4C64-B426-B204960E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ED712-D2DB-47B3-AEF7-8028654D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57F04-6F18-441F-B806-8ED1A952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78A71-C62A-4E48-B53E-93ACFF0D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67C24-1002-4DE8-BC8F-6E0412CA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70720-A855-42D7-8C79-ADEDC061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B9D84-12EC-49DA-97FD-37E69688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C8E82-80D6-49CC-8972-28DDD61C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EAF50-7DE0-4496-8F08-D65C1ABD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2DFF7-BAB1-4621-BE2B-A27E616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51359-9227-489B-A592-0E3F53C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18174-7B70-45BB-B8F8-EC4F59AA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ED62B-52FB-448A-9FE0-FBBAC67B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36750-B46D-428C-9843-31B1DF4D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88774-5140-409C-BCC5-D38EA80E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0F0AA-B94E-4681-A554-3ED8E02A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A2E5B-31CD-4051-A0E6-4C01265D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534A8-4DA9-4E4C-ACD2-C650734F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6BFF5-7EB3-46A7-AA75-306857D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0CC4-2EBB-41EE-A9DF-ED8AD929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1FC99-CE8F-4560-BED0-6BC9BB33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3BE2B-FE37-419D-9FC6-DA2604E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B9A22-9E2E-45A4-8366-D4D92904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A0AE1-98AC-4982-B020-EA3B198E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7F4FA-8743-41B2-B12A-5D2AA8F5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34D6E-5770-447A-9594-4F8464A2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7AB59-1E1B-4D63-AD74-0E197F37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34162-AFE5-45EA-8952-FBAC4E84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A3281-661F-4B05-BAD0-67859C21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2942D-3D58-44EE-BD38-5120AFB4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132CD-2F7A-4BDC-9893-CF4800BD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DDE69-F73D-42AF-9931-92D2ED32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3B800-B95A-445D-B0BE-7DDEC27B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F1AEC-9DFF-4122-A93E-2CC0111D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68EC9-D239-42F4-B3DC-B85C7A3F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E9A46-EA2B-4707-ABE4-A75EE404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ED733-11C5-451B-9AC5-D4AB2164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7936B-2DC3-4AD4-A623-5640DCBF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3AE22-C561-4ABE-9177-442A0EFD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4939C-89DA-4838-A97F-D923EC7F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38B1E-097D-426E-91CB-3DDEB30B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83DE9-B304-4811-B90F-DF7D786D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64F71-2053-43D5-A4B2-0989027A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7BBDE-C8D6-4570-9CAD-DFC4D60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D0EF9-1860-4048-B803-0B2783BA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C27D6-88D3-4ABA-9779-A2D1365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9441F-327D-48C6-ACE2-2820D568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A62FB-C7E1-485C-9600-36BDDD6F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58143-08D6-444F-BCCC-F0FEA3F7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F1A68-6063-47A9-AB26-4F2F0858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8D82C-AF3A-4208-A1E7-46682FE9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BE7E6-C248-44E5-B40D-244576AA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D7526-49DB-4644-AB5D-5471CD62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801E4-D7FF-4656-A39E-CF1F419A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6C325-7026-48B1-821E-78D98ABA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B3C7A-12E7-4C1A-B218-566EC55B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8028F-F4D3-485F-8212-0262779F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4B9A9-2339-4E06-9F54-9E768E6A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6A9E9-98E2-4AFF-A9CA-63C9A472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5427A-0F04-4595-B040-593E6446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A623F-C61E-4F1B-AAF1-E580FFDD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4D7E4-AE6D-4A26-B435-D8B7DE1E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88B90-E584-4454-BE31-AB39932A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4A96B-97BB-488E-B489-C0FF3BA0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F9477-B1E3-4CDB-86FB-E0F864FF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98B9F-2FB9-426D-B438-5087E0A2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66FF7-A702-4DBE-8AB7-E865CA1B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0F4B7-5BD6-45D0-A9CD-491495F9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2F5F0-9AA1-4AA9-95E6-454E62A8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AC203-DC61-4054-8262-3383132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13D7F-5783-4A3B-BDB8-0003794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B787B-9537-4F51-8565-5B82F221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57A42-CAAD-478C-BA0B-10206AC3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BFF0F-86BF-4E7C-AEF3-414C4415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BB27C-376E-4E1C-9DAF-F7EA4EA0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99578-FEF2-4534-A98D-7D320354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32C20-82DE-43BF-B39C-82ADB3B4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13655-7C40-480C-9E58-8EF2038F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04871-BF33-40C2-AB9A-5A3ACD76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311BA-9AA5-4354-9892-3E51D70D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E6FA1-36A2-459A-8466-AFB0F999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8EE2D-FB17-4C25-A690-059E6CD9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AE702-CE3E-40D5-8649-3071FFE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D5602-A997-4632-A98C-96D58E9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BD559-CE75-4D67-9362-D8C95CB2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3AACC-E9F6-48DD-816D-BE14A1AD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80D21-058B-4412-8963-E6754E4B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5337B-A125-40EA-A97D-DFB223E8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2ADAA-C9FD-4EA7-A460-3E3B6298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25093-8B1C-4548-978C-AE28E69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B7D88-C685-49C9-9915-5164900F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A9473-41BA-4CDC-9643-9D91B0BA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5F9F4-0F92-4A09-9F63-1E99DEB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38FC1-F000-4918-ABA8-43420781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46F28-BA95-4E63-9690-7D760559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FA92F-2E64-4CEE-B781-C91B9440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6EED2-DDDB-480E-A066-96482923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7248F-4416-4BD0-9583-EBED12A6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93D60-C9F5-46DE-936F-A1402FE2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D1DE5-A049-4475-9C4A-8D6B99FA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7A27F-0CE2-4181-B825-1600CD55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9F6DB-43B8-41CD-8C9A-EB9079BB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51FF0E-D263-4419-85F0-31FAB38F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D6BC2-31CA-458A-A5EC-A85DDAAD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620A8-31E9-4AA3-95F4-0D03404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C8D2A-5539-474B-AE6B-639BF492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BFED0-9170-4FC3-BA15-65E70E51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0BD3A-D4E9-4997-9565-B1D6C4A4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E44C4-07E7-4A6B-B8B7-7C0B3B77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90D6D-5910-4BAD-8206-FF9548C3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A73-4165-4E5F-A8C1-8770EFCA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FC4-DCAA-4113-9D93-22367AC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2C9-D5EE-4E11-A526-550C967C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CAD-D385-46FF-8EC3-18B31556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E63-CDB4-4AEE-AC74-4BFF0ED8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AD3-9F5A-4F79-B863-F45E3815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BCE-AB42-4975-BC1F-6DB001F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E75-298B-4FB9-8853-170BD7E3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AAF-35E7-47C3-917E-7168FE96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2E2-023C-4579-A648-D725A235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FBD-CE98-40E2-9F71-AFEDD43D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3C7-D2E7-4D15-A69E-6FF3F0C8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8AAB-059A-4F44-809B-A4786B06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63AE-DBB9-4D9E-8CDA-F3FFBE56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279B-5ABF-4086-8173-77D81233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52FC-3DB4-49D8-BC1C-3231939D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D4AA-7C82-4734-A917-3236489C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753B-BA6B-4A5F-B379-6D829521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9098-2DF7-4959-98BD-F744A21F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E151-52BD-47FB-A4C5-49C4C409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8B03-B545-4326-AA68-EEB608D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A2B9-58C9-4964-9821-B499345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13A9-A415-4DAA-A985-DA30F488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5266-BBA8-4C5E-8522-57097E41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3A64-D900-44A3-8DEE-72438521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9165-3312-421A-801D-2082F1A7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0C189-70FD-419D-BB10-FE223C51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0DE2-90AC-422A-B5B5-167AE665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6C36-086A-4BC0-8D10-1DC5B8A0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F5D7-DAC7-465D-A607-BAB9676E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1526-3E10-48F0-B752-4C1EB6C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D9F6-B6AE-481A-926C-995F32BA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AA06-3DFD-41DE-AC51-B8A11AB8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9E09-EC4D-4E36-8532-9F5EB8F8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1B2E-F687-4108-A221-B02C964E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219C-FC50-4032-B3F0-8690DC87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BBBC-1619-4D62-A214-8D7650D5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1CA4-433C-49E2-ADC3-1273413E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9AF6-1473-425C-BBF3-2A4C1CF2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3F96-655C-40EE-A07B-2EE321F6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DA99-7F79-4BD7-A272-7FE3579A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FFD9-3C20-4CA3-809D-848CDA6D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D20E6-2E18-46F3-89DD-F0895B1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224F3-B754-4010-8BE5-C4845DE7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88A5-5F1C-4609-B120-350EF2A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0155-F97D-49B0-86C2-9E853871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D507-DE12-4901-A08E-189238A4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2D7E9-107E-4099-8849-2082607A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D65F5-50FA-4E77-A43A-CBB5A299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8E2A8-2A82-4078-B69E-11B832E6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115F-367C-4449-AE44-6C8C0721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7E702-A13E-44F8-B47E-F8D0BD7E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ADA79-1EB6-4C19-A6A7-A487B1B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57C3A-E145-4233-8BF8-96BBA784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4C16-69A7-4ED9-980C-097DC8A4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C5CCF-6D2A-4ECB-8FE9-640402FA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90499-8577-4E25-8078-00AA65E7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DF04B-D3BF-470A-B3E4-C1571FBE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E53C-6746-43DA-A256-B67ABE9D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9C225-8A35-4621-914E-C5BEF4C0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D6A4C-326E-4F3A-B735-904466A8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0E6F8-15CD-4C0C-BC2A-85B82CB0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36407-D5C4-4FAE-B900-EB97F4EF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64937-421B-474B-BEA8-67DCEE1F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29093-B9ED-49D7-9651-76ACF115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69687-EB1A-4EC6-A4EF-4D7ADCD5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4A519-61E9-4EA5-80CE-DEF180A1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CC926-4BD8-451B-8ECE-08CF74FF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92B7D-881F-44D8-B99F-48A43BF0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C9F06-C449-47BE-B5D7-6F14F8FD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9107-ABB5-469E-8A34-201E19FA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B613-3A6B-46AD-B058-63BCDB93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01440" y="423360"/>
            <a:ext cx="6885000" cy="4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01440" y="1208160"/>
            <a:ext cx="68850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299880">
              <a:spcBef>
                <a:spcPts val="1125"/>
              </a:spcBef>
              <a:spcAft>
                <a:spcPts val="1125"/>
              </a:spcAft>
              <a:buClr>
                <a:srgbClr val="f5822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1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452C-AF81-4ABA-961B-D69803CD5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3769-4742-4FE1-A80B-F5749F7BD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88BA-8A0C-4ED7-8C37-1288CD9AD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C164-E326-4779-B13C-D83CA4481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2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3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2881-84BD-4A73-9B7F-7D279E271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5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6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0FD1-A40F-4387-BB37-111618C23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8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9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496B-F593-4241-8BBC-AFD8C629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1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2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97DC-2F55-4CBF-AC95-B105F10B3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4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5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135C-2A62-43BA-A700-49194F8DD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E249-5B98-492A-8B51-BE4F2F51D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9"/>
          <p:cNvSpPr/>
          <p:nvPr/>
        </p:nvSpPr>
        <p:spPr>
          <a:xfrm>
            <a:off x="2908440" y="5060880"/>
            <a:ext cx="60004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Instytut Badań Edukacyjny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ul. Górczewska 8, 01-180 Warszaw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tel.: (22) 241 71 00, e-mail: </a:t>
            </a:r>
            <a:r>
              <a:rPr b="0" lang="pl-PL" sz="1100" spc="-1" strike="noStrike" u="sng">
                <a:solidFill>
                  <a:srgbClr val="0070c0"/>
                </a:solidFill>
                <a:uFillTx/>
                <a:latin typeface="Arial"/>
              </a:rPr>
              <a:t>ewd@ewd.edu.p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7B36-097E-434A-AA3B-E406C2AAE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97964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120" indent="-2048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6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8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345A-BEEB-43F7-9A9A-289FC27F0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9A82-EDB7-4099-AC99-824B42D278A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7790-4C31-42E7-97E7-EBA0F6D1F8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6608-D15F-4415-B8D6-6EC4BB8B53A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E2ED-4376-44FF-8657-0853107640F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9374-C899-4BDE-9446-53FF9F12091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01440" y="423360"/>
            <a:ext cx="6885000" cy="4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801440" y="1208160"/>
            <a:ext cx="68850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299880">
              <a:spcBef>
                <a:spcPts val="1125"/>
              </a:spcBef>
              <a:spcAft>
                <a:spcPts val="1125"/>
              </a:spcAft>
              <a:buClr>
                <a:srgbClr val="f5822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99880" indent="-2998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rostokąt 2"/>
          <p:cNvSpPr/>
          <p:nvPr/>
        </p:nvSpPr>
        <p:spPr>
          <a:xfrm>
            <a:off x="623880" y="24433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ształtowanie kompetencji kluczow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ocesie edukacyjny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świetle wyników ilościowych badań ewalua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3" descr="C:\Users\Barbara Krawczyka\Desktop\nauka.jpg"/>
          <p:cNvPicPr/>
          <p:nvPr/>
        </p:nvPicPr>
        <p:blipFill>
          <a:blip r:embed="rId1"/>
          <a:stretch/>
        </p:blipFill>
        <p:spPr>
          <a:xfrm>
            <a:off x="430200" y="289080"/>
            <a:ext cx="2102040" cy="1530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C:\Users\Barbara Krawczyka\Desktop\Uczenie-sie-przez-cale-zycie-warunkiem-stalej-szansy-na-znalezienie-pracy_img50b1692295110.jpg"/>
          <p:cNvPicPr/>
          <p:nvPr/>
        </p:nvPicPr>
        <p:blipFill>
          <a:blip r:embed="rId2"/>
          <a:stretch/>
        </p:blipFill>
        <p:spPr>
          <a:xfrm>
            <a:off x="6926400" y="4276800"/>
            <a:ext cx="1317600" cy="909720"/>
          </a:xfrm>
          <a:prstGeom prst="rect">
            <a:avLst/>
          </a:prstGeom>
          <a:ln w="0">
            <a:noFill/>
          </a:ln>
        </p:spPr>
      </p:pic>
      <p:sp>
        <p:nvSpPr>
          <p:cNvPr id="820" name="Podtytuł 2"/>
          <p:cNvSpPr/>
          <p:nvPr/>
        </p:nvSpPr>
        <p:spPr>
          <a:xfrm>
            <a:off x="3851280" y="476280"/>
            <a:ext cx="49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ZWÓJ KOMPETENCJI KLUCZOWYCH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OCESIE EDUKA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rostokąt 2"/>
          <p:cNvSpPr/>
          <p:nvPr/>
        </p:nvSpPr>
        <p:spPr>
          <a:xfrm>
            <a:off x="287280" y="195120"/>
            <a:ext cx="39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zisiaj zgłaszałam/em pomysły dotyczące tego, jak chciałabym/bym pracować na zajęciach. 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rostokąt 5"/>
          <p:cNvSpPr/>
          <p:nvPr/>
        </p:nvSpPr>
        <p:spPr>
          <a:xfrm>
            <a:off x="569880" y="5442120"/>
            <a:ext cx="782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na wszystkich zajęciach; 2. na większości zajęć; 3. na połowie zajęć; 4. na mniej niż połowie zajęć; 5. na żadnych zajęciach; 6. brak odpowiedzi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rostokąt 7"/>
          <p:cNvSpPr/>
          <p:nvPr/>
        </p:nvSpPr>
        <p:spPr>
          <a:xfrm>
            <a:off x="2607480" y="507348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48811 uczniów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rostokąt 8"/>
          <p:cNvSpPr/>
          <p:nvPr/>
        </p:nvSpPr>
        <p:spPr>
          <a:xfrm>
            <a:off x="4905360" y="195120"/>
            <a:ext cx="38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zisiaj nauczyciel zachęcał mnie do wyrażania własnego zdania na tematy poruszane na zajęciach. 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Obraz 17" descr="http://www.seo2.npseo.pl/tmp/20151018175417.png"/>
          <p:cNvPicPr/>
          <p:nvPr/>
        </p:nvPicPr>
        <p:blipFill>
          <a:blip r:embed="rId1"/>
          <a:stretch/>
        </p:blipFill>
        <p:spPr>
          <a:xfrm>
            <a:off x="4732200" y="1384200"/>
            <a:ext cx="4019760" cy="3689280"/>
          </a:xfrm>
          <a:prstGeom prst="rect">
            <a:avLst/>
          </a:prstGeom>
          <a:ln w="0">
            <a:noFill/>
          </a:ln>
        </p:spPr>
      </p:pic>
      <p:pic>
        <p:nvPicPr>
          <p:cNvPr id="865" name="Obraz 9" descr="http://www.seo2.npseo.pl/tmp/20151018175504.png"/>
          <p:cNvPicPr/>
          <p:nvPr/>
        </p:nvPicPr>
        <p:blipFill>
          <a:blip r:embed="rId2"/>
          <a:stretch/>
        </p:blipFill>
        <p:spPr>
          <a:xfrm>
            <a:off x="287280" y="1384200"/>
            <a:ext cx="41943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rostokąt 2"/>
          <p:cNvSpPr/>
          <p:nvPr/>
        </p:nvSpPr>
        <p:spPr>
          <a:xfrm>
            <a:off x="1378080" y="39852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o, co dzisiaj robiliśmy na lekcjach, było dla mnie ciekawe. 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rostokąt 5"/>
          <p:cNvSpPr/>
          <p:nvPr/>
        </p:nvSpPr>
        <p:spPr>
          <a:xfrm>
            <a:off x="452520" y="5442120"/>
            <a:ext cx="782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na wszystkich zajęciach; 2. na większości zajęć; 3. na połowie zajęć; 4. na mniej niż połowie zajęć; 5. na żadnych zajęciach; 6. brak odpowiedzi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rostokąt 7"/>
          <p:cNvSpPr/>
          <p:nvPr/>
        </p:nvSpPr>
        <p:spPr>
          <a:xfrm>
            <a:off x="2444040" y="496584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4801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czniów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Obraz 10" descr="http://www.seo2.npseo.pl/tmp/20151018175613.png"/>
          <p:cNvPicPr/>
          <p:nvPr/>
        </p:nvPicPr>
        <p:blipFill>
          <a:blip r:embed="rId1"/>
          <a:stretch/>
        </p:blipFill>
        <p:spPr>
          <a:xfrm>
            <a:off x="2454120" y="1119240"/>
            <a:ext cx="4280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rostokąt 2"/>
          <p:cNvSpPr/>
          <p:nvPr/>
        </p:nvSpPr>
        <p:spPr>
          <a:xfrm>
            <a:off x="452520" y="130320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uczyciele mnie chwalą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rostokąt 5"/>
          <p:cNvSpPr/>
          <p:nvPr/>
        </p:nvSpPr>
        <p:spPr>
          <a:xfrm>
            <a:off x="800280" y="5622840"/>
            <a:ext cx="78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o wszystkich; 2. do większości;  3. do połowy nauczycieli; 4. do mniej niż połowy 5. do żadnego 6. brak odpowiedzi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rostokąt 7"/>
          <p:cNvSpPr/>
          <p:nvPr/>
        </p:nvSpPr>
        <p:spPr>
          <a:xfrm>
            <a:off x="2597040" y="521496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5189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czniów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rostokąt 8"/>
          <p:cNvSpPr/>
          <p:nvPr/>
        </p:nvSpPr>
        <p:spPr>
          <a:xfrm>
            <a:off x="452520" y="565200"/>
            <a:ext cx="82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 jakiej grupy Twoich nauczycieli odnoszą się poniższe stwierdzenia? 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Obraz 10" descr="http://www.seo2.npseo.pl/tmp/20151018175731.png"/>
          <p:cNvPicPr/>
          <p:nvPr/>
        </p:nvPicPr>
        <p:blipFill>
          <a:blip r:embed="rId1"/>
          <a:stretch/>
        </p:blipFill>
        <p:spPr>
          <a:xfrm>
            <a:off x="452520" y="1892160"/>
            <a:ext cx="3467160" cy="3322800"/>
          </a:xfrm>
          <a:prstGeom prst="rect">
            <a:avLst/>
          </a:prstGeom>
          <a:ln w="0">
            <a:noFill/>
          </a:ln>
        </p:spPr>
      </p:pic>
      <p:sp>
        <p:nvSpPr>
          <p:cNvPr id="875" name="Prostokąt 11"/>
          <p:cNvSpPr/>
          <p:nvPr/>
        </p:nvSpPr>
        <p:spPr>
          <a:xfrm>
            <a:off x="4035600" y="130320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uczyciele zachęcają mnie do rozwiązywania zadań różnymi sposobam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Obraz 12" descr="http://www.seo2.npseo.pl/tmp/20151018175803.png"/>
          <p:cNvPicPr/>
          <p:nvPr/>
        </p:nvPicPr>
        <p:blipFill>
          <a:blip r:embed="rId2"/>
          <a:stretch/>
        </p:blipFill>
        <p:spPr>
          <a:xfrm>
            <a:off x="4446720" y="2222640"/>
            <a:ext cx="36226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rostokąt 2"/>
          <p:cNvSpPr/>
          <p:nvPr/>
        </p:nvSpPr>
        <p:spPr>
          <a:xfrm>
            <a:off x="452520" y="13032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ie boję się im zadawać pyta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rostokąt 5"/>
          <p:cNvSpPr/>
          <p:nvPr/>
        </p:nvSpPr>
        <p:spPr>
          <a:xfrm>
            <a:off x="789120" y="5657760"/>
            <a:ext cx="78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o wszystkich; 2. do większości;  3. do połowy nauczycieli; 4. do mniej niż połowy 5. do żadnego 6. brak odpowiedzi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rostokąt 7"/>
          <p:cNvSpPr/>
          <p:nvPr/>
        </p:nvSpPr>
        <p:spPr>
          <a:xfrm>
            <a:off x="2611440" y="521496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5189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czniów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rostokąt 8"/>
          <p:cNvSpPr/>
          <p:nvPr/>
        </p:nvSpPr>
        <p:spPr>
          <a:xfrm>
            <a:off x="452520" y="565200"/>
            <a:ext cx="82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 jakiej grupy Twoich nauczycieli odnoszą się poniższe stwierdzenia? 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rostokąt 11"/>
          <p:cNvSpPr/>
          <p:nvPr/>
        </p:nvSpPr>
        <p:spPr>
          <a:xfrm>
            <a:off x="4035600" y="1303200"/>
            <a:ext cx="47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ie boję się na ich lekcji popełniać błęd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Obraz 9" descr="http://www.seo2.npseo.pl/tmp/20151018175845.png"/>
          <p:cNvPicPr/>
          <p:nvPr/>
        </p:nvPicPr>
        <p:blipFill>
          <a:blip r:embed="rId1"/>
          <a:stretch/>
        </p:blipFill>
        <p:spPr>
          <a:xfrm>
            <a:off x="189000" y="1863720"/>
            <a:ext cx="3846600" cy="3351240"/>
          </a:xfrm>
          <a:prstGeom prst="rect">
            <a:avLst/>
          </a:prstGeom>
          <a:ln w="0">
            <a:noFill/>
          </a:ln>
        </p:spPr>
      </p:pic>
      <p:pic>
        <p:nvPicPr>
          <p:cNvPr id="883" name="Obraz 13" descr="http://www.seo2.npseo.pl/tmp/20151018175917.png"/>
          <p:cNvPicPr/>
          <p:nvPr/>
        </p:nvPicPr>
        <p:blipFill>
          <a:blip r:embed="rId2"/>
          <a:stretch/>
        </p:blipFill>
        <p:spPr>
          <a:xfrm>
            <a:off x="4430880" y="1801800"/>
            <a:ext cx="40017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rostokąt 2"/>
          <p:cNvSpPr/>
          <p:nvPr/>
        </p:nvSpPr>
        <p:spPr>
          <a:xfrm>
            <a:off x="452520" y="102708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uczyciele zachęcają mnie do wyrażania własnego zdania na tematy omawiane na lek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rostokąt 5"/>
          <p:cNvSpPr/>
          <p:nvPr/>
        </p:nvSpPr>
        <p:spPr>
          <a:xfrm>
            <a:off x="800280" y="5504040"/>
            <a:ext cx="78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o wszystkich; 2. do większości;  3. do połowy nauczycieli; 4. do mniej niż połowy 5. do żadnego 6. brak odpowiedzi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7"/>
          <p:cNvSpPr/>
          <p:nvPr/>
        </p:nvSpPr>
        <p:spPr>
          <a:xfrm>
            <a:off x="2597040" y="502920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5189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czniów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rostokąt 8"/>
          <p:cNvSpPr/>
          <p:nvPr/>
        </p:nvSpPr>
        <p:spPr>
          <a:xfrm>
            <a:off x="452520" y="565200"/>
            <a:ext cx="82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 jakiej grupy Twoich nauczycieli odnoszą się poniższe stwierdzenia? 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rostokąt 11"/>
          <p:cNvSpPr/>
          <p:nvPr/>
        </p:nvSpPr>
        <p:spPr>
          <a:xfrm>
            <a:off x="4441680" y="1165320"/>
            <a:ext cx="41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uczyciele rozmawiają ze mną o tym, w jaki sposób się ucz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Obraz 10" descr="http://www.seo2.npseo.pl/tmp/20151018180026.png"/>
          <p:cNvPicPr/>
          <p:nvPr/>
        </p:nvPicPr>
        <p:blipFill>
          <a:blip r:embed="rId1"/>
          <a:stretch/>
        </p:blipFill>
        <p:spPr>
          <a:xfrm>
            <a:off x="665280" y="2043000"/>
            <a:ext cx="3619440" cy="2986200"/>
          </a:xfrm>
          <a:prstGeom prst="rect">
            <a:avLst/>
          </a:prstGeom>
          <a:ln w="0">
            <a:noFill/>
          </a:ln>
        </p:spPr>
      </p:pic>
      <p:pic>
        <p:nvPicPr>
          <p:cNvPr id="890" name="Obraz 12" descr="http://www.seo2.npseo.pl/tmp/20151018180058.png"/>
          <p:cNvPicPr/>
          <p:nvPr/>
        </p:nvPicPr>
        <p:blipFill>
          <a:blip r:embed="rId2"/>
          <a:stretch/>
        </p:blipFill>
        <p:spPr>
          <a:xfrm>
            <a:off x="4876920" y="2043000"/>
            <a:ext cx="36288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rostokąt 1"/>
          <p:cNvSpPr/>
          <p:nvPr/>
        </p:nvSpPr>
        <p:spPr>
          <a:xfrm>
            <a:off x="692280" y="581040"/>
            <a:ext cx="73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Działania kształtujące postawę uczenia się przez całe życ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2" descr="http://tlumacznarosyjski.pl/userfiles/admin/Fotolia_51117716_XS.jpg"/>
          <p:cNvPicPr/>
          <p:nvPr/>
        </p:nvPicPr>
        <p:blipFill>
          <a:blip r:embed="rId1"/>
          <a:stretch/>
        </p:blipFill>
        <p:spPr>
          <a:xfrm>
            <a:off x="757080" y="3776760"/>
            <a:ext cx="2452680" cy="1638360"/>
          </a:xfrm>
          <a:prstGeom prst="rect">
            <a:avLst/>
          </a:prstGeom>
          <a:ln w="0">
            <a:noFill/>
          </a:ln>
        </p:spPr>
      </p:pic>
      <p:sp>
        <p:nvSpPr>
          <p:cNvPr id="893" name="Strzałka w prawo 3"/>
          <p:cNvSpPr/>
          <p:nvPr/>
        </p:nvSpPr>
        <p:spPr>
          <a:xfrm rot="2836200">
            <a:off x="4731480" y="2016720"/>
            <a:ext cx="2017440" cy="5079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załka w prawo 6"/>
          <p:cNvSpPr/>
          <p:nvPr/>
        </p:nvSpPr>
        <p:spPr>
          <a:xfrm rot="7819800">
            <a:off x="1820880" y="2037240"/>
            <a:ext cx="2017800" cy="50796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4" descr="http://w-spodnicy.ofeminin.pl/g/Kobieta.obiekt3.aspx/0/460/Kobieta/bcb4e204-f9ca-46b2-9b30-d13d98975536_20110201033708_Szybka-nauka-jezykow-obcych.jpg"/>
          <p:cNvPicPr/>
          <p:nvPr/>
        </p:nvPicPr>
        <p:blipFill>
          <a:blip r:embed="rId2"/>
          <a:stretch/>
        </p:blipFill>
        <p:spPr>
          <a:xfrm>
            <a:off x="5457960" y="3821040"/>
            <a:ext cx="3186000" cy="1594080"/>
          </a:xfrm>
          <a:prstGeom prst="rect">
            <a:avLst/>
          </a:prstGeom>
          <a:ln w="0">
            <a:noFill/>
          </a:ln>
        </p:spPr>
      </p:pic>
      <p:sp>
        <p:nvSpPr>
          <p:cNvPr id="896" name="pole tekstowe 4"/>
          <p:cNvSpPr/>
          <p:nvPr/>
        </p:nvSpPr>
        <p:spPr>
          <a:xfrm rot="2819400">
            <a:off x="5290560" y="1768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UCZYC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ole tekstowe 9"/>
          <p:cNvSpPr/>
          <p:nvPr/>
        </p:nvSpPr>
        <p:spPr>
          <a:xfrm rot="18633000">
            <a:off x="1724760" y="171828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CZNI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załka w lewo i prawo 5"/>
          <p:cNvSpPr/>
          <p:nvPr/>
        </p:nvSpPr>
        <p:spPr>
          <a:xfrm>
            <a:off x="3538440" y="4484520"/>
            <a:ext cx="1650960" cy="378000"/>
          </a:xfrm>
          <a:prstGeom prst="left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ole tekstowe 7"/>
          <p:cNvSpPr/>
          <p:nvPr/>
        </p:nvSpPr>
        <p:spPr>
          <a:xfrm>
            <a:off x="3063960" y="3227400"/>
            <a:ext cx="27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ZKOŁA UCZĄCA S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ole tekstowe 2"/>
          <p:cNvSpPr/>
          <p:nvPr/>
        </p:nvSpPr>
        <p:spPr>
          <a:xfrm>
            <a:off x="573120" y="2017800"/>
            <a:ext cx="7918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świadamianie uczniom zależności pomiędzy kolejnych etapami edukacji a rozwojem osobisty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kazywanie różnych możliwości (różnych dróg) rozwoju poprzez dokonywanie  świadomego wybo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radztwo zawodow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kazywanie korzyści wynikających z edukacji formalnej, nieformalnej, incydentaln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ałanie własnym przykładem, sięganie po przykłady ze środowiska lokalnego (w tym środowiska rodzinnego uczni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ształtowanie kompetencji klucz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ole tekstowe 3"/>
          <p:cNvSpPr/>
          <p:nvPr/>
        </p:nvSpPr>
        <p:spPr>
          <a:xfrm>
            <a:off x="5626080" y="1306440"/>
            <a:ext cx="1057320" cy="3682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ole tekstowe 6"/>
          <p:cNvSpPr/>
          <p:nvPr/>
        </p:nvSpPr>
        <p:spPr>
          <a:xfrm>
            <a:off x="1976400" y="1306440"/>
            <a:ext cx="1652760" cy="36828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UCZY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załka w prawo 4"/>
          <p:cNvSpPr/>
          <p:nvPr/>
        </p:nvSpPr>
        <p:spPr>
          <a:xfrm>
            <a:off x="4092480" y="1398600"/>
            <a:ext cx="1117800" cy="183960"/>
          </a:xfrm>
          <a:prstGeom prst="rightArrow">
            <a:avLst>
              <a:gd name="adj1" fmla="val 50000"/>
              <a:gd name="adj2" fmla="val 500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rostokąt 8"/>
          <p:cNvSpPr/>
          <p:nvPr/>
        </p:nvSpPr>
        <p:spPr>
          <a:xfrm>
            <a:off x="692280" y="504720"/>
            <a:ext cx="73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Działania kształtujące postawę uczenia się przez całe życ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2" descr="Znalezione obrazy dla zapytania ucze&amp;nacute; w szkole zawodowej"/>
          <p:cNvPicPr/>
          <p:nvPr/>
        </p:nvPicPr>
        <p:blipFill>
          <a:blip r:embed="rId1"/>
          <a:stretch/>
        </p:blipFill>
        <p:spPr>
          <a:xfrm>
            <a:off x="6504120" y="4705200"/>
            <a:ext cx="209376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rostokąt 2"/>
          <p:cNvSpPr/>
          <p:nvPr/>
        </p:nvSpPr>
        <p:spPr>
          <a:xfrm>
            <a:off x="515880" y="412920"/>
            <a:ext cx="7959960" cy="70380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mpetencje są definiowane jako połączenie wiedzy, umiejętności i postaw odpowiednich do sytu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rostokąt 3"/>
          <p:cNvSpPr/>
          <p:nvPr/>
        </p:nvSpPr>
        <p:spPr>
          <a:xfrm>
            <a:off x="3933720" y="1495440"/>
            <a:ext cx="4542120" cy="33858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ramach odniesienia ustanowiono osiem kompetencji kluczow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porozumiewanie się w języku ojczyst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porozumiewanie się w językach obc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kompetencje matematyczne i podstawowe kompetencje naukowo-technicz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) kompetencje informatycz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) umiejętność uczenia si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) kompetencje społeczne i obywatelsk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) inicjatywność i przedsiębiorczoś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) świadomość i ekspresja kultural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rostokąt 4"/>
          <p:cNvSpPr/>
          <p:nvPr/>
        </p:nvSpPr>
        <p:spPr>
          <a:xfrm>
            <a:off x="515880" y="1911240"/>
            <a:ext cx="2952720" cy="228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mpetencje kluczow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o te, których wszystkie osoby potrzebują do samorealiza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rozwoju osobistego, bycia aktywnym obywatelem, integracji społecz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rostokąt 5"/>
          <p:cNvSpPr/>
          <p:nvPr/>
        </p:nvSpPr>
        <p:spPr>
          <a:xfrm>
            <a:off x="515880" y="4863960"/>
            <a:ext cx="7959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etencje kluczowe w uczeniu się przez całe życie – europejskie ramy odniesienia” to załącznik do zalecenia Parlamentu Europejskiego i Rady z dnia 18 grudnia 2006 r. w sprawie kompetencji kluczowych w procesie uczenia się przez całe życie, opublikowanego w Dzienniku Urzędowym Unii Europejskiej z dnia 30 grudnia 2006 r./L39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rostokąt 2"/>
          <p:cNvSpPr/>
          <p:nvPr/>
        </p:nvSpPr>
        <p:spPr>
          <a:xfrm>
            <a:off x="5122800" y="54468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mojej szkole uczą się zarówno nauczyciele jak i uczniowie. 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rostokąt 5"/>
          <p:cNvSpPr/>
          <p:nvPr/>
        </p:nvSpPr>
        <p:spPr>
          <a:xfrm>
            <a:off x="5337000" y="5468760"/>
            <a:ext cx="328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Zdecydowanie tak; 2. raczej tak;  3. raczej nie; 4. zdecydowanie nie ; 5. brak odpowiedzi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rostokąt 7"/>
          <p:cNvSpPr/>
          <p:nvPr/>
        </p:nvSpPr>
        <p:spPr>
          <a:xfrm>
            <a:off x="5327640" y="509904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2527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czniów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rostokąt 11"/>
          <p:cNvSpPr/>
          <p:nvPr/>
        </p:nvSpPr>
        <p:spPr>
          <a:xfrm>
            <a:off x="515880" y="573120"/>
            <a:ext cx="41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uczyciele mówią mi, że uczenie się jest ważne i trwa przez całe życie. 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Obraz 9" descr="http://www.seo2.npseo.pl/tmp/20151018180207.png"/>
          <p:cNvPicPr/>
          <p:nvPr/>
        </p:nvPicPr>
        <p:blipFill>
          <a:blip r:embed="rId1"/>
          <a:stretch/>
        </p:blipFill>
        <p:spPr>
          <a:xfrm>
            <a:off x="4978440" y="1386000"/>
            <a:ext cx="3889440" cy="3708360"/>
          </a:xfrm>
          <a:prstGeom prst="rect">
            <a:avLst/>
          </a:prstGeom>
          <a:ln w="0">
            <a:noFill/>
          </a:ln>
        </p:spPr>
      </p:pic>
      <p:pic>
        <p:nvPicPr>
          <p:cNvPr id="915" name="Obraz 13" descr="http://www.seo2.npseo.pl/tmp/20151018180247.png"/>
          <p:cNvPicPr/>
          <p:nvPr/>
        </p:nvPicPr>
        <p:blipFill>
          <a:blip r:embed="rId2"/>
          <a:stretch/>
        </p:blipFill>
        <p:spPr>
          <a:xfrm>
            <a:off x="290520" y="1386000"/>
            <a:ext cx="4179960" cy="3708360"/>
          </a:xfrm>
          <a:prstGeom prst="rect">
            <a:avLst/>
          </a:prstGeom>
          <a:ln w="0">
            <a:noFill/>
          </a:ln>
        </p:spPr>
      </p:pic>
      <p:sp>
        <p:nvSpPr>
          <p:cNvPr id="916" name="Prostokąt 15"/>
          <p:cNvSpPr/>
          <p:nvPr/>
        </p:nvSpPr>
        <p:spPr>
          <a:xfrm>
            <a:off x="505440" y="509436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32047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czniów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rostokąt 16"/>
          <p:cNvSpPr/>
          <p:nvPr/>
        </p:nvSpPr>
        <p:spPr>
          <a:xfrm>
            <a:off x="800280" y="5468760"/>
            <a:ext cx="328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Bardzo często; 2. często; 3. rzadko;  4. nigdy; 5. brak odpowiedzi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2"/>
          <p:cNvSpPr/>
          <p:nvPr/>
        </p:nvSpPr>
        <p:spPr>
          <a:xfrm>
            <a:off x="114480" y="3906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k często daje Pan/i swoim uczniom możliwość kształtowania poniższych umiejęt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rostokąt 3"/>
          <p:cNvSpPr/>
          <p:nvPr/>
        </p:nvSpPr>
        <p:spPr>
          <a:xfrm>
            <a:off x="304920" y="860400"/>
            <a:ext cx="35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zytanie – umiejętność rozumienia, wykorzystywania i przetwarzania teks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rostokąt 4"/>
          <p:cNvSpPr/>
          <p:nvPr/>
        </p:nvSpPr>
        <p:spPr>
          <a:xfrm>
            <a:off x="4594320" y="860400"/>
            <a:ext cx="4287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myślenie matematyczne – umiejętność wykorzystania narzędzi matematyki w życiu codziennym oraz formułowania sądów opartych na rozumowaniu matematycz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Obraz 6" descr="http://www.seo2.npseo.pl/tmp/20151018180732.png"/>
          <p:cNvPicPr/>
          <p:nvPr/>
        </p:nvPicPr>
        <p:blipFill>
          <a:blip r:embed="rId1"/>
          <a:stretch/>
        </p:blipFill>
        <p:spPr>
          <a:xfrm>
            <a:off x="476280" y="1692360"/>
            <a:ext cx="3573360" cy="3281400"/>
          </a:xfrm>
          <a:prstGeom prst="rect">
            <a:avLst/>
          </a:prstGeom>
          <a:ln w="0">
            <a:noFill/>
          </a:ln>
        </p:spPr>
      </p:pic>
      <p:pic>
        <p:nvPicPr>
          <p:cNvPr id="922" name="Obraz 7" descr="http://www.seo2.npseo.pl/tmp/20151018180818.png"/>
          <p:cNvPicPr/>
          <p:nvPr/>
        </p:nvPicPr>
        <p:blipFill>
          <a:blip r:embed="rId2"/>
          <a:stretch/>
        </p:blipFill>
        <p:spPr>
          <a:xfrm>
            <a:off x="4965840" y="1814400"/>
            <a:ext cx="3322440" cy="3159360"/>
          </a:xfrm>
          <a:prstGeom prst="rect">
            <a:avLst/>
          </a:prstGeom>
          <a:ln w="0">
            <a:noFill/>
          </a:ln>
        </p:spPr>
      </p:pic>
      <p:sp>
        <p:nvSpPr>
          <p:cNvPr id="923" name="Prostokąt 5"/>
          <p:cNvSpPr/>
          <p:nvPr/>
        </p:nvSpPr>
        <p:spPr>
          <a:xfrm>
            <a:off x="2554200" y="497376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123340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nauczycieli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rostokąt 8"/>
          <p:cNvSpPr/>
          <p:nvPr/>
        </p:nvSpPr>
        <p:spPr>
          <a:xfrm>
            <a:off x="534960" y="5342040"/>
            <a:ext cx="811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1. na wszystkich zajęciach; 2 na większości zajęć; 3. na połowie zajęć; 4. na mniej niż połowie zajęć;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5. na żadnych; 6. brak odpowiedz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rostokąt 1"/>
          <p:cNvSpPr/>
          <p:nvPr/>
        </p:nvSpPr>
        <p:spPr>
          <a:xfrm>
            <a:off x="530280" y="950760"/>
            <a:ext cx="7670880" cy="1923480"/>
          </a:xfrm>
          <a:prstGeom prst="rect">
            <a:avLst/>
          </a:prstGeom>
          <a:solidFill>
            <a:srgbClr val="f8fb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chodzące w skład OECD społeczeństwa i gospodarki doświadczyły dogłębnej transformacji – nie opierają się już na przemyśle, ale na wiedzy. W świecie coraz częściej na pierwszy plan są wysuwane tzw. kompetencje XXI wieku. W ten sposób jakość uczenia się i czas nań poświęcony stają się najważniejs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Istota uczenia się, Warszawa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rostokąt 3"/>
          <p:cNvSpPr/>
          <p:nvPr/>
        </p:nvSpPr>
        <p:spPr>
          <a:xfrm>
            <a:off x="1698480" y="3281400"/>
            <a:ext cx="6966000" cy="1678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wiązku z postępującą globalizacją Unia Europejska staje przed coraz to nowymi wyzwaniami, dlatego też każdy obywatel będzie potrzebował szerokiego wachlarza kompetencji kluczowych, by łatwo przystosować się do szybko zmieniającego się świata, w którym zachodzą rozliczne wzajemne powiąza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etencje kluczowe w uczeniu się przez całe życie, EU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rostokąt 2"/>
          <p:cNvSpPr/>
          <p:nvPr/>
        </p:nvSpPr>
        <p:spPr>
          <a:xfrm>
            <a:off x="114480" y="3906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k często daje Pan/i swoim uczniom możliwość kształtowania poniższych umiejęt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rostokąt 3"/>
          <p:cNvSpPr/>
          <p:nvPr/>
        </p:nvSpPr>
        <p:spPr>
          <a:xfrm>
            <a:off x="219240" y="965160"/>
            <a:ext cx="45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yślenie naukowe – umiejętność formułowania wniosków opartych na obserwacjach empirycznych dotyczących przyrody i społeczeńst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4"/>
          <p:cNvSpPr/>
          <p:nvPr/>
        </p:nvSpPr>
        <p:spPr>
          <a:xfrm>
            <a:off x="5478480" y="965160"/>
            <a:ext cx="31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miejętność komunikowania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 języku ojczyst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5"/>
          <p:cNvSpPr/>
          <p:nvPr/>
        </p:nvSpPr>
        <p:spPr>
          <a:xfrm>
            <a:off x="2653560" y="516888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123340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nauczycieli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rostokąt 8"/>
          <p:cNvSpPr/>
          <p:nvPr/>
        </p:nvSpPr>
        <p:spPr>
          <a:xfrm>
            <a:off x="554040" y="5560920"/>
            <a:ext cx="81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1. na wszystkich zajęciach; 2 na większości zajęć; 3. na połowie zajęć; 4. na mniej niż połowie zajęć; 5. na żadnych; 6. brak odpowiedz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Obraz 9" descr="http://www.seo2.npseo.pl/tmp/20151018180852.png"/>
          <p:cNvPicPr/>
          <p:nvPr/>
        </p:nvPicPr>
        <p:blipFill>
          <a:blip r:embed="rId1"/>
          <a:stretch/>
        </p:blipFill>
        <p:spPr>
          <a:xfrm>
            <a:off x="406440" y="1925640"/>
            <a:ext cx="3817800" cy="3243240"/>
          </a:xfrm>
          <a:prstGeom prst="rect">
            <a:avLst/>
          </a:prstGeom>
          <a:ln w="0">
            <a:noFill/>
          </a:ln>
        </p:spPr>
      </p:pic>
      <p:pic>
        <p:nvPicPr>
          <p:cNvPr id="931" name="Obraz 10" descr="http://www.seo2.npseo.pl/tmp/20151018180927.png"/>
          <p:cNvPicPr/>
          <p:nvPr/>
        </p:nvPicPr>
        <p:blipFill>
          <a:blip r:embed="rId2"/>
          <a:stretch/>
        </p:blipFill>
        <p:spPr>
          <a:xfrm>
            <a:off x="4776840" y="1795320"/>
            <a:ext cx="40035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rostokąt 2"/>
          <p:cNvSpPr/>
          <p:nvPr/>
        </p:nvSpPr>
        <p:spPr>
          <a:xfrm>
            <a:off x="114480" y="3906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k często daje Pan/i swoim uczniom możliwość kształtowania poniższych umiejęt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rostokąt 3"/>
          <p:cNvSpPr/>
          <p:nvPr/>
        </p:nvSpPr>
        <p:spPr>
          <a:xfrm>
            <a:off x="219240" y="965160"/>
            <a:ext cx="45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miejętność posługiwania się nowoczesnymi technologiami informacyjno-komunikacyjny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rostokąt 4"/>
          <p:cNvSpPr/>
          <p:nvPr/>
        </p:nvSpPr>
        <p:spPr>
          <a:xfrm>
            <a:off x="5478480" y="965160"/>
            <a:ext cx="31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miejętność uczenia si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rostokąt 5"/>
          <p:cNvSpPr/>
          <p:nvPr/>
        </p:nvSpPr>
        <p:spPr>
          <a:xfrm>
            <a:off x="2554200" y="518472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123340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nauczycieli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rostokąt 8"/>
          <p:cNvSpPr/>
          <p:nvPr/>
        </p:nvSpPr>
        <p:spPr>
          <a:xfrm>
            <a:off x="550800" y="5560920"/>
            <a:ext cx="811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1. na wszystkich zajęciach; 2 na większości zajęć; 3. na połowie zajęć; 4. na mniej niż połowie zajęć; 5. na żadnych; 6. brak odpowiedz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Obraz 11" descr="http://www.seo2.npseo.pl/tmp/20151018181007.png"/>
          <p:cNvPicPr/>
          <p:nvPr/>
        </p:nvPicPr>
        <p:blipFill>
          <a:blip r:embed="rId1"/>
          <a:stretch/>
        </p:blipFill>
        <p:spPr>
          <a:xfrm>
            <a:off x="476280" y="1677960"/>
            <a:ext cx="3959280" cy="3506760"/>
          </a:xfrm>
          <a:prstGeom prst="rect">
            <a:avLst/>
          </a:prstGeom>
          <a:ln w="0">
            <a:noFill/>
          </a:ln>
        </p:spPr>
      </p:pic>
      <p:pic>
        <p:nvPicPr>
          <p:cNvPr id="938" name="Obraz 12" descr="http://www.seo2.npseo.pl/tmp/20151018181049.png"/>
          <p:cNvPicPr/>
          <p:nvPr/>
        </p:nvPicPr>
        <p:blipFill>
          <a:blip r:embed="rId2"/>
          <a:stretch/>
        </p:blipFill>
        <p:spPr>
          <a:xfrm>
            <a:off x="4533840" y="1677960"/>
            <a:ext cx="42465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rostokąt 2"/>
          <p:cNvSpPr/>
          <p:nvPr/>
        </p:nvSpPr>
        <p:spPr>
          <a:xfrm>
            <a:off x="114480" y="3906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k często daje Pan/i swoim uczniom możliwość kształtowania poniższych umiejęt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rostokąt 3"/>
          <p:cNvSpPr/>
          <p:nvPr/>
        </p:nvSpPr>
        <p:spPr>
          <a:xfrm>
            <a:off x="219240" y="965160"/>
            <a:ext cx="45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miejętność odkrywania swoich zainteresowań i/lub przygotowania do dalszej edukacj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rostokąt 4"/>
          <p:cNvSpPr/>
          <p:nvPr/>
        </p:nvSpPr>
        <p:spPr>
          <a:xfrm>
            <a:off x="5478480" y="965160"/>
            <a:ext cx="31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miejętność pracy zespołow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rostokąt 5"/>
          <p:cNvSpPr/>
          <p:nvPr/>
        </p:nvSpPr>
        <p:spPr>
          <a:xfrm>
            <a:off x="2554200" y="518004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123340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nauczycieli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rostokąt 8"/>
          <p:cNvSpPr/>
          <p:nvPr/>
        </p:nvSpPr>
        <p:spPr>
          <a:xfrm>
            <a:off x="479520" y="5560920"/>
            <a:ext cx="81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1. na wszystkich zajęciach; 2 na większości zajęć; 3. na połowie zajęć; 4. na mniej niż połowie zajęć; 5. na żadnych; 6. brak odpowiedz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Obraz 9" descr="http://www.seo2.npseo.pl/tmp/20151018181123.png"/>
          <p:cNvPicPr/>
          <p:nvPr/>
        </p:nvPicPr>
        <p:blipFill>
          <a:blip r:embed="rId1"/>
          <a:stretch/>
        </p:blipFill>
        <p:spPr>
          <a:xfrm>
            <a:off x="219240" y="1549440"/>
            <a:ext cx="4314600" cy="3630600"/>
          </a:xfrm>
          <a:prstGeom prst="rect">
            <a:avLst/>
          </a:prstGeom>
          <a:ln w="0">
            <a:noFill/>
          </a:ln>
        </p:spPr>
      </p:pic>
      <p:pic>
        <p:nvPicPr>
          <p:cNvPr id="945" name="Obraz 10" descr="http://www.seo2.npseo.pl/tmp/20151018181154.png"/>
          <p:cNvPicPr/>
          <p:nvPr/>
        </p:nvPicPr>
        <p:blipFill>
          <a:blip r:embed="rId2"/>
          <a:stretch/>
        </p:blipFill>
        <p:spPr>
          <a:xfrm>
            <a:off x="4776840" y="1549440"/>
            <a:ext cx="41767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Wykres 2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8026560" cy="4572000"/>
          </a:xfrm>
          <a:prstGeom prst="rect">
            <a:avLst/>
          </a:prstGeom>
          <a:ln w="0">
            <a:noFill/>
          </a:ln>
        </p:spPr>
      </p:pic>
      <p:sp>
        <p:nvSpPr>
          <p:cNvPr id="947" name="Prostokąt 1"/>
          <p:cNvSpPr/>
          <p:nvPr/>
        </p:nvSpPr>
        <p:spPr>
          <a:xfrm>
            <a:off x="449280" y="29520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tóre z najważniejszych umiejętności, opisanych w podstawie programowej dla danego etapu kształcenia były kształtowane u uczniów podczas lekcji?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OZ 237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rostokąt 1"/>
          <p:cNvSpPr/>
          <p:nvPr/>
        </p:nvSpPr>
        <p:spPr>
          <a:xfrm>
            <a:off x="522360" y="365040"/>
            <a:ext cx="83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Podejmowanie działań promujących wartość edukacj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ole tekstowe 11"/>
          <p:cNvSpPr/>
          <p:nvPr/>
        </p:nvSpPr>
        <p:spPr>
          <a:xfrm>
            <a:off x="522360" y="1422360"/>
            <a:ext cx="80247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mowanie wartości edukacji to propagowanie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zechstronnego i  dostosowanego do potrzeb, możliwości, cech indywidualnych – rozwoju młodego człowieka przez dobór treści i  form kształcenia w taki sposób, by stymulować automotywację do uczenia si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udowy społeczeństwa demokratycznego, obywatelskiego poprzez takie zorganizowanie procesu edukacji, w którym uczniowie doświadczają tego, czym są demokracja, partycypacja, podejmowanie decyzji i  odpowiedzialność za siebie i in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wijania kompetencji, które i w szkole, i po jej ukończeniu umożliwią/ułatwią/uprzyjemnią życie z samym sobą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w społeczeństwi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mowanie wartości edukacji to nie promocja oferty szkoł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ródło: Jakość edukacji. Różnorodne perspektywy. ORE, Kraków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odtytuł 2"/>
          <p:cNvSpPr/>
          <p:nvPr/>
        </p:nvSpPr>
        <p:spPr>
          <a:xfrm>
            <a:off x="3938760" y="766800"/>
            <a:ext cx="49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LA NADZORU PEDAGOGICZNEGO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E WSPOMAGANIU SZKOŁY/PLACÓWKI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SZTAŁTOWANIU KOMPETENCJI KLUCZOW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7"/>
          <p:cNvSpPr/>
          <p:nvPr/>
        </p:nvSpPr>
        <p:spPr>
          <a:xfrm>
            <a:off x="581040" y="1811160"/>
            <a:ext cx="79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Ćwiczenie 1 -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naliza, interpretacja, formułowanie i komunikowanie wnios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podstawie danych ilościowych z ewaluacji zewnętrznej sformułujcie wnioski dotyczące kształtowania kompetencji kluczow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odtytuł 2"/>
          <p:cNvSpPr/>
          <p:nvPr/>
        </p:nvSpPr>
        <p:spPr>
          <a:xfrm>
            <a:off x="3938760" y="766800"/>
            <a:ext cx="49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LA NADZORU PEDAGOGICZNEGO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E WSPOMAGANIU SZKOŁY/PLACÓWKI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SZTAŁTOWANIU KOMPETENCJI KLUCZOW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290520" y="1811160"/>
            <a:ext cx="86216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Ćwiczenie 2 -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a, interpretacja, formułowan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komunikowanie wniosk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konajcie analizy danych pozyskanych podczas wywiad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nauczycielami w toku całościowej ewaluacji zewnętrz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znaczcie w wypowiedziach nauczycieli te fragmenty, które mogłyby świadczyć o tym, że szkoła kształtuje wśród uczniów kompetencje kluczow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formułujcie wstępne wnioski, które wspomogłyby szkoł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lanowaniu działań służących kształtowaniu kompetencji klucz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rostokąt 3"/>
          <p:cNvSpPr/>
          <p:nvPr/>
        </p:nvSpPr>
        <p:spPr>
          <a:xfrm>
            <a:off x="595440" y="654120"/>
            <a:ext cx="8083440" cy="47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by spełnić w całości swoją misję, edukacja powinna organizować się wokół czterech aspektów kształcenia, które przez całe życie będą niejako dla każdej jednostki filarami jej wiedz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czyć się, aby wiedzieć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tzn. aby zdobyć narzędzia rozumieni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czyć się, aby działać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aby móc oddziaływać na swoje środowisk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czyć się, aby żyć wspólni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aby uczestniczyć i współpracować z innymi na wszystkich płaszczyznach działalności ludzkie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reszcie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czyć się, aby być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dążenie, które jest pokrewne trzem poprzedn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zywiście, te cztery drogi wiedzy tworzą całość, albowiem mają one wiele punktów zbieżnych, przecinających się i uzupełniając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ródło: „Edukacja: jest w niej ukryty skarb” Raport dla UNESCO Międzynarodowej Komisji do spraw Edukacji dla XXI wieku pod przewodnictwem Jacques’a Delor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rostokąt 2"/>
          <p:cNvSpPr/>
          <p:nvPr/>
        </p:nvSpPr>
        <p:spPr>
          <a:xfrm>
            <a:off x="623880" y="2028960"/>
            <a:ext cx="741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szkole lub placówce prowadzi się działania kształtujące pozytywny klimat sprzyjający uczeniu się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W szkole lub placówce prowadzi się działania kształtujące postawę uczenia się przez całe życie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zkoła lub placówka pozyskuje i wykorzystuje informacje o losach absolwentów do promowania wartości edukacj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ziałania realizowane przez szkołę lub placówkę promują  wartość edukacji w społeczności lokaln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ole tekstowe 1"/>
          <p:cNvSpPr/>
          <p:nvPr/>
        </p:nvSpPr>
        <p:spPr>
          <a:xfrm>
            <a:off x="3106800" y="1031760"/>
            <a:ext cx="49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mowana jest wartość edu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2" descr="C:\Users\Barbara Krawczyka\Desktop\nauka-jezyka-wloskiego.jpg"/>
          <p:cNvPicPr/>
          <p:nvPr/>
        </p:nvPicPr>
        <p:blipFill>
          <a:blip r:embed="rId1"/>
          <a:stretch/>
        </p:blipFill>
        <p:spPr>
          <a:xfrm>
            <a:off x="312840" y="351000"/>
            <a:ext cx="24224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rostokąt 1"/>
          <p:cNvSpPr/>
          <p:nvPr/>
        </p:nvSpPr>
        <p:spPr>
          <a:xfrm>
            <a:off x="406440" y="581040"/>
            <a:ext cx="808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Działania kształtujące pozytywny klimat sprzyjający uczeniu się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2" descr="http://tlumacznarosyjski.pl/userfiles/admin/Fotolia_51117716_XS.jpg"/>
          <p:cNvPicPr/>
          <p:nvPr/>
        </p:nvPicPr>
        <p:blipFill>
          <a:blip r:embed="rId1"/>
          <a:stretch/>
        </p:blipFill>
        <p:spPr>
          <a:xfrm>
            <a:off x="757080" y="3776760"/>
            <a:ext cx="2452680" cy="1638360"/>
          </a:xfrm>
          <a:prstGeom prst="rect">
            <a:avLst/>
          </a:prstGeom>
          <a:ln w="0">
            <a:noFill/>
          </a:ln>
        </p:spPr>
      </p:pic>
      <p:sp>
        <p:nvSpPr>
          <p:cNvPr id="829" name="Strzałka w prawo 3"/>
          <p:cNvSpPr/>
          <p:nvPr/>
        </p:nvSpPr>
        <p:spPr>
          <a:xfrm rot="2836200">
            <a:off x="4731480" y="2016720"/>
            <a:ext cx="2017440" cy="5079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załka w prawo 6"/>
          <p:cNvSpPr/>
          <p:nvPr/>
        </p:nvSpPr>
        <p:spPr>
          <a:xfrm rot="7819800">
            <a:off x="1820880" y="2037240"/>
            <a:ext cx="2017800" cy="50796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" descr="http://w-spodnicy.ofeminin.pl/g/Kobieta.obiekt3.aspx/0/460/Kobieta/bcb4e204-f9ca-46b2-9b30-d13d98975536_20110201033708_Szybka-nauka-jezykow-obcych.jpg"/>
          <p:cNvPicPr/>
          <p:nvPr/>
        </p:nvPicPr>
        <p:blipFill>
          <a:blip r:embed="rId2"/>
          <a:stretch/>
        </p:blipFill>
        <p:spPr>
          <a:xfrm>
            <a:off x="5457960" y="3821040"/>
            <a:ext cx="3186000" cy="1594080"/>
          </a:xfrm>
          <a:prstGeom prst="rect">
            <a:avLst/>
          </a:prstGeom>
          <a:ln w="0">
            <a:noFill/>
          </a:ln>
        </p:spPr>
      </p:pic>
      <p:sp>
        <p:nvSpPr>
          <p:cNvPr id="832" name="pole tekstowe 4"/>
          <p:cNvSpPr/>
          <p:nvPr/>
        </p:nvSpPr>
        <p:spPr>
          <a:xfrm rot="2819400">
            <a:off x="5290560" y="1768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UCZYC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ole tekstowe 9"/>
          <p:cNvSpPr/>
          <p:nvPr/>
        </p:nvSpPr>
        <p:spPr>
          <a:xfrm rot="18633000">
            <a:off x="1724760" y="171828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CZNI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załka w lewo i prawo 5"/>
          <p:cNvSpPr/>
          <p:nvPr/>
        </p:nvSpPr>
        <p:spPr>
          <a:xfrm>
            <a:off x="3538440" y="4484520"/>
            <a:ext cx="1650960" cy="378000"/>
          </a:xfrm>
          <a:prstGeom prst="left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ole tekstowe 7"/>
          <p:cNvSpPr/>
          <p:nvPr/>
        </p:nvSpPr>
        <p:spPr>
          <a:xfrm>
            <a:off x="3063960" y="3227400"/>
            <a:ext cx="27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ZKOŁA UCZĄCA S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rostokąt 1"/>
          <p:cNvSpPr/>
          <p:nvPr/>
        </p:nvSpPr>
        <p:spPr>
          <a:xfrm>
            <a:off x="406440" y="581040"/>
            <a:ext cx="808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Działania kształtujące pozytywny klimat sprzyjający uczeniu się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" descr="Znalezione obrazy dla zapytania nauka"/>
          <p:cNvPicPr/>
          <p:nvPr/>
        </p:nvPicPr>
        <p:blipFill>
          <a:blip r:embed="rId1"/>
          <a:stretch/>
        </p:blipFill>
        <p:spPr>
          <a:xfrm>
            <a:off x="6076800" y="37558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838" name="pole tekstowe 2"/>
          <p:cNvSpPr/>
          <p:nvPr/>
        </p:nvSpPr>
        <p:spPr>
          <a:xfrm>
            <a:off x="573120" y="2017800"/>
            <a:ext cx="611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uczyciele ustawicznie kształcą się, z własnej inicjatywy uczestniczą w kursach, szkoleniach, warsztatach, treningach umiejętności, konferencjach, studiują literaturę, poznają wyniki najnowszych bad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yrektor stwarza nauczycielom warunki do doskonalenia i zdobywania nowych kompeten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równo dyrektor, jak i nauczyciele dzielą się swoimi doświadczeniami, zdobytą wiedzą, wymieniają pogląd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uczyciele uczą się od swoich uczniów i dają im to do zrozumi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ole tekstowe 3"/>
          <p:cNvSpPr/>
          <p:nvPr/>
        </p:nvSpPr>
        <p:spPr>
          <a:xfrm>
            <a:off x="6451560" y="1306440"/>
            <a:ext cx="1650960" cy="36828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UCZY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rostokąt 1"/>
          <p:cNvSpPr/>
          <p:nvPr/>
        </p:nvSpPr>
        <p:spPr>
          <a:xfrm>
            <a:off x="369720" y="595440"/>
            <a:ext cx="395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 naszej szkole panuje przekonanie, że uczą się zarówno uczniowie jak i nauczycie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Obraz 4" descr="http://www.seo2.npseo.pl/tmp/20151018174434.png"/>
          <p:cNvPicPr/>
          <p:nvPr/>
        </p:nvPicPr>
        <p:blipFill>
          <a:blip r:embed="rId1"/>
          <a:stretch/>
        </p:blipFill>
        <p:spPr>
          <a:xfrm>
            <a:off x="569880" y="1430280"/>
            <a:ext cx="3522600" cy="3541680"/>
          </a:xfrm>
          <a:prstGeom prst="rect">
            <a:avLst/>
          </a:prstGeom>
          <a:ln w="0">
            <a:noFill/>
          </a:ln>
        </p:spPr>
      </p:pic>
      <p:sp>
        <p:nvSpPr>
          <p:cNvPr id="842" name="Prostokąt 3"/>
          <p:cNvSpPr/>
          <p:nvPr/>
        </p:nvSpPr>
        <p:spPr>
          <a:xfrm>
            <a:off x="2783880" y="497196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10563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nauczycieli; 2013 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rostokąt 5"/>
          <p:cNvSpPr/>
          <p:nvPr/>
        </p:nvSpPr>
        <p:spPr>
          <a:xfrm>
            <a:off x="4572000" y="595440"/>
            <a:ext cx="42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 naszej szkole dba się o to, aby nauczyciele dzielili się swoją wiedzą z innymi nauczyciel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Obraz 7" descr="http://www.seo2.npseo.pl/tmp/20151018175023.png"/>
          <p:cNvPicPr/>
          <p:nvPr/>
        </p:nvPicPr>
        <p:blipFill>
          <a:blip r:embed="rId2"/>
          <a:stretch/>
        </p:blipFill>
        <p:spPr>
          <a:xfrm>
            <a:off x="4732200" y="1430280"/>
            <a:ext cx="3918240" cy="3541680"/>
          </a:xfrm>
          <a:prstGeom prst="rect">
            <a:avLst/>
          </a:prstGeom>
          <a:ln w="0">
            <a:noFill/>
          </a:ln>
        </p:spPr>
      </p:pic>
      <p:sp>
        <p:nvSpPr>
          <p:cNvPr id="845" name="pole tekstowe 6"/>
          <p:cNvSpPr/>
          <p:nvPr/>
        </p:nvSpPr>
        <p:spPr>
          <a:xfrm>
            <a:off x="662040" y="5342040"/>
            <a:ext cx="3101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1. Zdecydowanie nie, 2. raczej nie, 3. raczej tak; 4. zdecydowanie tak; 5. brak odpowiedz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ole tekstowe 9"/>
          <p:cNvSpPr/>
          <p:nvPr/>
        </p:nvSpPr>
        <p:spPr>
          <a:xfrm>
            <a:off x="5214960" y="5342040"/>
            <a:ext cx="3102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1. Zdecydowanie tak, 2. raczej tak, 3. raczej nie; 4. zdecydowanie nie; 5. brak odpowiedz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rostokąt 1"/>
          <p:cNvSpPr/>
          <p:nvPr/>
        </p:nvSpPr>
        <p:spPr>
          <a:xfrm>
            <a:off x="406440" y="581040"/>
            <a:ext cx="808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Działania kształtujące pozytywny klimat sprzyjający uczeniu się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ole tekstowe 2"/>
          <p:cNvSpPr/>
          <p:nvPr/>
        </p:nvSpPr>
        <p:spPr>
          <a:xfrm>
            <a:off x="573120" y="2017800"/>
            <a:ext cx="7918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kazuje, że nauka jest ciekawa, pełna tajemnic, które można odkrywa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chęca do rozwiązywania zadań różnymi sposob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arza możliwość zadawania pytań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chęca do zespołowego poszukiwania dróg rozwiązania problemu, nawet kosztem popełnianych błędó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tywuje do wyrażania własnego zdania na tematy omawiane na lekcj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aga uczniowi odkrywać optymalne sposoby uczenia się (stosowne do zdiagnozowanych preferencji i predyspozycji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hwali i podkreśla postęp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aje możliwość zaprezentowania rezultatów pra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uje wyjścia, wyjazdy na pokazy nau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ole tekstowe 3"/>
          <p:cNvSpPr/>
          <p:nvPr/>
        </p:nvSpPr>
        <p:spPr>
          <a:xfrm>
            <a:off x="5626080" y="1306440"/>
            <a:ext cx="1057320" cy="3682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ole tekstowe 6"/>
          <p:cNvSpPr/>
          <p:nvPr/>
        </p:nvSpPr>
        <p:spPr>
          <a:xfrm>
            <a:off x="1976400" y="1306440"/>
            <a:ext cx="1652760" cy="36828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UCZY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załka w prawo 4"/>
          <p:cNvSpPr/>
          <p:nvPr/>
        </p:nvSpPr>
        <p:spPr>
          <a:xfrm>
            <a:off x="4092480" y="1398600"/>
            <a:ext cx="1117800" cy="183960"/>
          </a:xfrm>
          <a:prstGeom prst="rightArrow">
            <a:avLst>
              <a:gd name="adj1" fmla="val 50000"/>
              <a:gd name="adj2" fmla="val 500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2" descr="Znalezione obrazy dla zapytania nauczyciel i ucze&amp;nacute;"/>
          <p:cNvPicPr/>
          <p:nvPr/>
        </p:nvPicPr>
        <p:blipFill>
          <a:blip r:embed="rId1"/>
          <a:stretch/>
        </p:blipFill>
        <p:spPr>
          <a:xfrm>
            <a:off x="6691320" y="4441680"/>
            <a:ext cx="21780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rostokąt 2"/>
          <p:cNvSpPr/>
          <p:nvPr/>
        </p:nvSpPr>
        <p:spPr>
          <a:xfrm>
            <a:off x="287280" y="195120"/>
            <a:ext cx="39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zisiaj podczas zajęć miałam/em możliwość pokazania innym uczniom, jakie są rezultaty mojej pracy. 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rostokąt 5"/>
          <p:cNvSpPr/>
          <p:nvPr/>
        </p:nvSpPr>
        <p:spPr>
          <a:xfrm>
            <a:off x="452520" y="5272200"/>
            <a:ext cx="782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na wszystkich zajęciach; 2. na większości zajęć; 3. na połowie zajęć; 4. na mniej niż połowie zajęć; 5. na żadnych zajęciach; 6. brak odpowiedzi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7"/>
          <p:cNvSpPr/>
          <p:nvPr/>
        </p:nvSpPr>
        <p:spPr>
          <a:xfrm>
            <a:off x="496080" y="48769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48811 uczniów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Obraz 15" descr="http://www.seo2.npseo.pl/tmp/20151018175148.png"/>
          <p:cNvPicPr/>
          <p:nvPr/>
        </p:nvPicPr>
        <p:blipFill>
          <a:blip r:embed="rId1"/>
          <a:stretch/>
        </p:blipFill>
        <p:spPr>
          <a:xfrm>
            <a:off x="287280" y="1384200"/>
            <a:ext cx="3819600" cy="3492720"/>
          </a:xfrm>
          <a:prstGeom prst="rect">
            <a:avLst/>
          </a:prstGeom>
          <a:ln w="0">
            <a:noFill/>
          </a:ln>
        </p:spPr>
      </p:pic>
      <p:sp>
        <p:nvSpPr>
          <p:cNvPr id="857" name="Prostokąt 8"/>
          <p:cNvSpPr/>
          <p:nvPr/>
        </p:nvSpPr>
        <p:spPr>
          <a:xfrm>
            <a:off x="4905360" y="195120"/>
            <a:ext cx="38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m możliwość pokazania wyników mojej pracy koleżankom i kolegom. 2013-2015 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Obraz 18" descr="http://www.seo2.npseo.pl/tmp/20151018175651.png"/>
          <p:cNvPicPr/>
          <p:nvPr/>
        </p:nvPicPr>
        <p:blipFill>
          <a:blip r:embed="rId2"/>
          <a:stretch/>
        </p:blipFill>
        <p:spPr>
          <a:xfrm>
            <a:off x="4905360" y="1384200"/>
            <a:ext cx="4035600" cy="3492720"/>
          </a:xfrm>
          <a:prstGeom prst="rect">
            <a:avLst/>
          </a:prstGeom>
          <a:ln w="0">
            <a:noFill/>
          </a:ln>
        </p:spPr>
      </p:pic>
      <p:sp>
        <p:nvSpPr>
          <p:cNvPr id="859" name="Prostokąt 19"/>
          <p:cNvSpPr/>
          <p:nvPr/>
        </p:nvSpPr>
        <p:spPr>
          <a:xfrm>
            <a:off x="4825440" y="48769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33006 uczniów SP, G, LO, T, Z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2:53:14Z</dcterms:created>
  <dc:creator>Barbara Krawczyk</dc:creator>
  <dc:description/>
  <dc:language>en-US</dc:language>
  <cp:lastModifiedBy>Magdalena Godlewska-Dudek</cp:lastModifiedBy>
  <dcterms:modified xsi:type="dcterms:W3CDTF">2018-03-26T12:52:47Z</dcterms:modified>
  <cp:revision>246</cp:revision>
  <dc:subject/>
  <dc:title>EWD szkoła</dc:title>
</cp:coreProperties>
</file>