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E484E-B07B-471A-AD10-8196B932232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becnie nadzór pedagogiczny jest realizowany przez wykonywanie zadań i czynności określonych w art. 33 ustawy o systemie oświaty (tj. Dz. U. 2016 poz. 1943) w trybie działań planowych lub doraźnych i polega n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bserwowaniu, analizowaniu i ocenianiu przebiegu procesów kształcenia i wychowania oraz efektów działalności dydaktycznej, wychowawczej i opiekuńczej oraz innej działalności statutowej szkół i placówek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cenianiu stanu i warunków działalności dydaktycznej, wychowawczej i opiekuńczej oraz innej działalności statutowej szkół i placówek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)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udzielaniu pomocy szkołom i placówkom, a także nauczycielom w wykonywaniu ich zadań dydaktycznych, wychowawczych i opiekuńczych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)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nspirowaniu nauczycieli do innowacji pedagogicznych, metodycznych i organizacyjnyc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owe zapisy, opublikowanej 11 stycznia 2017 roku ustawy „Prawo oświatowe” nie zmieniają trzech pierwszych sformułowań (powielając je w dotychczasowej formie), rozszerzają natomiast pkt 4. do brzmienia: „inspirowaniu nauczycieli do poprawy istniejących lub wdrożenia nowych rozwiązań w procesie kształcenia, przy zastosowaniu innowacyjnych działań programowych, organizacyjnych lub metodycznych, których celem jest rozwijanie kompetencji uczniów.” Nie ulega wątpliwości, iż zapis ten wzmacnia  wspierającą funkcję nadzoru w zakresie kształtowania przez szkoły kompetencji kluczowych uczniów. Jak zatem komunikować wyniki nadzoru, aby inspirować? Czy każdy sposób komunikowania inspiruje w jednakowym stopniu? Jak nie komunikować, aby nie „blokować”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yć może niniejsza część zajęć, stanowiąca swoisty wstęp do ostatniego z naszych modułów, pozwoli odpowiedzieć na postawione pytan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72DBD-E194-4095-9E46-8B9BED621E55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Zapraszamy do ćwiczenia w trzech zespołach, które zmierzą się z tym samym zadaniem. Uwaga! Nie zdradzamy na forum, że każda z grup zaprezentuje inny sposób komunikowania wyników ewaluacj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9F357-EF5D-496A-9323-DB2DD14B9849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dsumowanie ćwiczenia, to dyskusja, która zakończy się odpowiedzią na pytanie postawione w temacie zajęć i będzie ładnym przejściem do modułu poświęconego zasadom efektywnej komunikacji: nadzór – szkoł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2C25E-F033-49A9-85E9-49CEF8779DF0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2B61-F22D-43E3-BE8E-0CD038327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FCD4-4D37-465D-803F-31A3243A0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E4AA-F36B-4371-B827-1E9595F31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2074-FA43-4006-9DFC-745317E77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A8B9-E775-4539-AD8D-2371C54C0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8F69-FE6C-4824-8E20-3B323C843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011E-180E-481A-9994-2E1ECD977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FAEB-1703-4070-87DE-9EC9AD480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EC55-649C-4E2C-BF80-0D53059E6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EB0F-D35A-463D-946E-691FB8C56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ADC4-A088-4700-815B-2FDBF0210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408D-1F7A-4252-97EC-B544EA241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D933B-F11E-4DEA-B6EE-7AA8DDBC0A5E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684360" y="249228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Jak komunikować, aby inspirować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ole tekstowe 2"/>
          <p:cNvSpPr/>
          <p:nvPr/>
        </p:nvSpPr>
        <p:spPr>
          <a:xfrm>
            <a:off x="3348000" y="404640"/>
            <a:ext cx="540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duł III.  Rola nadzoru pedagogicznego we wspomaganiu szkoły/placówki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          w kształtowaniu kompetencji kluczowych uczniów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rostokąt 2"/>
          <p:cNvSpPr/>
          <p:nvPr/>
        </p:nvSpPr>
        <p:spPr>
          <a:xfrm>
            <a:off x="755640" y="1628640"/>
            <a:ext cx="7632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Ćwiczenie dla gr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ainscenizujcie zebranie rady pedagogicznej poświęcone prezentacji wyników ewaluacji zewnętrznej w zakresie kształtowania kompetencji kluczowych uczniów zasadniczej szkoły zawodowej z województwa podlaskiego. Zastosujcie się przy tym do szczegółowej instrukcj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rostokąt 1"/>
          <p:cNvSpPr/>
          <p:nvPr/>
        </p:nvSpPr>
        <p:spPr>
          <a:xfrm>
            <a:off x="179280" y="260280"/>
            <a:ext cx="864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Jak często daje Pan/i swoim uczniom możliwość kształtowania poniższych umiejętnośc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rostokąt 2"/>
          <p:cNvSpPr/>
          <p:nvPr/>
        </p:nvSpPr>
        <p:spPr>
          <a:xfrm>
            <a:off x="611280" y="1477800"/>
            <a:ext cx="300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zytanie – umiejętność rozumienia, wykorzystywania i przetwarzania tekstó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rostokąt 3"/>
          <p:cNvSpPr/>
          <p:nvPr/>
        </p:nvSpPr>
        <p:spPr>
          <a:xfrm>
            <a:off x="5364000" y="969840"/>
            <a:ext cx="30067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yślenie matematyczne – umiejętność wykorzystania narzędzi matematyki w życiu codziennym oraz formułowania sądów opartych na rozumowaniu matematyczny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http://www.seo2.npseo.pl/tmp/20170123113653.png"/>
          <p:cNvPicPr/>
          <p:nvPr/>
        </p:nvPicPr>
        <p:blipFill>
          <a:blip r:embed="rId1"/>
          <a:stretch/>
        </p:blipFill>
        <p:spPr>
          <a:xfrm>
            <a:off x="755640" y="2276640"/>
            <a:ext cx="3286080" cy="2952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http://www.seo2.npseo.pl/tmp/20170123113947.png"/>
          <p:cNvPicPr/>
          <p:nvPr/>
        </p:nvPicPr>
        <p:blipFill>
          <a:blip r:embed="rId2"/>
          <a:stretch/>
        </p:blipFill>
        <p:spPr>
          <a:xfrm>
            <a:off x="5224320" y="2276640"/>
            <a:ext cx="32864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rostokąt 1"/>
          <p:cNvSpPr/>
          <p:nvPr/>
        </p:nvSpPr>
        <p:spPr>
          <a:xfrm>
            <a:off x="179280" y="260280"/>
            <a:ext cx="864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Jak często daje Pan/i swoim uczniom możliwość kształtowania poniższych umiejętnośc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rostokąt 3"/>
          <p:cNvSpPr/>
          <p:nvPr/>
        </p:nvSpPr>
        <p:spPr>
          <a:xfrm>
            <a:off x="395280" y="981000"/>
            <a:ext cx="4105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yślenie naukowe – umiejętność formułowania wniosków opartych na obserwacjach empirycznych dotyczących przyrody i społeczeństw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rostokąt 4"/>
          <p:cNvSpPr/>
          <p:nvPr/>
        </p:nvSpPr>
        <p:spPr>
          <a:xfrm>
            <a:off x="4932360" y="1012680"/>
            <a:ext cx="38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miejętność komunikowania się w języku ojczysty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http://www.seo2.npseo.pl/tmp/20170123114041.png"/>
          <p:cNvPicPr/>
          <p:nvPr/>
        </p:nvPicPr>
        <p:blipFill>
          <a:blip r:embed="rId1"/>
          <a:stretch/>
        </p:blipFill>
        <p:spPr>
          <a:xfrm>
            <a:off x="804960" y="2133720"/>
            <a:ext cx="3286080" cy="2952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http://www.seo2.npseo.pl/tmp/20170123114114.png"/>
          <p:cNvPicPr/>
          <p:nvPr/>
        </p:nvPicPr>
        <p:blipFill>
          <a:blip r:embed="rId2"/>
          <a:stretch/>
        </p:blipFill>
        <p:spPr>
          <a:xfrm>
            <a:off x="5232240" y="2133720"/>
            <a:ext cx="32864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rostokąt 1"/>
          <p:cNvSpPr/>
          <p:nvPr/>
        </p:nvSpPr>
        <p:spPr>
          <a:xfrm>
            <a:off x="179280" y="260280"/>
            <a:ext cx="864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Jak często daje Pan/i swoim uczniom możliwość kształtowania poniższych umiejętnośc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rostokąt 3"/>
          <p:cNvSpPr/>
          <p:nvPr/>
        </p:nvSpPr>
        <p:spPr>
          <a:xfrm>
            <a:off x="324000" y="836640"/>
            <a:ext cx="417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miejętność posługiwania się nowoczesnymi technologiami informacyjno-komunikacyjny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rostokąt 4"/>
          <p:cNvSpPr/>
          <p:nvPr/>
        </p:nvSpPr>
        <p:spPr>
          <a:xfrm>
            <a:off x="5583600" y="882720"/>
            <a:ext cx="180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miejętność uczenia si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http://www.seo2.npseo.pl/tmp/20170123114215.png"/>
          <p:cNvPicPr/>
          <p:nvPr/>
        </p:nvPicPr>
        <p:blipFill>
          <a:blip r:embed="rId1"/>
          <a:stretch/>
        </p:blipFill>
        <p:spPr>
          <a:xfrm>
            <a:off x="768240" y="1989000"/>
            <a:ext cx="3286080" cy="2952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http://www.seo2.npseo.pl/tmp/20170123114253.png"/>
          <p:cNvPicPr/>
          <p:nvPr/>
        </p:nvPicPr>
        <p:blipFill>
          <a:blip r:embed="rId2"/>
          <a:stretch/>
        </p:blipFill>
        <p:spPr>
          <a:xfrm>
            <a:off x="4842000" y="1989000"/>
            <a:ext cx="32860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rostokąt 1"/>
          <p:cNvSpPr/>
          <p:nvPr/>
        </p:nvSpPr>
        <p:spPr>
          <a:xfrm>
            <a:off x="179280" y="260280"/>
            <a:ext cx="864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Jak często daje Pan/i swoim uczniom możliwość kształtowania poniższych umiejętnośc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rostokąt 3"/>
          <p:cNvSpPr/>
          <p:nvPr/>
        </p:nvSpPr>
        <p:spPr>
          <a:xfrm>
            <a:off x="406440" y="981000"/>
            <a:ext cx="372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miejętność odkrywania swoich zainteresowań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/lub przygotowania do dalszej edukacj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rostokąt 4"/>
          <p:cNvSpPr/>
          <p:nvPr/>
        </p:nvSpPr>
        <p:spPr>
          <a:xfrm>
            <a:off x="5153400" y="993600"/>
            <a:ext cx="221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miejętność pracy zespołowe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8" descr="http://www.seo2.npseo.pl/tmp/20170123114335.png"/>
          <p:cNvPicPr/>
          <p:nvPr/>
        </p:nvPicPr>
        <p:blipFill>
          <a:blip r:embed="rId1"/>
          <a:stretch/>
        </p:blipFill>
        <p:spPr>
          <a:xfrm>
            <a:off x="625320" y="2344680"/>
            <a:ext cx="3286440" cy="2952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http://www.seo2.npseo.pl/tmp/20170123114412.png"/>
          <p:cNvPicPr/>
          <p:nvPr/>
        </p:nvPicPr>
        <p:blipFill>
          <a:blip r:embed="rId2"/>
          <a:stretch/>
        </p:blipFill>
        <p:spPr>
          <a:xfrm>
            <a:off x="4614840" y="2344680"/>
            <a:ext cx="32860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"/>
          <p:cNvPicPr/>
          <p:nvPr/>
        </p:nvPicPr>
        <p:blipFill>
          <a:blip r:embed="rId1"/>
          <a:srcRect l="5874" t="12136" r="16972" b="5020"/>
          <a:stretch/>
        </p:blipFill>
        <p:spPr>
          <a:xfrm>
            <a:off x="395280" y="1052640"/>
            <a:ext cx="8513640" cy="51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57200" y="1052640"/>
          <a:ext cx="8229600" cy="49687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82320"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NIOSK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KOMENDAC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268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8088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8268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8268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8268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8088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8268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8268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8232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8124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8232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8268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3"/>
          <p:cNvSpPr/>
          <p:nvPr/>
        </p:nvSpPr>
        <p:spPr>
          <a:xfrm>
            <a:off x="468360" y="1968480"/>
            <a:ext cx="8064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Jak komunikować, aby inspirować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………………………………………………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………………………………………………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………………………………………………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………………………………………………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………………………………………………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ole tekstowe 2"/>
          <p:cNvSpPr/>
          <p:nvPr/>
        </p:nvSpPr>
        <p:spPr>
          <a:xfrm>
            <a:off x="3348000" y="404640"/>
            <a:ext cx="540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duł III.  Rola nadzoru pedagogicznego we wspomaganiu szkoły/placówki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          w kształtowaniu kompetencji kluczowych uczniów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09:26:17Z</dcterms:created>
  <dc:creator>Barbara Jechalska</dc:creator>
  <dc:description/>
  <dc:language>en-US</dc:language>
  <cp:lastModifiedBy>Barbara Krawczyk</cp:lastModifiedBy>
  <dcterms:modified xsi:type="dcterms:W3CDTF">2017-04-01T07:01:01Z</dcterms:modified>
  <cp:revision>63</cp:revision>
  <dc:subject/>
  <dc:title>Slajd 1</dc:title>
</cp:coreProperties>
</file>