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2106-623C-41BB-BE8C-1FE69B3D9D8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371600" y="1143000"/>
            <a:ext cx="41148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000000"/>
                </a:solidFill>
                <a:latin typeface="Calibri"/>
              </a:rPr>
              <a:t>Obserwacja umożliwia nam zetknięcie się z ludźmi i ich zachowaniem w sposób bezpośredni</a:t>
            </a:r>
            <a:r>
              <a:rPr b="0" lang="pl-PL" sz="1100" spc="-1" strike="noStrike">
                <a:solidFill>
                  <a:srgbClr val="000000"/>
                </a:solidFill>
                <a:latin typeface="Calibri"/>
              </a:rPr>
              <a:t>:</a:t>
            </a:r>
            <a:br>
              <a:rPr sz="1100"/>
            </a:br>
            <a:r>
              <a:rPr b="0" lang="pl-PL" sz="1100" spc="-1" strike="noStrike">
                <a:solidFill>
                  <a:srgbClr val="000000"/>
                </a:solidFill>
                <a:latin typeface="Calibri"/>
              </a:rPr>
              <a:t> tak, jak ono przebiega w rzeczywistości, w jaki ukazuje się otoczeniu, które odbiera je za pomocą zmysłów. Podobnie poznaje je osoba zbierająca dane: ma ona okazję zobaczyć, jak przebiegają interesujące go zjawiska w warunkach naturalnych i wyrobić sobie na ich temat własny pogląd. Bezpośredniość oznacza tu także poleganie na naturalnych, dostępnych każdemu, środkach poznawania świata.</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000000"/>
                </a:solidFill>
                <a:latin typeface="Calibri"/>
              </a:rPr>
              <a:t>2. Znajomość kontekstu ludzkich zachowań.</a:t>
            </a:r>
            <a:r>
              <a:rPr b="0" lang="pl-PL" sz="1100" spc="-1" strike="noStrike">
                <a:solidFill>
                  <a:srgbClr val="000000"/>
                </a:solidFill>
                <a:latin typeface="Calibri"/>
              </a:rPr>
              <a:t> Jak wiadomo, na nasze zachowanie duży wpływ wywiera otoczenie i to, co się z nim dzieje. Zebrano wiele danych, pokazujących, iż ludzie są w mniejszym lub większym stopniu skłonni do agresji, pomagania innym, kupowania określonych towarów, głosowania na osoby lub partie, w zależności od tego, kto zajmuje się tym razem z nimi, co robią, robili lub mają zamiar robić, w jakim wnętrzu się znajdują, jaka jest pogoda, itp. Wszystkie te okoliczności, towarzyszące ludzkiemu zachowaniu, tworzą jego kontekst, czyli warunki, w mniejszym lub większym stopniu nań wpływające. Gdy osoba mówi nam o sobie, gdy zdobywamy informacje o niej od innych ludzi (np. gdy pytamy rodziców, jak dziecko zachowuje się w domu), kontekst jest nam niedostępny, wskutek czego nasza wiedza jest uboższa, co prowadzić może do mylnych wniosków czy uogólnień. Obserwując czyjeś zachowanie w warunkach naturalnych rejestrujemy także ów kontekst, dzięki czemu poszerzamy nasze poznanie i mamy szanse uniknięcia błędów i stereotypów.</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000000"/>
                </a:solidFill>
                <a:latin typeface="Calibri"/>
              </a:rPr>
              <a:t>3. Możliwość rejestracji faktów nieprzewidywalnych.</a:t>
            </a:r>
            <a:r>
              <a:rPr b="0" lang="pl-PL" sz="1100" spc="-1" strike="noStrike">
                <a:solidFill>
                  <a:srgbClr val="000000"/>
                </a:solidFill>
                <a:latin typeface="Calibri"/>
              </a:rPr>
              <a:t> Planując rozmowę czy układając pytania ankietowe wiemy, jakich odpowiedzi możemy oczekiwać. Nie wiemy rzecz jasna, co może odpowiedzieć konkretna osoba, lecz zdajmy sobie sprawę, jakie mogą być reakcje osób na zadane pytania. Zamykamy sobie drogę dowiedzenia się czegoś nieoczekiwanego, czego nie przewidzieliśmy, a co może poszerzyć naszą wiedzę, może być trafną odpowiedzią na zadawane sobie pytanie. Okazje taką stwarza właśnie obserwacja. Rzetelny obserwator rejestruje wszystkie fakty, w tym także takie, których osoby planujące nie przewidziały; ma zatem szanse zauważyć coś ciekawego, nieprzewidzialnego, co może okazać informacją ważną, niemal o kluczowym znaczeniu. Wiele tego typu odkryć pojawiało się w trakcie badania zachowania się zwierząt czy przyrodoznawstwie, gdzie obserwacja należy nadal do metod podstawowych, o niepodważalnym znaczeniu.</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8" name="Symbol zastępczy numeru slajd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4902-4DBC-4B0E-AFCB-86CFEBCF748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7940-8EBA-4CC3-B048-ABBD869C254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371600" y="1143000"/>
            <a:ext cx="4114800" cy="3086280"/>
          </a:xfrm>
          <a:prstGeom prst="rect">
            <a:avLst/>
          </a:prstGeom>
          <a:ln w="0">
            <a:noFill/>
          </a:ln>
        </p:spPr>
      </p:sp>
      <p:sp>
        <p:nvSpPr>
          <p:cNvPr id="10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 stosowaniem obserwacji wiążą się także pewne niedogodności; metoda ta, jak każda inna, ma swoje wady i ogranicze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1.</a:t>
            </a:r>
            <a:r>
              <a:rPr b="1" lang="pl-PL" sz="1200" spc="-1" strike="noStrike">
                <a:solidFill>
                  <a:srgbClr val="000000"/>
                </a:solidFill>
                <a:latin typeface="Calibri"/>
              </a:rPr>
              <a:t>	</a:t>
            </a:r>
            <a:r>
              <a:rPr b="1" lang="pl-PL" sz="1200" spc="-1" strike="noStrike">
                <a:solidFill>
                  <a:srgbClr val="000000"/>
                </a:solidFill>
                <a:latin typeface="Calibri"/>
              </a:rPr>
              <a:t>Obserwacja polega na wnikliwym i systematycznym posługiwaniu się zmysłami, głównie wzrokiem i słuchem.</a:t>
            </a:r>
            <a:r>
              <a:rPr b="0" lang="pl-PL" sz="1200" spc="-1" strike="noStrike">
                <a:solidFill>
                  <a:srgbClr val="000000"/>
                </a:solidFill>
                <a:latin typeface="Calibri"/>
              </a:rPr>
              <a:t> Bezpośrednie poznawanie otoczenia nie jest jednak niezawodne: nie daje nam wiedzy, której możemy bezwzględnie zaufać. Więcej nawet, czasami nasze zmysł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prowadzają nas w błąd, o czym świadczą złudzenia wzrokowe i słuchowe. Trzeba także pamiętać o tym, że nasze receptory (narządy zmysłowe) odbierają tylko część otaczających nas bodźców (np. nie słyszymy dźwięków o dużej częstotliwości, rozpoznajemy tylko fragment widma świetlnego, itp.). Nieuchronną cechą spostrzegania otoczenia jest także wybiórczość: nie jesteśmy w stanie rejestrować wszystkiego, co się wokół nas dzieje - nasz układ nerwowy ma ograniczone możliwości odbierania, przekazywania i przetwarzania informacji. Te stosunkowo dobrze poznane właściwości spostrzegania sugerują, iż znajduje tu zastosowanie zasada ograniczonego zaufa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2. Na przebieg i efekty obserwacji wpływ mają liczne czynniki indywidualne, różniące obserwatorów, a także chwilowe, przelotne.</a:t>
            </a:r>
            <a:r>
              <a:rPr b="0" lang="pl-PL" sz="1200" spc="-1" strike="noStrike">
                <a:solidFill>
                  <a:srgbClr val="000000"/>
                </a:solidFill>
                <a:latin typeface="Calibri"/>
              </a:rPr>
              <a:t> Ich lista jest długa: wartości (to, co ludzie cenią, co jest dla nich ważne), zainteresowania, oczekiwania, nastawienia, trwały lub chwilowy stan emocjonalny, itd. Choć od obserwatora wymaga się obiektywności, a więc „wzięcia w nawias" tego, co się osobiście ceni, lubi, w jakim się jest nastroju, jaki się ma stosunek do ludzi i zdarzeń, w praktyce nie jest to, rzecz jasna, w pełni wykonalne, co rzutuje na przebieg zbierania danych oraz rezultaty obserwacj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3. Pomimo wysiłków, wkładanych w przygotowanie osób do pełnienia roli obserwatora, ujednolicenia sposobu ich zachowania i rejestracji wyników, trudno uniknąć takich wad obserwacji, jak powierzchowność i fragmentaryczność.</a:t>
            </a:r>
            <a:r>
              <a:rPr b="0" lang="pl-PL" sz="1200" spc="-1" strike="noStrike">
                <a:solidFill>
                  <a:srgbClr val="000000"/>
                </a:solidFill>
                <a:latin typeface="Calibri"/>
              </a:rPr>
              <a:t> W pierwszym przypadku otrzymujemy dane, które nie wnoszą nic nowego w stosunku do tego, co już wiemy o ludziach i ich zachowaniu. W przypadku drugim nie uzyskujemy pełnego obrazu interesujących nas zjawisk, lecz tylko niektóre jego aspekty, np. początkowe fazy konfliktu pomiędzy dziećmi są dobrze zanotowane, nie wiadomo jednak, kto i w jaki sposób doprowadził do jego rozwiąza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Obserwator powinien skupiać się na tym, co ma do zarejestrowania, czasami trudno mu jednak powstrzymać się od własnych wniosków czy interpretacji. Odbiorca może mieć duże trudności z oddzieleniem tych dwu rodzajów informacji i wniosek obserwatora potraktować jako spostrzeżony przez niego fakt. </a:t>
            </a:r>
            <a:r>
              <a:rPr b="0" lang="en-US" sz="1200" spc="-1" strike="noStrike">
                <a:solidFill>
                  <a:srgbClr val="000000"/>
                </a:solidFill>
                <a:latin typeface="Calibri"/>
              </a:rPr>
              <a:t>W ten </a:t>
            </a:r>
            <a:r>
              <a:rPr b="0" lang="pl-PL" sz="1200" spc="-1" strike="noStrike">
                <a:solidFill>
                  <a:srgbClr val="000000"/>
                </a:solidFill>
                <a:latin typeface="Calibri"/>
              </a:rPr>
              <a:t>sposób informacja ulega nieświadomemu zafałszowani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5.</a:t>
            </a:r>
            <a:r>
              <a:rPr b="1" lang="pl-PL" sz="1200" spc="-1" strike="noStrike">
                <a:solidFill>
                  <a:srgbClr val="000000"/>
                </a:solidFill>
                <a:latin typeface="Calibri"/>
              </a:rPr>
              <a:t>	</a:t>
            </a:r>
            <a:r>
              <a:rPr b="1" lang="pl-PL" sz="1200" spc="-1" strike="noStrike">
                <a:solidFill>
                  <a:srgbClr val="000000"/>
                </a:solidFill>
                <a:latin typeface="Calibri"/>
              </a:rPr>
              <a:t>Obserwacja opiera się na bezpośrednich danych spostrzeżeniowych, jednak jej wyniki, a także późniejsza „obróbka" danych (zestawienia, porównania, wnioski) ujmowane są w postaci słów, pojęć.</a:t>
            </a:r>
            <a:r>
              <a:rPr b="0" lang="pl-PL" sz="1200" spc="-1" strike="noStrike">
                <a:solidFill>
                  <a:srgbClr val="000000"/>
                </a:solidFill>
                <a:latin typeface="Calibri"/>
              </a:rPr>
              <a:t> Obserwator dokonuje stałego przekładu treści spostrzeżeniowych na kod językowy (przekłada to, co widzi i słyszy na słowa). W trakcie tej zmiany kodów nastąpić mogą liczne deformacje, związane z różnicami pomiędzy kodami. Kłopoty te znamy z własnego doświadczenia; wielokrotnie zdarza się, że usiłujemy przekazać komuś jakieś swoje wrażenia wzrokowe czy słuchowe (przykład banalny: wspomnienia z wakacji) i czujemy, że słowa nie oddają tego, czego doświadczyliśmy. Z podobnymi problemami musi sobie radzić obserwator rejestrujący swoje spostrzeżenia za pomocą słów. Trudności wiążą się z wieloznacznością słów, która nie pozwala oddać złożoności naszych przeżyć, itp. dzięki słowom możemy komuś innemu przekazać treść naszych spostrzeżeń; musimy jednak pamiętać o cenie, jaką za to płacimy: musimy podporządkować się regułom kodu językowego z wieloma jego niedogodnościami. Trzeba przy tej okazji przestrzec przed błędem, jaki czasami się pojawia: słowo nie jest spostrzeżeniem, lecz przetworzeniem lub wnioskiem ze spostrzeżeń (dotyczy to zwłaszcza cech przypisywanych ludziom: nie widzimy, iż ktoś jest odważny - widzimy jego zachowanie i nadajemy mu taką nazw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6. Wiedza o danym zjawisku często pomaga w obserwacji, może także i przeszkadzać.</a:t>
            </a:r>
            <a:r>
              <a:rPr b="0" lang="pl-PL" sz="1200" spc="-1" strike="noStrike">
                <a:solidFill>
                  <a:srgbClr val="000000"/>
                </a:solidFill>
                <a:latin typeface="Calibri"/>
              </a:rPr>
              <a:t> Wyżej była mowa o aspektach pozytywnych: wiedza sugeruje nam, na co zwracać uwagę, co obserwować. Może jednak obserwację utrudniać, z co najmniej dwóch powodó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 Dzięki wiedzy jesteśmy mniej otwarci na fakty i zjawiska nieoczekiwane (przysłowiowe „klapki na oczach" specjalisty, zamykające pole spostrzeże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 Pojawić się mogą kłopoty z podporządkowaniem celowi i programowi obserwacj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9713-CFAD-4E2D-8F03-7390329B110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371600" y="1143000"/>
            <a:ext cx="4114800" cy="3086280"/>
          </a:xfrm>
          <a:prstGeom prst="rect">
            <a:avLst/>
          </a:prstGeom>
          <a:ln w="0">
            <a:noFill/>
          </a:ln>
        </p:spPr>
      </p:sp>
      <p:sp>
        <p:nvSpPr>
          <p:cNvPr id="10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każdej obserwacji najważniejsze jest podjęcie decyzji o tym co będzie się obserwować, ponieważ właśnie ona decyduje o tym czego się dowiemy i nauczymy o obserwowanym zjawisku. Bardzo często z rozmysłem nie podejmuje się tej decyzji, aby nie ograniczać możliwości obserwowania, próbując obserwować wszystko co się wydarzy. Niekiedy wydaje się, że dokładne sprecyzowanie celu obserwacji będzie, w pewnym stopniu, limitowało możliwości zauważenia wielu innych, ważnych procesów. Należy pamiętać, że dokładne zdefiniowanie celu wcale nie musi oznaczać zaniechanie obserwacji pobocznych zjawisk. Ci, którzy obserwują muszą w elastyczny sposób dokonywać oceny sytuacji i ewentualnie "zauważyć" jeżeli zdarzyło się coś ważnego dla celu badań.</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EDB2-F9AE-4B40-841B-682754EA16F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371600" y="1143000"/>
            <a:ext cx="4114800" cy="3086280"/>
          </a:xfrm>
          <a:prstGeom prst="rect">
            <a:avLst/>
          </a:prstGeom>
          <a:ln w="0">
            <a:noFill/>
          </a:ln>
        </p:spPr>
      </p:sp>
      <p:sp>
        <p:nvSpPr>
          <p:cNvPr id="7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o, co się wokół nas dzieje, poznajemy w sposób bezpośredni, za pomocą narządów zmysłowych, jakimi dysponujemy - wzroku, słuchu, dotyku, węchu. Ze względu na tę oczywistość często o tym zapominamy. Najbliższa nam wiedza o świecie ma swe źródło w tej właśnie formie bezpośredniego poznawania. Dla większości osób wiedza ta ma szczególny charakter: jest im bliższa, bardziej dostępna, oczywista, godna zaufania. Są ludzie, którzy niczym biblijny „niewierny Tomasz", ufają tylko temu, co sami bezpośrednio doświadczyli, poznali za pomocą swoich zmysłów.</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3EB4-B1C5-446D-A3E9-62880D2396A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371600" y="1143000"/>
            <a:ext cx="4114800" cy="3086280"/>
          </a:xfrm>
          <a:prstGeom prst="rect">
            <a:avLst/>
          </a:prstGeom>
          <a:ln w="0">
            <a:noFill/>
          </a:ln>
        </p:spPr>
      </p:sp>
      <p:sp>
        <p:nvSpPr>
          <p:cNvPr id="8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Calibri"/>
              </a:rPr>
              <a:t>Ma ona wyraźny, dobrze </a:t>
            </a:r>
            <a:r>
              <a:rPr b="1" lang="pl-PL" sz="1300" spc="-1" strike="noStrike">
                <a:solidFill>
                  <a:srgbClr val="000000"/>
                </a:solidFill>
                <a:latin typeface="Calibri"/>
              </a:rPr>
              <a:t>określony cel</a:t>
            </a:r>
            <a:r>
              <a:rPr b="0" lang="pl-PL" sz="1300" spc="-1" strike="noStrike">
                <a:solidFill>
                  <a:srgbClr val="000000"/>
                </a:solidFill>
                <a:latin typeface="Calibri"/>
              </a:rPr>
              <a:t>, </a:t>
            </a:r>
            <a:br>
              <a:rPr sz="1300"/>
            </a:br>
            <a:r>
              <a:rPr b="0" lang="pl-PL" sz="1300" spc="-1" strike="noStrike">
                <a:solidFill>
                  <a:srgbClr val="000000"/>
                </a:solidFill>
                <a:latin typeface="Calibri"/>
              </a:rPr>
              <a:t>związany z chęcią lub potrzebą zdobycia informacji na jakiś ważny temat lub sprawę. </a:t>
            </a:r>
            <a:br>
              <a:rPr sz="1300"/>
            </a:br>
            <a:r>
              <a:rPr b="0" lang="pl-PL" sz="1300" spc="-1" strike="noStrike">
                <a:solidFill>
                  <a:srgbClr val="000000"/>
                </a:solidFill>
                <a:latin typeface="Calibri"/>
              </a:rPr>
              <a:t>Jak mawiał znany polski filozof, K. Ajdukiewicz, obserwacja jest to </a:t>
            </a:r>
            <a:r>
              <a:rPr b="1" lang="pl-PL" sz="1300" spc="-1" strike="noStrike">
                <a:solidFill>
                  <a:srgbClr val="000000"/>
                </a:solidFill>
                <a:latin typeface="Calibri"/>
              </a:rPr>
              <a:t>spostrzeganie kierowane zadaniem</a:t>
            </a:r>
            <a:r>
              <a:rPr b="0" lang="pl-PL" sz="1300" spc="-1" strike="noStrike">
                <a:solidFill>
                  <a:srgbClr val="000000"/>
                </a:solidFill>
                <a:latin typeface="Calibri"/>
              </a:rPr>
              <a:t>.</a:t>
            </a:r>
            <a:br>
              <a:rPr sz="1300"/>
            </a:br>
            <a:r>
              <a:rPr b="0" lang="pl-PL" sz="1300" spc="-1" strike="noStrike">
                <a:solidFill>
                  <a:srgbClr val="000000"/>
                </a:solidFill>
                <a:latin typeface="Calibri"/>
              </a:rPr>
              <a:t>Zadanie polega na zebraniu informacji na jakiś temat. </a:t>
            </a:r>
            <a:br>
              <a:rPr sz="1300"/>
            </a:br>
            <a:r>
              <a:rPr b="0" lang="pl-PL" sz="1300" spc="-1" strike="noStrike">
                <a:solidFill>
                  <a:srgbClr val="000000"/>
                </a:solidFill>
                <a:latin typeface="Calibri"/>
              </a:rPr>
              <a:t>Cel obserwacji wskazuje nam, na co powinniśmy zwracać uwagę, starać się rejestrować. </a:t>
            </a:r>
            <a:br>
              <a:rPr sz="1300"/>
            </a:br>
            <a:r>
              <a:rPr b="0" lang="pl-PL" sz="1300" spc="-1" strike="noStrike">
                <a:solidFill>
                  <a:srgbClr val="000000"/>
                </a:solidFill>
                <a:latin typeface="Calibri"/>
              </a:rPr>
              <a:t>Tym samym obserwacja </a:t>
            </a:r>
            <a:r>
              <a:rPr b="1" lang="pl-PL" sz="1300" spc="-1" strike="noStrike">
                <a:solidFill>
                  <a:srgbClr val="000000"/>
                </a:solidFill>
                <a:latin typeface="Calibri"/>
              </a:rPr>
              <a:t>ma charakter wybiórczy, selektywny:</a:t>
            </a:r>
            <a:r>
              <a:rPr b="0" lang="pl-PL" sz="1300" spc="-1" strike="noStrike">
                <a:solidFill>
                  <a:srgbClr val="000000"/>
                </a:solidFill>
                <a:latin typeface="Calibri"/>
              </a:rPr>
              <a:t> przyglądamy się czemuś uważniej i wnikliwie </a:t>
            </a:r>
            <a:br>
              <a:rPr sz="1300"/>
            </a:br>
            <a:r>
              <a:rPr b="0" lang="pl-PL" sz="1300" spc="-1" strike="noStrike">
                <a:solidFill>
                  <a:srgbClr val="000000"/>
                </a:solidFill>
                <a:latin typeface="Calibri"/>
              </a:rPr>
              <a:t>nie zwracając uwagi na inne zjawiska widoczne w otoczeniu.</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BFED-1211-4A2F-AB97-D1D7227C682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371600" y="1143000"/>
            <a:ext cx="4114800" cy="3086280"/>
          </a:xfrm>
          <a:prstGeom prst="rect">
            <a:avLst/>
          </a:prstGeom>
          <a:ln w="0">
            <a:noFill/>
          </a:ln>
        </p:spPr>
      </p:sp>
      <p:sp>
        <p:nvSpPr>
          <p:cNvPr id="8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a:t>
            </a:r>
            <a:r>
              <a:rPr b="0" lang="pl-PL" sz="1200" spc="-1" strike="noStrike">
                <a:solidFill>
                  <a:srgbClr val="000000"/>
                </a:solidFill>
                <a:latin typeface="Calibri"/>
              </a:rPr>
              <a:t>	</a:t>
            </a:r>
            <a:r>
              <a:rPr b="1" lang="pl-PL" sz="1200" spc="-1" strike="noStrike">
                <a:solidFill>
                  <a:srgbClr val="000000"/>
                </a:solidFill>
                <a:latin typeface="Calibri"/>
              </a:rPr>
              <a:t>Obserwacja jest planowa.</a:t>
            </a:r>
            <a:r>
              <a:rPr b="0" lang="pl-PL" sz="1200" spc="-1" strike="noStrike">
                <a:solidFill>
                  <a:srgbClr val="000000"/>
                </a:solidFill>
                <a:latin typeface="Calibri"/>
              </a:rPr>
              <a:t> Rozumie się przez to, że spostrzeganie jakiegoś zachowania lub zdarzenia jest zorganizowane, nie ma charakteru przypadkowego. Wstępnie ustala się nie tylko to, na co powinno się zwracać uwagę, lecz także, jak to robić (np. jak długo śledzić jakieś zachowanie lub zjawisko), kto, kogo i kiedy ma obserwować, w jaki sposób rejestrować efekty obserwacji. Przestrzeganie pewnego planu i porządku zapobiega przypadkowości i subiektywności obserwacji, daje podstawę porównywania wyników, sprawdzania jej przebiegu i wyników. Znając niezbędne szczegóły o tym, jak przebiegała obserwacja, można ją powtórzyć, a wiec sprawdzić jej wyniki.</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B8D7-7CA2-4CCE-8A34-474B48BF7C5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371600" y="1143000"/>
            <a:ext cx="4114800" cy="3086280"/>
          </a:xfrm>
          <a:prstGeom prst="rect">
            <a:avLst/>
          </a:prstGeom>
          <a:ln w="0">
            <a:noFill/>
          </a:ln>
        </p:spPr>
      </p:sp>
      <p:sp>
        <p:nvSpPr>
          <p:cNvPr id="8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a:t>
            </a:r>
            <a:r>
              <a:rPr b="1" lang="pl-PL" sz="1200" spc="-1" strike="noStrike">
                <a:solidFill>
                  <a:srgbClr val="000000"/>
                </a:solidFill>
                <a:latin typeface="Calibri"/>
              </a:rPr>
              <a:t>Obserwacja zakłada neutralność obserwatora, tj. jego brak wpływu na przebieg zjawisk i zdarzeń.</a:t>
            </a:r>
            <a:r>
              <a:rPr b="0" lang="pl-PL" sz="1200" spc="-1" strike="noStrike">
                <a:solidFill>
                  <a:srgbClr val="000000"/>
                </a:solidFill>
                <a:latin typeface="Calibri"/>
              </a:rPr>
              <a:t> Przyjmuje się, że obserwacja umożliwia nam poznawanie otoczenia i tego, co się w nim dzieje w takiej postaci, jak one przebiegają w rzeczywistości. Obserwator musi być osobą „przeźroczystą": obecną, ale taką, z którego obecności nikt nie zdaje sobie sprawy i nie bierze jej pod uwagę. Jest obecny w klasie, patrzy i notuje, co się w niej dzieje, lecz fakt ten nie powinien mieć żadnego wpływu na wzajemne kontakty uczniów ani nauczyciela z uczniami. Niestety, w praktyce, ten warunek jest niemożliwy do zrealizowania gdyż każdy element wprowadzany w jakiś system zmienia ten system. Tak jest również w przypadku widocznego obserwatora lub urządzenia rejestrującego. Jednym ze sposobów minimalizowania wpływu obecności obserwatora jest prowadzenie obserwacji przez czas tak długi, aby obserwowani przywykli do jego obecności.</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E9F2-D9C4-45FC-8433-2536A083359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371600" y="1143000"/>
            <a:ext cx="4114800" cy="3086280"/>
          </a:xfrm>
          <a:prstGeom prst="rect">
            <a:avLst/>
          </a:prstGeom>
          <a:ln w="0">
            <a:noFill/>
          </a:ln>
        </p:spPr>
      </p:sp>
      <p:sp>
        <p:nvSpPr>
          <p:cNvPr id="8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u="sng">
                <a:solidFill>
                  <a:srgbClr val="000000"/>
                </a:solidFill>
                <a:uFillTx/>
                <a:latin typeface="Calibri"/>
              </a:rPr>
              <a:t>Wymagania w stosunku do obserwato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brew pozorom, pełnienie roli obserwatora nie jest sprawą łatwą. Nie wymaga jednak żadnych specjalnych zdolności, lecz określonego stanu umysłu oraz opanowania szeregu umiejętności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fności i wnikliwości obserwacji sprzyja, gdy osoba chce poznać dane stanowisko, zależy jej na zdobyciu informacji, ciekawi ją jak zachowują</a:t>
            </a:r>
            <a:br>
              <a:rPr sz="1200"/>
            </a:br>
            <a:r>
              <a:rPr b="0" lang="pl-PL" sz="1200" spc="-1" strike="noStrike">
                <a:solidFill>
                  <a:srgbClr val="000000"/>
                </a:solidFill>
                <a:latin typeface="Calibri"/>
              </a:rPr>
              <a:t> się ludzie w określonych sytuacjac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łówną trudnością, z jaką stykać się może obserwator, dotyczy koncentracji na zjawiskach, na które trzeba zwracać uwagę zgodnie z celami i przyjętym planem, a pomijaniu innych, które mogą się narzucać ze względu na swą wyrazistość lub nagłość pojawienia się.</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soba spostrzegawcza potrafi zarejestrować czyjś mimowolny grymas twarzy lub mało wyraźny gest, jest wrażliwa na zmiany tonacji głosu i szczegóły ubrania. Umiejętność ta przejawia się zarówno w szybkości dostrzegania takich szczegółów, jak i ich rejestracji.</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758D-9F88-4035-B667-166C9CB4E5F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371600" y="1143000"/>
            <a:ext cx="4114800" cy="3086280"/>
          </a:xfrm>
          <a:prstGeom prst="rect">
            <a:avLst/>
          </a:prstGeom>
          <a:ln w="0">
            <a:noFill/>
          </a:ln>
        </p:spPr>
      </p:sp>
      <p:sp>
        <p:nvSpPr>
          <p:cNvPr id="9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wagi powyższe nie wyczerpują wymagań i oczekiwań, jakie formułowane są pod adresem obserwatorów. Traktowane w sposób maksymalistyczny stawiają tym osobą bardzo wysoką poprzeczkę. Należy jednak pamiętać o tym, iż opisują one pewien stan pożądany, poniekąd idealny, do którego należy dążyć. Rzadko, kto i kiedy stan ten osiąga, co nie podważa kompetencji obserwatora ani walorów zebranych przez niego informacji. Patrząc na tą sprawę realistycznie, trzeba mocno zaakcentować, że dobrym obserwatorem może być każdy. Pod jednym wszak warunkiem: jeżeli podejdzie do tego zadania w sposób odpowiedzialny i włoży pewien wysiłek w opanowanie umiejętności, jakich zajęcie to wymaga. Nie ma, jak się wydaje, tzw. urodzonych obserwatorów, choć, jak w przypadku wszelkich innych umiejętności, są wrodzone dyspozycje, dzięki którym łatwiej można osiągać w tej dziedzinie sukcesy. Odnoszą je jednak (przede wszystkim) ci, którzy rozwijają swe umiejętności w trakcie własnych doświadczeń, związanych z obserwacją ludzi i tego, co się między nimi dziej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serwacja jest, zatem techniką łatwą i trudną: łatwą, ponieważ bazuje na podstawowej, wspólnej wszystkim, funkcji psychicznej, jaką jest spostrzeganie; trudną, bo wymaga pewnego wysiłku i ćwiczenia swoich sprawnośc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80FC-EEA7-4E78-B413-E19FAFD9757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371600" y="1143000"/>
            <a:ext cx="4114800" cy="3086280"/>
          </a:xfrm>
          <a:prstGeom prst="rect">
            <a:avLst/>
          </a:prstGeom>
          <a:ln w="0">
            <a:noFill/>
          </a:ln>
        </p:spPr>
      </p:sp>
      <p:sp>
        <p:nvSpPr>
          <p:cNvPr id="9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serwacja ma bardzo szerokie zastosowania; niemal wszystkie problemy wychowawcze i dydaktyczne wymagają danych, które pochodzą z bezpośredniej obserwacji zachowania się uczniów. Posługiwać się nią można także w odniesieniu do dorosłych uczestników życia szkolnego; przedmiotem obserwacji bywa sposób prowadzenia lekcji przez nauczycieli, stosowane przez nich oddziaływania wychowawcze, formy porozumiewania się dyrektora z nauczycielami lub czynności wykonywane przez woźny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serwacja bywa główną (niekiedy jedyną) metodą zbierania danych lub metodą pomocniczą, uzupełniającą informacje pochodzące z wywiadu czy analizy dokumentów. Kiedy należy się nią posługiwać? Trudno na to pytanie jednoznacznie odpowiedzieć. Obserwacja jest sposobem zdobywania informacji, który okazuje się pożyteczny, gdy wiemy, w jakiej sytuacji go zastosować. Ogólnie rzecz biorąc, obserwacja bywa pożądana, gdy chcemy zdobyć informacje o tym, jak zachowują się ludzie i przebiegają pewne zjawiska w warunkach naturalnych.</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987AF-8817-4A11-9194-6B2054CAA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84354-E81A-455E-9A6F-66BAD94D1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4251A-CBC2-4357-BBC5-28D20CE5C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0F301-1791-4418-8EAA-EB75CBDF0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30259-0D92-4FB0-B7EE-3774DBC63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032D6-101C-41A7-9B83-C414830F5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936C4-4E79-4D69-9CBB-3DAD847A3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00879-4564-4B4E-A1D4-5FAB5C7D9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4EEBA-DF83-4BE2-8B5A-493481901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D069D-56D8-4F6A-8CCB-589C50085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84951-8EC6-4BCF-9394-B0DEEBBE9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63D27-79A7-472F-BB98-857EA7EF4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BFA8-5BC2-4483-BED5-8816796B8C90}"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TkH4aju0jKs"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4400" spc="-1" strike="noStrike">
                <a:solidFill>
                  <a:srgbClr val="000000"/>
                </a:solidFill>
                <a:latin typeface="Arial"/>
              </a:rPr>
              <a:t>Obserwacja</a:t>
            </a:r>
            <a:r>
              <a:rPr b="0" lang="pl-PL" sz="4400" spc="-1" strike="noStrike">
                <a:solidFill>
                  <a:srgbClr val="000000"/>
                </a:solidFill>
                <a:latin typeface="Arial"/>
              </a:rPr>
              <a:t> </a:t>
            </a:r>
            <a:br>
              <a:rPr sz="4400"/>
            </a:br>
            <a:r>
              <a:rPr b="0" lang="pl-PL" sz="3200" spc="-1" strike="noStrike">
                <a:solidFill>
                  <a:srgbClr val="000000"/>
                </a:solidFill>
                <a:latin typeface="Arial"/>
              </a:rPr>
              <a:t>jako metoda pozyskiwania danych</a:t>
            </a:r>
            <a:endParaRPr b="0" lang="en-US" sz="3200" spc="-1" strike="noStrike">
              <a:solidFill>
                <a:srgbClr val="000000"/>
              </a:solidFill>
              <a:latin typeface="Arial"/>
            </a:endParaRPr>
          </a:p>
        </p:txBody>
      </p:sp>
      <p:sp>
        <p:nvSpPr>
          <p:cNvPr id="49" name="Prostokąt 2"/>
          <p:cNvSpPr/>
          <p:nvPr/>
        </p:nvSpPr>
        <p:spPr>
          <a:xfrm>
            <a:off x="4211640" y="62064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la nadzoru pedagogicznego </a:t>
            </a:r>
            <a:br>
              <a:rPr sz="1800"/>
            </a:br>
            <a:r>
              <a:rPr b="0" lang="pl-PL" sz="1800" spc="-1" strike="noStrike">
                <a:solidFill>
                  <a:srgbClr val="000000"/>
                </a:solidFill>
                <a:latin typeface="Arial"/>
              </a:rPr>
              <a:t>we wspomaganiu szkoły/placówk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457200"/>
            <a:ext cx="82184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iedy należy się posługiwać obserwacją?</a:t>
            </a:r>
            <a:endParaRPr b="0" lang="en-US" sz="2800" spc="-1" strike="noStrike">
              <a:solidFill>
                <a:srgbClr val="000000"/>
              </a:solidFill>
              <a:latin typeface="Arial"/>
            </a:endParaRPr>
          </a:p>
        </p:txBody>
      </p:sp>
      <p:sp>
        <p:nvSpPr>
          <p:cNvPr id="69" name="PlaceHolder 2"/>
          <p:cNvSpPr>
            <a:spLocks noGrp="1"/>
          </p:cNvSpPr>
          <p:nvPr>
            <p:ph/>
          </p:nvPr>
        </p:nvSpPr>
        <p:spPr>
          <a:xfrm>
            <a:off x="684000" y="1844280"/>
            <a:ext cx="8002440" cy="42512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bserwacja jest sposobem zdobywania informacji, który okazuje się pożyteczny, gdy wiemy, w jakiej sytuacji go zastosować.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gólnie rzecz biorąc, obserwacja bywa pożądana, </a:t>
            </a:r>
            <a:br>
              <a:rPr sz="2400"/>
            </a:br>
            <a:r>
              <a:rPr b="0" lang="pl-PL" sz="2400" spc="-1" strike="noStrike">
                <a:solidFill>
                  <a:srgbClr val="000000"/>
                </a:solidFill>
                <a:latin typeface="Arial"/>
              </a:rPr>
              <a:t>gdy chcemy zdobyć informacje o tym, jak zachowują się ludzie i przebiegają pewne zjawiska w warunkach naturalnyc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Arial"/>
              </a:rPr>
              <a:t>Zalety obserwacji</a:t>
            </a:r>
            <a:endParaRPr b="0" lang="en-US" sz="4400" spc="-1" strike="noStrike">
              <a:solidFill>
                <a:srgbClr val="000000"/>
              </a:solidFill>
              <a:latin typeface="Arial"/>
            </a:endParaRPr>
          </a:p>
        </p:txBody>
      </p:sp>
      <p:sp>
        <p:nvSpPr>
          <p:cNvPr id="71" name="Prostokąt 2"/>
          <p:cNvSpPr/>
          <p:nvPr/>
        </p:nvSpPr>
        <p:spPr>
          <a:xfrm>
            <a:off x="395280" y="1916280"/>
            <a:ext cx="8353440" cy="2653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Naturalnoś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najomość kontekstu ludzkich zachowań,</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możliwość rejestracji faktów nieprzewidywalnych.</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26560" y="333360"/>
            <a:ext cx="6264360" cy="113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Arial"/>
              </a:rPr>
              <a:t>Wady obserwacji</a:t>
            </a:r>
            <a:endParaRPr b="0" lang="en-US" sz="4400" spc="-1" strike="noStrike">
              <a:solidFill>
                <a:srgbClr val="000000"/>
              </a:solidFill>
              <a:latin typeface="Arial"/>
            </a:endParaRPr>
          </a:p>
        </p:txBody>
      </p:sp>
      <p:sp>
        <p:nvSpPr>
          <p:cNvPr id="73" name="Prostokąt 2"/>
          <p:cNvSpPr/>
          <p:nvPr/>
        </p:nvSpPr>
        <p:spPr>
          <a:xfrm>
            <a:off x="468360" y="1628640"/>
            <a:ext cx="828036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Obserwacja polega na wnikliwym i systematycznym posługiwaniu się zmysłami, głównie wzrokiem i słuchem; czasami nasze zmysły nas zawodzą.</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Na przebieg i efekty obserwacji wpływ mają liczne czynniki indywidualne, różniące obserwatorów, a także chwilowe, przelotne wartości, zainteresowania, oczekiwania, nastawienia, trwały lub chwilowy stan emocjonalny, itd.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Powierzchowność i fragmentaryczność.</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Przedwczesne wnioskowanie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Obserwacja opiera się na bezpośrednich danych spostrzeżeniowych, jednak jej wyniki, a także późniejsza „obróbka" danych (zestawienia, porównania, wnioski) ujmowane są w postaci słów, pojęć.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Wiedza o danym zjawisku często pomaga w obserwacji, może także i przeszkadza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755640" y="836280"/>
            <a:ext cx="7632720" cy="360036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Ćwiczenie indywidualne</a:t>
            </a:r>
            <a:endParaRPr b="0" lang="en-US" sz="32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	</a:t>
            </a:r>
            <a:r>
              <a:rPr b="0" lang="pl-PL" sz="2400" spc="-1" strike="noStrike">
                <a:solidFill>
                  <a:srgbClr val="000000"/>
                </a:solidFill>
                <a:latin typeface="Arial"/>
              </a:rPr>
              <a:t>Wykorzystując arkusz obserwacji zajęć, zanotujcie swoje spostrzeżenia z obserwacji lekcji; postarajcie się przy tym skupić głównie </a:t>
            </a:r>
            <a:br>
              <a:rPr sz="2400"/>
            </a:br>
            <a:r>
              <a:rPr b="0" lang="pl-PL" sz="2400" spc="-1" strike="noStrike">
                <a:solidFill>
                  <a:srgbClr val="000000"/>
                </a:solidFill>
                <a:latin typeface="Arial"/>
              </a:rPr>
              <a:t>na kształtowaniu przez nauczycieli umiejętności kluczowych (nie pomijając innych istotnych kwestii).</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9999"/>
                </a:solidFill>
                <a:uFillTx/>
                <a:latin typeface="Arial"/>
                <a:hlinkClick r:id="rId1"/>
              </a:rPr>
              <a:t>https://www.youtube.com/watch?v=TkH4aju0jKs</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539280" y="2133360"/>
            <a:ext cx="8075880" cy="316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Obserwacja</a:t>
            </a:r>
            <a:r>
              <a:rPr b="0" lang="pl-PL" sz="2400" spc="-1" strike="noStrike">
                <a:solidFill>
                  <a:srgbClr val="000000"/>
                </a:solidFill>
                <a:latin typeface="Arial"/>
              </a:rPr>
              <a:t> jest formą spostrzegania, </a:t>
            </a:r>
            <a:br>
              <a:rPr sz="2400"/>
            </a:br>
            <a:r>
              <a:rPr b="0" lang="pl-PL" sz="2400" spc="-1" strike="noStrike">
                <a:solidFill>
                  <a:srgbClr val="000000"/>
                </a:solidFill>
                <a:latin typeface="Arial"/>
              </a:rPr>
              <a:t>czyli bezpośredniego poznawania otoczenia </a:t>
            </a:r>
            <a:br>
              <a:rPr sz="2400"/>
            </a:br>
            <a:r>
              <a:rPr b="0" lang="pl-PL" sz="2400" spc="-1" strike="noStrike">
                <a:solidFill>
                  <a:srgbClr val="000000"/>
                </a:solidFill>
                <a:latin typeface="Arial"/>
              </a:rPr>
              <a:t>za pomocą narządów zmysłowych.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Aby mieć charakter obiektywny, tj. przynosić dane, których trafność czy prawdziwość mogą sprawdzić inni, musi spełnić parę warunków:</a:t>
            </a:r>
            <a:endParaRPr b="0" lang="en-US" sz="2400" spc="-1" strike="noStrike">
              <a:solidFill>
                <a:srgbClr val="000000"/>
              </a:solidFill>
              <a:latin typeface="Arial"/>
            </a:endParaRPr>
          </a:p>
        </p:txBody>
      </p:sp>
      <p:sp>
        <p:nvSpPr>
          <p:cNvPr id="51" name="Prostokąt 3"/>
          <p:cNvSpPr/>
          <p:nvPr/>
        </p:nvSpPr>
        <p:spPr>
          <a:xfrm>
            <a:off x="4859280" y="333360"/>
            <a:ext cx="399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la nadzoru pedagogicznego </a:t>
            </a:r>
            <a:br>
              <a:rPr sz="1800"/>
            </a:br>
            <a:r>
              <a:rPr b="0" lang="pl-PL" sz="1800" spc="-1" strike="noStrike">
                <a:solidFill>
                  <a:srgbClr val="000000"/>
                </a:solidFill>
                <a:latin typeface="Arial"/>
              </a:rPr>
              <a:t>we wspomaganiu szkoły/placówk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47640" y="2276280"/>
            <a:ext cx="5554800" cy="24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Obserwacja </a:t>
            </a:r>
            <a:br>
              <a:rPr sz="2400"/>
            </a:br>
            <a:r>
              <a:rPr b="1" lang="pl-PL" sz="2400" spc="-1" strike="noStrike">
                <a:solidFill>
                  <a:srgbClr val="000000"/>
                </a:solidFill>
                <a:latin typeface="Arial"/>
              </a:rPr>
              <a:t>nie ma wiele wspólnego </a:t>
            </a:r>
            <a:br>
              <a:rPr sz="2400"/>
            </a:br>
            <a:r>
              <a:rPr b="1" lang="pl-PL" sz="2400" spc="-1" strike="noStrike">
                <a:solidFill>
                  <a:srgbClr val="000000"/>
                </a:solidFill>
                <a:latin typeface="Arial"/>
              </a:rPr>
              <a:t>z „gapieniem się" czy nawet bacznym przyglądaniem się </a:t>
            </a:r>
            <a:br>
              <a:rPr sz="2400"/>
            </a:br>
            <a:r>
              <a:rPr b="1" lang="pl-PL" sz="2400" spc="-1" strike="noStrike">
                <a:solidFill>
                  <a:srgbClr val="000000"/>
                </a:solidFill>
                <a:latin typeface="Arial"/>
              </a:rPr>
              <a:t>ludziom i zdarzeniom.</a:t>
            </a:r>
            <a:endParaRPr b="0" lang="en-US" sz="2400" spc="-1" strike="noStrike">
              <a:solidFill>
                <a:srgbClr val="000000"/>
              </a:solidFill>
              <a:latin typeface="Arial"/>
            </a:endParaRPr>
          </a:p>
        </p:txBody>
      </p:sp>
      <p:sp>
        <p:nvSpPr>
          <p:cNvPr id="5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7" descr=""/>
          <p:cNvPicPr/>
          <p:nvPr/>
        </p:nvPicPr>
        <p:blipFill>
          <a:blip r:embed="rId1"/>
          <a:srcRect l="0" t="0" r="54362" b="0"/>
          <a:stretch/>
        </p:blipFill>
        <p:spPr>
          <a:xfrm>
            <a:off x="7308720" y="4508640"/>
            <a:ext cx="1508400" cy="1380960"/>
          </a:xfrm>
          <a:prstGeom prst="rect">
            <a:avLst/>
          </a:prstGeom>
          <a:ln w="0">
            <a:noFill/>
          </a:ln>
        </p:spPr>
      </p:pic>
      <p:pic>
        <p:nvPicPr>
          <p:cNvPr id="56" name="Picture 8" descr=""/>
          <p:cNvPicPr/>
          <p:nvPr/>
        </p:nvPicPr>
        <p:blipFill>
          <a:blip r:embed="rId2"/>
          <a:srcRect l="54471" t="0" r="0" b="0"/>
          <a:stretch/>
        </p:blipFill>
        <p:spPr>
          <a:xfrm>
            <a:off x="539640" y="765000"/>
            <a:ext cx="1505160" cy="138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57200"/>
            <a:ext cx="843588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Obserwacja jest planowa.</a:t>
            </a:r>
            <a:endParaRPr b="0" lang="en-US" sz="2400" spc="-1" strike="noStrike">
              <a:solidFill>
                <a:srgbClr val="000000"/>
              </a:solidFill>
              <a:latin typeface="Arial"/>
            </a:endParaRPr>
          </a:p>
        </p:txBody>
      </p:sp>
      <p:sp>
        <p:nvSpPr>
          <p:cNvPr id="58" name="PlaceHolder 2"/>
          <p:cNvSpPr>
            <a:spLocks noGrp="1"/>
          </p:cNvSpPr>
          <p:nvPr>
            <p:ph/>
          </p:nvPr>
        </p:nvSpPr>
        <p:spPr>
          <a:xfrm>
            <a:off x="395280" y="1341000"/>
            <a:ext cx="829152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Spostrzeganie </a:t>
            </a:r>
            <a:r>
              <a:rPr b="1" lang="pl-PL" sz="2400" spc="-1" strike="noStrike">
                <a:solidFill>
                  <a:srgbClr val="000000"/>
                </a:solidFill>
                <a:latin typeface="Arial"/>
              </a:rPr>
              <a:t>jest zorganizowane</a:t>
            </a:r>
            <a:r>
              <a:rPr b="0" lang="pl-P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stępnie ustala się nie tylko to, na co powinno się zwracać uwagę, lecz także</a:t>
            </a:r>
            <a:r>
              <a:rPr b="1" lang="pl-PL" sz="2400" spc="-1" strike="noStrike">
                <a:solidFill>
                  <a:srgbClr val="000000"/>
                </a:solidFill>
                <a:latin typeface="Arial"/>
              </a:rPr>
              <a:t>, jak to robić</a:t>
            </a:r>
            <a:r>
              <a:rPr b="0" lang="pl-PL" sz="2400" spc="-1" strike="noStrike">
                <a:solidFill>
                  <a:srgbClr val="000000"/>
                </a:solidFill>
                <a:latin typeface="Arial"/>
              </a:rPr>
              <a:t> (np. jak długo śledzić jakieś zachowanie lub zjawisko), kto, kogo i kiedy ma obserwować, w jaki sposób rejestrować efekty obserwacj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Przestrzeganie pewnego planu i porządku zapobiega przypadkowości i subiektywności obserwacji, daje podstawę </a:t>
            </a:r>
            <a:r>
              <a:rPr b="1" lang="pl-PL" sz="2400" spc="-1" strike="noStrike">
                <a:solidFill>
                  <a:srgbClr val="000000"/>
                </a:solidFill>
                <a:latin typeface="Arial"/>
              </a:rPr>
              <a:t>porównywania wyników</a:t>
            </a:r>
            <a:r>
              <a:rPr b="0" lang="pl-PL" sz="2400" spc="-1" strike="noStrike">
                <a:solidFill>
                  <a:srgbClr val="000000"/>
                </a:solidFill>
                <a:latin typeface="Arial"/>
              </a:rPr>
              <a:t>, sprawdzania jej przebiegu i wyników.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nając niezbędne szczegóły o tym, jak przebiegała obserwacja, można ją powtórzyć, a wiec </a:t>
            </a:r>
            <a:r>
              <a:rPr b="1" lang="pl-PL" sz="2400" spc="-1" strike="noStrike">
                <a:solidFill>
                  <a:srgbClr val="000000"/>
                </a:solidFill>
                <a:latin typeface="Arial"/>
              </a:rPr>
              <a:t>sprawdzić jej wyniki</a:t>
            </a:r>
            <a:r>
              <a:rPr b="0" lang="pl-P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457200"/>
            <a:ext cx="82915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Obserwacja powinna być systematyczna</a:t>
            </a:r>
            <a:r>
              <a:rPr b="0" lang="pl-PL" sz="2400" spc="-1" strike="noStrike">
                <a:solidFill>
                  <a:srgbClr val="000000"/>
                </a:solidFill>
                <a:latin typeface="Arial"/>
              </a:rPr>
              <a:t>.</a:t>
            </a:r>
            <a:endParaRPr b="0" lang="en-US" sz="2400" spc="-1" strike="noStrike">
              <a:solidFill>
                <a:srgbClr val="000000"/>
              </a:solidFill>
              <a:latin typeface="Arial"/>
            </a:endParaRPr>
          </a:p>
        </p:txBody>
      </p:sp>
      <p:sp>
        <p:nvSpPr>
          <p:cNvPr id="60" name="PlaceHolder 2"/>
          <p:cNvSpPr>
            <a:spLocks noGrp="1"/>
          </p:cNvSpPr>
          <p:nvPr>
            <p:ph/>
          </p:nvPr>
        </p:nvSpPr>
        <p:spPr>
          <a:xfrm>
            <a:off x="324000" y="1980720"/>
            <a:ext cx="8362800" cy="23115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2200" spc="-1" strike="noStrike">
                <a:solidFill>
                  <a:srgbClr val="000000"/>
                </a:solidFill>
                <a:latin typeface="Arial"/>
              </a:rPr>
              <a:t>To kolejny warunek, zapobiegający przypadkowości</a:t>
            </a:r>
            <a:br>
              <a:rPr sz="2200"/>
            </a:br>
            <a:r>
              <a:rPr b="0" lang="pl-PL" sz="2200" spc="-1" strike="noStrike">
                <a:solidFill>
                  <a:srgbClr val="000000"/>
                </a:solidFill>
                <a:latin typeface="Arial"/>
              </a:rPr>
              <a:t> i wzmacniający obiektywność tej formy poznawania otoczenia.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	</a:t>
            </a:r>
            <a:r>
              <a:rPr b="0" lang="pl-PL" sz="2200" spc="-1" strike="noStrike">
                <a:solidFill>
                  <a:srgbClr val="000000"/>
                </a:solidFill>
                <a:latin typeface="Arial"/>
              </a:rPr>
              <a:t>Nakłada wymóg śledzenia zachowania jakiejś osoby </a:t>
            </a:r>
            <a:br>
              <a:rPr sz="2200"/>
            </a:br>
            <a:r>
              <a:rPr b="0" lang="pl-PL" sz="2200" spc="-1" strike="noStrike">
                <a:solidFill>
                  <a:srgbClr val="000000"/>
                </a:solidFill>
                <a:latin typeface="Arial"/>
              </a:rPr>
              <a:t>lub zjawiska w pewnym okresie czasu bądź w sposób ciągły lub z zastosowaniem przerw o ściśle określonej częstotliwośc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457200"/>
            <a:ext cx="8435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Obserwacja zakłada neutralność obserwatora, </a:t>
            </a:r>
            <a:br>
              <a:rPr sz="2400"/>
            </a:br>
            <a:r>
              <a:rPr b="1" lang="pl-PL" sz="2400" spc="-1" strike="noStrike">
                <a:solidFill>
                  <a:srgbClr val="000000"/>
                </a:solidFill>
                <a:latin typeface="Arial"/>
              </a:rPr>
              <a:t>tj. jego brak wpływu na przebieg zjawisk i zdarzeń.</a:t>
            </a:r>
            <a:endParaRPr b="0" lang="en-US" sz="2400" spc="-1" strike="noStrike">
              <a:solidFill>
                <a:srgbClr val="000000"/>
              </a:solidFill>
              <a:latin typeface="Arial"/>
            </a:endParaRPr>
          </a:p>
        </p:txBody>
      </p:sp>
      <p:sp>
        <p:nvSpPr>
          <p:cNvPr id="62" name="PlaceHolder 2"/>
          <p:cNvSpPr>
            <a:spLocks noGrp="1"/>
          </p:cNvSpPr>
          <p:nvPr>
            <p:ph/>
          </p:nvPr>
        </p:nvSpPr>
        <p:spPr>
          <a:xfrm>
            <a:off x="468360" y="2852640"/>
            <a:ext cx="8291520" cy="2671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Przyjmuje się, że obserwacja umożliwia nam poznawanie otoczenia i tego, co się w nim dzieje w takiej postaci, jak one przebiegają w rzeczywistości.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Obserwator musi być osobą „przeźroczystą": obecną, ale taką, z którego obecności nikt nie zdaje sobie sprawy i nie bierze jej pod uwagę.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836640"/>
            <a:ext cx="77043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Wymagania w stosunku do obserwatora</a:t>
            </a:r>
            <a:endParaRPr b="0" lang="en-US" sz="2800" spc="-1" strike="noStrike">
              <a:solidFill>
                <a:srgbClr val="000000"/>
              </a:solidFill>
              <a:latin typeface="Arial"/>
            </a:endParaRPr>
          </a:p>
        </p:txBody>
      </p:sp>
      <p:sp>
        <p:nvSpPr>
          <p:cNvPr id="64" name="Prostokąt 2"/>
          <p:cNvSpPr/>
          <p:nvPr/>
        </p:nvSpPr>
        <p:spPr>
          <a:xfrm>
            <a:off x="539640" y="2060640"/>
            <a:ext cx="813600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Zainteresowanie ludźmi i zjawiskami, będącymi przedmiotem obserwacj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aktywność umysłowa, polegająca głównie </a:t>
            </a:r>
            <a:br>
              <a:rPr sz="2000"/>
            </a:br>
            <a:r>
              <a:rPr b="0" lang="pl-PL" sz="2000" spc="-1" strike="noStrike">
                <a:solidFill>
                  <a:srgbClr val="000000"/>
                </a:solidFill>
                <a:latin typeface="Arial"/>
              </a:rPr>
              <a:t>na umiejętności skupiania uwagi na tym, co się dzieje </a:t>
            </a:r>
            <a:br>
              <a:rPr sz="2000"/>
            </a:br>
            <a:r>
              <a:rPr b="0" lang="pl-PL" sz="2000" spc="-1" strike="noStrike">
                <a:solidFill>
                  <a:srgbClr val="000000"/>
                </a:solidFill>
                <a:latin typeface="Arial"/>
              </a:rPr>
              <a:t>w otoczeniu,</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spostrzegawczość, czyli umiejętność dostrzegania chwilowych, subtelnych aspektów ludzkich zachowań </a:t>
            </a:r>
            <a:br>
              <a:rPr sz="2000"/>
            </a:br>
            <a:r>
              <a:rPr b="0" lang="pl-PL" sz="2000" spc="-1" strike="noStrike">
                <a:solidFill>
                  <a:srgbClr val="000000"/>
                </a:solidFill>
                <a:latin typeface="Arial"/>
              </a:rPr>
              <a:t>i wzajemnych relacj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wiedza na temat obserwowanego zjawiska - dobry obserwator widzi i rejestruje to, co powinien, a nie to, co jemu wydaje się ważne </a:t>
            </a:r>
            <a:br>
              <a:rPr sz="2000"/>
            </a:br>
            <a:r>
              <a:rPr b="0" lang="pl-PL" sz="2000" spc="-1" strike="noStrike">
                <a:solidFill>
                  <a:srgbClr val="000000"/>
                </a:solidFill>
                <a:latin typeface="Arial"/>
              </a:rPr>
              <a:t>lub ciekaw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oprócz rzetelności ważna jest także dokładność.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539280" y="1341360"/>
            <a:ext cx="8147160" cy="395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bserwacja jest, zatem techniką i łatwą </a:t>
            </a:r>
            <a:br>
              <a:rPr sz="3200"/>
            </a:br>
            <a:r>
              <a:rPr b="0" lang="pl-PL" sz="3200" spc="-1" strike="noStrike">
                <a:solidFill>
                  <a:srgbClr val="000000"/>
                </a:solidFill>
                <a:latin typeface="Arial"/>
              </a:rPr>
              <a:t>i trudną: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łatwą, ponieważ bazuje na podstawowej, wspólnej wszystkim, funkcji psychicznej, jaką jest spostrzegani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rudną, bo wymaga pewnego wysiłku i ćwiczenia swoich sprawnoś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539280" y="1483920"/>
            <a:ext cx="8147160" cy="42483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bserwacja ma bardzo szerokie zastosowania; niemal wszystkie </a:t>
            </a:r>
            <a:r>
              <a:rPr b="1" lang="pl-PL" sz="2000" spc="-1" strike="noStrike">
                <a:solidFill>
                  <a:srgbClr val="000000"/>
                </a:solidFill>
                <a:latin typeface="Arial"/>
              </a:rPr>
              <a:t>problemy wychowawcze i dydaktyczne</a:t>
            </a:r>
            <a:r>
              <a:rPr b="0" lang="pl-PL" sz="2000" spc="-1" strike="noStrike">
                <a:solidFill>
                  <a:srgbClr val="000000"/>
                </a:solidFill>
                <a:latin typeface="Arial"/>
              </a:rPr>
              <a:t> wymagają danych, które pochodzą z bezpośredniej obserwacji zachowania się uczniów.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sługiwać się nią można także w odniesieniu </a:t>
            </a:r>
            <a:br>
              <a:rPr sz="2000"/>
            </a:br>
            <a:r>
              <a:rPr b="0" lang="pl-PL" sz="2000" spc="-1" strike="noStrike">
                <a:solidFill>
                  <a:srgbClr val="000000"/>
                </a:solidFill>
                <a:latin typeface="Arial"/>
              </a:rPr>
              <a:t>do dorosłych uczestników życia szkolnego; przedmiotem obserwacji bywa </a:t>
            </a:r>
            <a:r>
              <a:rPr b="1" lang="pl-PL" sz="2000" spc="-1" strike="noStrike">
                <a:solidFill>
                  <a:srgbClr val="000000"/>
                </a:solidFill>
                <a:latin typeface="Arial"/>
              </a:rPr>
              <a:t>sposób prowadzenia lekcji przez nauczycieli, stosowane przez nich oddziaływania wychowawcze, formy porozumiewania się dyrektora z nauczycielami </a:t>
            </a:r>
            <a:br>
              <a:rPr sz="2000"/>
            </a:br>
            <a:r>
              <a:rPr b="1" lang="pl-PL" sz="2000" spc="-1" strike="noStrike">
                <a:solidFill>
                  <a:srgbClr val="000000"/>
                </a:solidFill>
                <a:latin typeface="Arial"/>
              </a:rPr>
              <a:t>lub czynności wykonywane przez woźnyc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bserwacja bywa główną (niekiedy jedyną) metodą zbierania danych lub metodą pomocniczą, uzupełniającą informacje pochodzące z wywiadu czy analizy dokumentów.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rostokąt 3"/>
          <p:cNvSpPr/>
          <p:nvPr/>
        </p:nvSpPr>
        <p:spPr>
          <a:xfrm>
            <a:off x="4859280" y="333360"/>
            <a:ext cx="399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la nadzoru pedagogicznego </a:t>
            </a:r>
            <a:br>
              <a:rPr sz="1800"/>
            </a:br>
            <a:r>
              <a:rPr b="0" lang="pl-PL" sz="1800" spc="-1" strike="noStrike">
                <a:solidFill>
                  <a:srgbClr val="000000"/>
                </a:solidFill>
                <a:latin typeface="Arial"/>
              </a:rPr>
              <a:t>we wspomaganiu szkoły/placówk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09:26:17Z</dcterms:created>
  <dc:creator>Barbara Jechalska</dc:creator>
  <dc:description/>
  <dc:language>en-US</dc:language>
  <cp:lastModifiedBy>Anna Marciniak</cp:lastModifiedBy>
  <dcterms:modified xsi:type="dcterms:W3CDTF">2017-04-27T06:28:29Z</dcterms:modified>
  <cp:revision>21</cp:revision>
  <dc:subject/>
  <dc:title>Slajd 1</dc:title>
</cp:coreProperties>
</file>