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21C-6484-49D8-B439-D091FA23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DAF-94AB-4909-A681-A33C0C49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1E2-5A6D-4FD1-A1F6-89EC453F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406-F9A7-4707-80D4-20870EB4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EE9B-00EB-4263-9551-D62A9564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B798-685C-4DE2-B499-1A3F2417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AB51-E5BD-4C0A-97F2-F66E98BD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B0C2-3576-420E-8901-21CECA84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9E5E-0AB4-49B7-9A12-67D9BE5D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32BB-98E3-4657-9273-99D025DF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66AB-3D57-46E7-93A6-94ECE650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4F5-F026-40E2-AC01-7D570E47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3E64-BB55-4475-8EDE-87F837D6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D449-E7E2-4C09-9B45-44713678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8423-7935-4F48-990F-21FCC4AC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0D92-02A8-4869-82F8-CD558F95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AB01-422D-4B3D-B24D-E96AC05A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FF8A-8955-4478-8DAD-E346CB28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652D-BA13-47E1-B831-EE6FC142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F952-030E-4EA9-87E8-2BB958F6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EEEA-3FD3-4B27-A490-A7BFBB15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7787-B3C0-4C9F-A4E9-C47948A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5BD-B34A-4B01-BB6D-21570E35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643C-3739-44C3-97F1-27E48625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07B0-1EAC-4DD0-8382-2AE7DF8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6109-6507-490D-BBB1-8B38ACCD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A438-8847-4E29-98D1-69DA5035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3803-1A28-4D7D-B9D9-BF24B2F3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CBD6-D1C3-4932-96D1-15390D0A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971F-FDE4-47B3-983F-B74DB5AD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B32-46D0-447D-8AD8-5D3300EE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E3F-AE65-4DFA-B9AC-B33A7288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802-93BC-45FE-9056-4ECFC6A8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0A8-446C-4A82-8C66-8C300AC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93C-B943-4679-8B69-5F260674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D0C-1452-4095-AD73-F78E18EA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CE2E-0BD0-49CB-9AE2-0F1BBA6D10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64A0-04D1-42C6-A5DF-BA4EEB7BEA0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9777-6418-47BC-A427-3EE31F937F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ODUŁ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KOMPETENCJE KLUCZOWE W PROCESIE EDUKA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cz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465264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ZYM JEST METODA WORLD C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Po c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8" descr="objetivo-meta-seo1"/>
          <p:cNvPicPr/>
          <p:nvPr/>
        </p:nvPicPr>
        <p:blipFill>
          <a:blip r:embed="rId1"/>
          <a:stretch/>
        </p:blipFill>
        <p:spPr>
          <a:xfrm>
            <a:off x="6588000" y="4149720"/>
            <a:ext cx="1862280" cy="15289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539640" y="1989000"/>
            <a:ext cx="777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awać pole do współdecyd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pracowywać pomysły i rozwią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korzystać z „mądrości wiel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Kroki</a:t>
            </a:r>
            <a:r>
              <a:rPr b="1" lang="pl-PL" sz="3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dentyfikacja obsza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dział tematów (stolik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aca przy stolikach z moderatorem (3 x 5 min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dsumowanie i zebranie wniosków (sesja plena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twarcie pola do działani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footprints"/>
          <p:cNvPicPr/>
          <p:nvPr/>
        </p:nvPicPr>
        <p:blipFill>
          <a:blip r:embed="rId1"/>
          <a:stretch/>
        </p:blipFill>
        <p:spPr>
          <a:xfrm>
            <a:off x="6516720" y="981000"/>
            <a:ext cx="2106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8:39:12Z</dcterms:created>
  <dc:creator>Bartek</dc:creator>
  <dc:description/>
  <dc:language>en-US</dc:language>
  <cp:lastModifiedBy>ORE</cp:lastModifiedBy>
  <cp:lastPrinted>2014-05-13T07:39:52Z</cp:lastPrinted>
  <dcterms:modified xsi:type="dcterms:W3CDTF">2017-04-26T20:47:45Z</dcterms:modified>
  <cp:revision>530</cp:revision>
  <dc:subject/>
  <dc:title>Slajd 1</dc:title>
</cp:coreProperties>
</file>