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37BBF-C8D9-4B7B-A62E-7C53625F2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E25B3-3DDD-4F17-84FA-8E5D5F78C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97DEB-29FC-420D-8085-BEC97E11E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EF5D7-0BB5-4028-835D-C3EDCF9D1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AA2E7-A7BA-4289-835A-B73AFCD4F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198C0-A722-4A8F-BEBA-4879E8548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43846-E848-4085-9E3B-C5EB59B1D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3D2EC-9A78-4445-B63A-77ACE312F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16182-9237-44C1-8788-DE20B2B61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CF7AF-C93C-426E-AEA9-E0008457E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66D2A-42EB-4826-AE08-D27562C28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483FC-9ED7-4306-9A4C-F2EE8C916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69A17-945A-4318-8F65-CC21D4D2B4F7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s://www.ore.edu.pl/projekty-ue/projekty-systemowe/przywodztwo" TargetMode="External"/><Relationship Id="rId2" Type="http://schemas.openxmlformats.org/officeDocument/2006/relationships/hyperlink" Target="http://www.przywodztwo-edukacyjne.edu.pl/pl/aktualnosci" TargetMode="External"/><Relationship Id="rId3" Type="http://schemas.openxmlformats.org/officeDocument/2006/relationships/hyperlink" Target="http://www.ore.edu.pl/materiay-do-pobrania-74508/zarzdzanie-i-organizacja-w-szkole-i-placowce" TargetMode="External"/><Relationship Id="rId4" Type="http://schemas.openxmlformats.org/officeDocument/2006/relationships/hyperlink" Target="http://www.ore.edu.pl/zarzdzanie-i-organizacja-w-szkole-i-placowce-14437/rola-dyrektora-szkoy" TargetMode="External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Arial"/>
              </a:rPr>
              <a:t>MODUŁ 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15640" y="3860280"/>
            <a:ext cx="708804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WSPOMAGANIE PRACY SZKOŁY/PLACÓWKI </a:t>
            </a:r>
            <a:br>
              <a:rPr sz="2400"/>
            </a:b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– WPROWADZENIE DO SZKOLENIA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cz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ole tekstowe 4"/>
          <p:cNvSpPr/>
          <p:nvPr/>
        </p:nvSpPr>
        <p:spPr>
          <a:xfrm>
            <a:off x="395280" y="981000"/>
            <a:ext cx="8300880" cy="46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s://www.ore.edu.pl/projekty-ue/projekty-systemowe/przywodz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przywodztwo-edukacyjne.edu.pl/pl/aktualnos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ore.edu.pl/materiay-do-pobrania-74508/zarzdzanie-i-organizacja-w-szkole-i-placowce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www.ore.edu.pl/zarzdzanie-i-organizacja-w-szkole-i-placowce-14437/rola-dyrektora-szkoy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http://www.ore.edu.pl/dyrektorzy-szko-i-przedszkoli/rola-i-zadania-33285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http://www.ore.edu.pl/materiay-do-pobrania-35397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https://www.ore.edu.pl/zarzadzanie-szkola/4430-przywodztwo-edukacyjne-mode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http://www.nadzorpedagogiczny.edu.pl/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http://www.ore.edu.pl/projekty-ue/projekty-systemowe/nadzor-pedagogiczn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http://www.ore.edu.pl/publikacj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94920" y="235080"/>
            <a:ext cx="799308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Przydatne linki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55640" y="450828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OPRACOWANIE MODELI KSZTAŁCENIA</a:t>
            </a:r>
            <a:br>
              <a:rPr sz="2800"/>
            </a:b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I WSPIERANIA KADRY KIEROWNICZEJ SYSTEMU OŚWIA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Główne założenia projektu pozakonkursowego </a:t>
            </a:r>
            <a:r>
              <a:rPr b="1" i="1" lang="pl-PL" sz="2000" spc="-1" strike="noStrike">
                <a:solidFill>
                  <a:srgbClr val="000000"/>
                </a:solidFill>
                <a:latin typeface="Arial"/>
              </a:rPr>
              <a:t>Przywództw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7632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Główne założenia projektu pozakonkursowego </a:t>
            </a:r>
            <a:r>
              <a:rPr b="1" i="1" lang="pl-PL" sz="2400" spc="-1" strike="noStrike">
                <a:solidFill>
                  <a:srgbClr val="000000"/>
                </a:solidFill>
                <a:latin typeface="Arial"/>
              </a:rPr>
              <a:t>Przywództw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395280" y="1413000"/>
            <a:ext cx="829152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Cel projektu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ypracowanie ramowych programów szkoleń i doradztwa wraz pakietem przykładowych materiałów/rozwiązań dla kadry kierowniczej szkół i kadry organów nadzoru pedagogicznego – w zakresie tworzenia warunków niezbędnych do efektywnego kształcenia kompetencji kluczowych uczniów niezbędnych do poruszania się na rynk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Odbiorcy: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kadra kierownicza szkół, tj. dyrektorzy/wicedyrektorzy: 600 osó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kadra nadzoru pedagogicznego: 32 oso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Okres realizacji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: od sierpnia 2016 r. do czerwca 2018 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Budżet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: 5 017 409,52 PL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Decyzja MEN o dofinansowaniu projektu – 29 lipca 2016 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34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Główne działania i zakładane rezultaty projek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DYREKTORZ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ramowy program szkoleniowo-doradczy dla kadry kierowniczej szkół/przedszkol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ersja I: luty/marzec 2017 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ersja II: czerwiec 2018 r. – po przeprowadzonym pilotaż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pakiet przykładowych rozwiązań organizacyjno-metodycznych (pakiet kompatybilny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z ww. programe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objęcie wsparciem co najmniej 600 dyrektorów szkół/przedszkoli w ramach pilotażu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działania szkoleniowe: maj-lipiec 2017 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działania doradcze: październik 2017– kwiecień 2018 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sieci współpracy i samokształcenia, jako wsparcie działań doradczych: 60 sieci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dla dyrektorów (po 10 dyrektorów w każdej sieci) oraz 1 sieć skupiająca doradców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NADZÓ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ramowy program szkoleń dla kadry nadzoru pedagogiczneg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ersja ostateczna: maj 2017 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co najmniej 32 przedstawicieli nadzoru pedagogicznego objętych wsparciem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w ramach pilotażu w okresie: marzec-kwiecień 2017 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pakiet materiałów szkoleniowych (kompatybilny z ww. programem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publikacja zawierająca dobre praktyki w obszarze zarządzania placówk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94920" y="333360"/>
            <a:ext cx="648036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Ramowy program szkoleniowo-doradcz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208080" y="980640"/>
            <a:ext cx="875664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Program ramowy dla dyrektorów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treści uniwersalne, istotne z punktu widzenia całego procesu wspomagania szkół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elementy specyficzne dla obszarów rozwijania konkretnych umiejętności dyrektorów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Kształtowanie planów nauczania, zatwierdzanie programów nauczania i wybór podręczników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Zatrudnianie nauczycieli, ocena ich kwalifikacji i przygotowania do realizacji zadań, ustalanie przeznaczenia środków na doskonalenie nauczycieli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roces diagnozowania potrzeb szkół dla ustalenia niezbędnego zakresu wspomagania oraz aplikowanie o środki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Zasady współpracy ze środowiskiem zewnętrznym (organ prowadzący, ośrodki doskonalenia, poradnie, biblioteki, rodzice, itp.), zarówno w ramach procesu wspomagania, jak i w codziennej pracy szkoł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formy pracy oraz metody i sposoby ich wykorzystania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przykłady ćwiczeń/zadań do samodzielnej realizacji przez uczestników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przykładowe scenariusze zajęć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propozycje standardów realizacji szkoleń i doradztwa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wskazanie treści, publikacji, narzędzi do pracy z dyrektorami w poszczególnych obszarach tematycznych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przykłady wykorzystania zasobów/produktów wypracowanych w ramach PO KL i POWER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przy realizacji programów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wskazówki i zalecenia do realizacji szkoleń i doradztwa (m.in. wymagania kompetencyjne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dla osób/trenerów realizujących szkolenia, prowadzących doradztwo w projekcie konkursowym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51228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Ramowy program szkoleniow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250920" y="980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Program ramowy dla nadzoru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treści uniwersalne, istotne z punktu widzenia całego procesu wspomagania szkół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elementy specyficzne dla obszaru rozwijania konkretnych umiejętności kadr nadzoru, w tym m.in.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adanie poprawności i efektywności realizacji przez szkołę lub placówkę procesu dydaktycznego, wychowawczego i opiekuńczego i przedstawianie wyników i formułowanie wniosków w taki sposób, 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y służyły podnoszeniu jakości pracy szkoły lub placówki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gromadzenie danych statystycznych i ich wykorzystywanie w sposób mogący stanowić podstawę 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dla skuteczności podejmowanych przez szkoły działań na rzecz kształcenia kompetencji kluczowych 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i indywidualizacji procesu kształcenia oraz podstawę do podejmowania decyzji prorozwojowych w tym zakresie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formy pracy oraz metody i sposoby ich wykorzystania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propozycje standardów realizacji szkoleń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wskazanie treści i narzędzi do pracy z kadrami nadzoru pedagogicznego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w ww. zakresach tematycznych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przykłady wykorzystania przy realizacji programu zasobów/produktów wypracowanych w ramach PO KL i POWER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wskazówki i zalecenia do realizacji szkoleń (m.in. wymagania kompetencyjne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dla osób/trenerów realizujących szkolenia w projekcie konkursowym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584352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Mapa projektów pozakonkursowy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spólny cel – wspieranie szkół w zakresie kształcenia kompetencji kluczowych uczniów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każdy z projektów adresuje swoje działania do innej grupy odpowiedzialnej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za wspomaganie szkół – JST, instytucji systemu wspomagania, dyrektorów. Każda z tych grup osób jest odpowiedzialna za rozwój szkół z innego poziomu – niezbędna jest współpraca tych grup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działania w projektach są wzajemnie zależn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ykorzystanie modelu wspomagania wypracowanego w PO KL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ykorzystanie modelu doskonalenia nauczycieli (Szkoły ćwiczeń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angażowanie przeszkolonych ludzi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programy szkoleń są ze sobą spójne na poziomie treści, form i meto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rojekty są realizowane w tym samym czasie. Czas trwania projektów 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i harmonogram zaplanowanych działań sprawia, że istnieje możliwość wykorzystywania rezultatów wypracowanych w  poszczególnych projekta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Symbol zastępczy zawartości 3" descr=""/>
          <p:cNvPicPr/>
          <p:nvPr/>
        </p:nvPicPr>
        <p:blipFill>
          <a:blip r:embed="rId1"/>
          <a:stretch/>
        </p:blipFill>
        <p:spPr>
          <a:xfrm>
            <a:off x="249120" y="334800"/>
            <a:ext cx="8461440" cy="582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-23760" y="0"/>
          <a:ext cx="9144000" cy="6856560"/>
        </p:xfrm>
        <a:graphic>
          <a:graphicData uri="http://schemas.openxmlformats.org/drawingml/2006/table">
            <a:tbl>
              <a:tblPr/>
              <a:tblGrid>
                <a:gridCol w="873000"/>
                <a:gridCol w="2874960"/>
                <a:gridCol w="2543400"/>
                <a:gridCol w="285264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3a3e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l-PL" sz="18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Przywództwo</a:t>
                      </a:r>
                      <a:r>
                        <a:rPr b="1" lang="pl-PL" sz="18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 PO K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3a3e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l-PL" sz="18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Nadzór</a:t>
                      </a:r>
                      <a:r>
                        <a:rPr b="1" lang="pl-PL" sz="18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 PO K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3a3e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l-PL" sz="18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Przywództwo</a:t>
                      </a:r>
                      <a:r>
                        <a:rPr b="1" lang="pl-PL" sz="18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 PO W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3a3e0"/>
                    </a:solidFill>
                  </a:tcPr>
                </a:tc>
              </a:tr>
              <a:tr h="456840"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pl-PL" sz="12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Okres realizacj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3a3e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2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01.03.2013 - 31.10.201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2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01.03.2011 – 30.11.20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2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01.08.2016 – 30.06.20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456840"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2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Wartość projekt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3a3e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2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10 481 289,21 z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2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57 730 213,57 z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2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5 017 409,52z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456840"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pl-PL" sz="12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Partn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3a3e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pl-PL" sz="12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Uniwersytet Jagiellońsk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pl-PL" sz="12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Uniwersytet Jagiellońsk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pl-PL" sz="12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Era Ewaluacji Sp. z o. o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pl-PL" sz="12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NIE DOTYCZ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1186920"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pl-PL" sz="12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Główne założen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3a3e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marL="171360" indent="-171360">
                        <a:spcAft>
                          <a:spcPts val="601"/>
                        </a:spcAft>
                        <a:buClr>
                          <a:srgbClr val="800000"/>
                        </a:buClr>
                        <a:buFont typeface="Arial"/>
                        <a:buChar char="•"/>
                        <a:tabLst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pl-PL" sz="12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opracowanie systemu kształcenia </a:t>
                      </a:r>
                      <a:br>
                        <a:rPr sz="1200"/>
                      </a:br>
                      <a:r>
                        <a:rPr b="1" lang="pl-PL" sz="12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i doskonalenia dyrektoró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marL="171360" indent="-171360">
                        <a:spcBef>
                          <a:spcPts val="601"/>
                        </a:spcBef>
                        <a:spcAft>
                          <a:spcPts val="601"/>
                        </a:spcAft>
                        <a:buClr>
                          <a:srgbClr val="800000"/>
                        </a:buClr>
                        <a:buFont typeface="Arial"/>
                        <a:buChar char="•"/>
                        <a:tabLst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pl-PL" sz="12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opracowanie założeń do nowego systemu nadzoru pedagogicznego, uwzględniającą nową formę nadzoru, tj. ewaluację i sposoby jej realizacj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marL="171360" indent="-171360">
                        <a:spcBef>
                          <a:spcPts val="601"/>
                        </a:spcBef>
                        <a:spcAft>
                          <a:spcPts val="601"/>
                        </a:spcAft>
                        <a:buClr>
                          <a:srgbClr val="800000"/>
                        </a:buClr>
                        <a:buFont typeface="Arial"/>
                        <a:buChar char="•"/>
                        <a:tabLst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pl-PL" sz="12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opracowanie ramowych programów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3864960"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pl-PL" sz="12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Rezulta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3a3e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marL="171360" indent="-171360">
                        <a:spcAft>
                          <a:spcPts val="601"/>
                        </a:spcAft>
                        <a:buClr>
                          <a:srgbClr val="800000"/>
                        </a:buClr>
                        <a:buFont typeface="Arial"/>
                        <a:buChar char="•"/>
                        <a:tabLst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pl-PL" sz="12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ramowy program kursu kwalifikacyjnego, którego ukończenie jest warunkiem ubiegania się o stanowisko dyrektora; kurs służy kształceniu kompetencji przywódczych i przygotowuje do zarządzania organizacją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spcAft>
                          <a:spcPts val="601"/>
                        </a:spcAft>
                        <a:buClr>
                          <a:srgbClr val="800000"/>
                        </a:buClr>
                        <a:buFont typeface="Arial"/>
                        <a:buChar char="•"/>
                        <a:tabLst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pl-PL" sz="12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programy/modele doskonalenia: czynnych dyrektorów o stażu dłuższym i krótszym niż rok, a także dla przyszłych dyrektorów (dotyczy kompetencji bazowych)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spcAft>
                          <a:spcPts val="601"/>
                        </a:spcAft>
                        <a:buClr>
                          <a:srgbClr val="800000"/>
                        </a:buClr>
                        <a:buFont typeface="Arial"/>
                        <a:buChar char="•"/>
                        <a:tabLst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pl-PL" sz="12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publikacje i materiały metodycz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marL="171360" indent="-171360">
                        <a:spcAft>
                          <a:spcPts val="601"/>
                        </a:spcAft>
                        <a:buClr>
                          <a:srgbClr val="800000"/>
                        </a:buClr>
                        <a:buFont typeface="Arial"/>
                        <a:buChar char="•"/>
                        <a:tabLst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pl-PL" sz="12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doskonalenie modelu badania jakości pracy szkoł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spcAft>
                          <a:spcPts val="601"/>
                        </a:spcAft>
                        <a:buClr>
                          <a:srgbClr val="800000"/>
                        </a:buClr>
                        <a:buFont typeface="Arial"/>
                        <a:buChar char="•"/>
                        <a:tabLst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pl-PL" sz="12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szkolenia dla dyrektorów i nauczycieli (szkolnych liderów ewaluacji) w zakresie ewaluacji wewn.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spcAft>
                          <a:spcPts val="601"/>
                        </a:spcAft>
                        <a:buClr>
                          <a:srgbClr val="800000"/>
                        </a:buClr>
                        <a:buFont typeface="Arial"/>
                        <a:buChar char="•"/>
                        <a:tabLst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pl-PL" sz="12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przygotowanie wizytatorów ds. ewaluacji, dyrektorów szkół i placówek do stosowania zmodernizowanego nadzoru pedagogicznego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spcAft>
                          <a:spcPts val="601"/>
                        </a:spcAft>
                        <a:buClr>
                          <a:srgbClr val="800000"/>
                        </a:buClr>
                        <a:buFont typeface="Arial"/>
                        <a:buChar char="•"/>
                        <a:tabLst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pl-PL" sz="12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doskonalenie i rozbudowa narzędzi do prowadzenia nadzoru pedagogicznego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spcAft>
                          <a:spcPts val="601"/>
                        </a:spcAft>
                        <a:buClr>
                          <a:srgbClr val="800000"/>
                        </a:buClr>
                        <a:buFont typeface="Arial"/>
                        <a:buChar char="•"/>
                        <a:tabLst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pl-PL" sz="12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rozbudowa i utrzymanie platformy nadzor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marL="171360" indent="-171360">
                        <a:spcAft>
                          <a:spcPts val="601"/>
                        </a:spcAft>
                        <a:buClr>
                          <a:srgbClr val="800000"/>
                        </a:buClr>
                        <a:buFont typeface="Arial"/>
                        <a:buChar char="•"/>
                        <a:tabLst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pl-PL" sz="12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ramowy program szkoleniowo-doradczy dla kadry kierowniczej szkół/przedszkoli  wraz z pakietem przykładowych rozwiązań organizacyjno-metodycznych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spcAft>
                          <a:spcPts val="601"/>
                        </a:spcAft>
                        <a:buClr>
                          <a:srgbClr val="800000"/>
                        </a:buClr>
                        <a:buFont typeface="Arial"/>
                        <a:buChar char="•"/>
                        <a:tabLst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pl-PL" sz="12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ramowy program szkoleniowy dla kadry nadzoru pedagogicznego wraz z pakietem materiałów szkoleniowyc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spcAft>
                          <a:spcPts val="601"/>
                        </a:spcAft>
                        <a:buClr>
                          <a:srgbClr val="800000"/>
                        </a:buClr>
                        <a:buFont typeface="Arial"/>
                        <a:buChar char="•"/>
                        <a:tabLst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pl-PL" sz="12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pilotaż działań szkoleniowych i doradczych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spcAft>
                          <a:spcPts val="601"/>
                        </a:spcAft>
                        <a:buClr>
                          <a:srgbClr val="800000"/>
                        </a:buClr>
                        <a:buFont typeface="Arial"/>
                        <a:buChar char="•"/>
                        <a:tabLst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pl-PL" sz="12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61 sieci współpracy i samokształcen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spcAft>
                          <a:spcPts val="601"/>
                        </a:spcAft>
                        <a:buClr>
                          <a:srgbClr val="800000"/>
                        </a:buClr>
                        <a:buFont typeface="Arial"/>
                        <a:buChar char="•"/>
                        <a:tabLst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pl-PL" sz="12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publikacja zawierająca dobre praktyki w obszarze zarządzania placówką dla efektywnego kształcenia kompetencji kluczowych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fbfb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6T09:26:17Z</dcterms:created>
  <dc:creator>Magdalena Godlewska-Dudek</dc:creator>
  <dc:description/>
  <dc:language>en-US</dc:language>
  <cp:lastModifiedBy>Magdalena Godlewska-Dudek</cp:lastModifiedBy>
  <dcterms:modified xsi:type="dcterms:W3CDTF">2018-03-26T11:25:53Z</dcterms:modified>
  <cp:revision>25</cp:revision>
  <dc:subject/>
  <dc:title>MODUŁ I</dc:title>
</cp:coreProperties>
</file>