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9B7-9B2C-4F9A-9D3F-A8F6BD39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DB2-5275-4E21-8E78-671F2292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A8F-28B4-4417-AD6C-10C1E6D0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CE8-E742-49FD-9252-1E1E6085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AFC-889D-44E5-B20E-708E614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01C88-0A6F-496C-AF91-C48083F0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F666D-4050-46E7-82BA-5A5879C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A6411-7739-4880-AF13-CB5437F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32E34-6386-4DD8-A9AA-CD24DB22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B5C8-41AE-462E-9E7D-99613005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39C-9991-4D10-B746-C7C5C696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544DA-4E43-4050-AA98-8B417833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C2E17-72B0-4F90-BAC8-C99FFBF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A6B99-ACBC-4AE3-B34E-4B924A8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E96A0-00DE-4D83-9615-88314C6A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E2DDE-6465-473C-A592-7781CE9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EFDC3-41DC-46C2-96A1-B0621370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7BD88-C4EE-4E3F-8EA4-50833DCA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915-F365-4B8B-BFDF-05DB62AE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428-980A-4913-8F95-011AC0C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8D5-BD10-4E20-B9D9-6D1462B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BF0-CB97-4CB5-8480-6EEB1544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9AD-EFCA-460B-8E4B-19BB9D0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E27-DB9C-4A2B-A1C2-D4FB7A30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CF3-B99C-485D-BE50-F71C72DD249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619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621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2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2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6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6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6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76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835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837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2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2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C94-D367-4D7F-A7D3-9BE202A2A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189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59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261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33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3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0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0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1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75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77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1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1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547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ODUŁ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POMAGANIE PRACY SZKOŁY/PLACÓWK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– WPROWADZENIE DO SZKOLEN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24000" y="4652640"/>
            <a:ext cx="84960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DANIA NADZORU PEDAGOGICZN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E WSPOMAGANIU PRACY SZKÓŁ/PLACÓW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pomaganie w nadzor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gotowywanie i podawanie do publicznej wiadomości – na stronie internetowej organu – analiz wyników sprawowanego nadzoru pedagogicznego, w tym wniosków z ewaluacji zewnętrznych i kontrol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mowanie wykorzystania ewaluacji w procesie doskonalenia jakości działalności dydaktycznej, wychowawczej i opiekuńczej oraz innej działalności statutowej szkoły 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owoczesny system wspomagania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woju oświaty w Po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tawowe założenia przyjęte dla nowego syste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omaganie jest adresowane do szkoły, a nie wyłącznie do poszczególnych osób lub grup np. dyrektor czy nauczycie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omaganie pomaga szkole w rozwiązywaniu własnych proble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nie wyręcza jej i nie narzuca rozwiąz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omaganie wynika z analizy indywidualnej sytuacji szkoły i odpowiad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jej specyficzne potrzeb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omaganie jest procesem, czyli odchodzi od pojedynczych, samodzielnych form doskona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rganizowanie i prowadzenie wspomag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świetle założeń nowego systemu wspomagania szkół istotne jest połączenie systemu nadzoru pedagogicznego z nowoczesnym systemem wsparcia szkół i placówek. Dzięki działaniom realizowanym w ramach nadzoru (ewaluacje i kontrole) szkoły otrzymują rzetelne i wiarygodne informacje, umożliwiające podejmowanie samodzielnych decyzji dotyczących własnego rozwoju. Wspólna refleksja nad poziomem spełnienia przez szkołę wymagań jest impulsem do wprowadzania zm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waluacja wewnętrzna lub zewnętrzna prowadzona w szkole może być punktem wyjścia do pogłębionej diagnozy, w wyniku której szkoła wyłania priorytety do swojej rocznej czy wieloletniej pracy (określa kierunki rozwoj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lne wsparcie powin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79280" y="1341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łużyć dostosowaniu działań do rzeczywistych potrzeb szkó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rać się na diagnozowaniu problemów szkolnych i zaplanowaniu, realizacji działań rozwojow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czątkować długofalowy proces złożony z wielu różnych form pomocy szko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ć doskonalenie kompleksowe „od diagnozy do sprawdzenia efektu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łużyć pomocą w planowaniu doskonalenia nauczycieli (szkolenia na terenie szkoły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łatwiać kontakt z instytucjami odpowiedzialnymi za udzielanie pomocy uczniom, rodzicom, nauczyciel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względniać indywidualne potrzeby nauczycieli, pomoc praktyczna nauczycie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Ćwiczenie w 3 grup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5280" y="2133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apa myś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zielcie się swoim doświadczeniem w zakresie wspomagania pracy szkół/placów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ykłady dobrych praktyk zanotujcie w formie mapy ment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http://imindmap.pl/przyklady/MM_zasady.png"/>
          <p:cNvPicPr/>
          <p:nvPr/>
        </p:nvPicPr>
        <p:blipFill>
          <a:blip r:embed="rId1"/>
          <a:stretch/>
        </p:blipFill>
        <p:spPr>
          <a:xfrm>
            <a:off x="-676440" y="-243000"/>
            <a:ext cx="103014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/>
  <dc:description/>
  <dc:language>en-US</dc:language>
  <cp:lastModifiedBy>Anna Marciniak</cp:lastModifiedBy>
  <dcterms:modified xsi:type="dcterms:W3CDTF">2017-04-27T06:04:41Z</dcterms:modified>
  <cp:revision>25</cp:revision>
  <dc:subject/>
  <dc:title>MODUŁ I</dc:title>
</cp:coreProperties>
</file>