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602-1793-4414-9573-23FE4162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75C-4AF3-405D-BE51-0870BD6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439-678E-4E98-828F-1AEA05E8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671-EB5F-40E5-AA4E-AD399B34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386-FEBF-491F-97A0-09EA57E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92A-4432-4728-B426-8567FCA9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29B-0559-4AA1-9AC0-E5A58EAB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222-66BA-46E9-935E-F7CF5798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7D4-152F-45B0-A8C6-5F76473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693-0E09-439F-8B44-66B1C29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0FD-F6E2-41CC-9D21-60C60CBE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D88-6EE4-4273-9202-5B077CC2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64A-EC04-44E4-A485-CABF4D93336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ODUŁ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OMAGANIE PRACY SZKOŁY/PLACÓWKI – WPROWADZENIE DO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87138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GŁÓWNE ZAŁOŻENIA PROJEKTÓW PO 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3068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prowadzenie do szkol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owe działania 2014-2020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Wiedza, Edukacja, Rozwó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Operacyjny Wiedza, Edukacja, Rozwój na lat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e 2.10 Wysoka jakość systemu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el szczegółowy PO W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prawa  funkcjonowania  i  zwiększenie wykorzystania  systemu wspomagania  szkół  w  zakresie  kompetencji  kluczowych  uczniów niezbędnych do poruszania się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a rynku pracy (ICT, matematyczno-przyrodniczych, języków obcych), nauczania eksperymentalnego, właściwych postaw (kreatywności, innowacyjności, pracy zespołowej) oraz metod zindywidualizowanego podejścia do ucz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załka w prawo 6"/>
          <p:cNvSpPr/>
          <p:nvPr/>
        </p:nvSpPr>
        <p:spPr>
          <a:xfrm>
            <a:off x="165240" y="5264280"/>
            <a:ext cx="8569080" cy="9522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brane projekty pozakonkursowe ORE 2016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35000" y="448200"/>
            <a:ext cx="5485680" cy="376560"/>
          </a:xfrm>
          <a:prstGeom prst="rect">
            <a:avLst/>
          </a:prstGeom>
          <a:solidFill>
            <a:srgbClr val="cccccc"/>
          </a:solidFill>
          <a:ln w="25560">
            <a:solidFill>
              <a:srgbClr val="bfbfbf"/>
            </a:solidFill>
            <a:miter/>
          </a:ln>
        </p:spPr>
        <p:txBody>
          <a:bodyPr anchor="ctr">
            <a:normAutofit fontScale="65000"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Zwiększenie skuteczności działań pracowników systemu wspomagania i trenerów w zakresie kształcenia u uczniów kompetencji kluczowych uczniów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04.2016-02.201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ymbol zastępczy zawartości 10"/>
          <p:cNvSpPr/>
          <p:nvPr/>
        </p:nvSpPr>
        <p:spPr>
          <a:xfrm>
            <a:off x="1035000" y="1647720"/>
            <a:ext cx="6192720" cy="79236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cccccc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Wsparcie kadry jednostek samorządu terytorialnego w zarządzaniu oświatą ukierunkowanym </a:t>
            </a:r>
            <a:br>
              <a:rPr sz="900"/>
            </a:b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na rozwój szkół i kompetencji kluczowych uczniów (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04.2016-03.201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ymbol zastępczy zawartości 10"/>
          <p:cNvSpPr/>
          <p:nvPr/>
        </p:nvSpPr>
        <p:spPr>
          <a:xfrm>
            <a:off x="1035000" y="1009800"/>
            <a:ext cx="6192720" cy="6048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Opracowanie i upowszechnienie modelowego zestawu narzędzi diagnostycznych do prowadzenia diagnozy psychologiczno-pedagogicznej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04.2016-03.201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ymbol zastępczy zawartości 10"/>
          <p:cNvSpPr/>
          <p:nvPr/>
        </p:nvSpPr>
        <p:spPr>
          <a:xfrm>
            <a:off x="1920960" y="3216240"/>
            <a:ext cx="6121440" cy="647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ccccc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Wspieranie tworzenia szkół ćwiczeń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07.2016-06.201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4"/>
          <p:cNvSpPr/>
          <p:nvPr/>
        </p:nvSpPr>
        <p:spPr>
          <a:xfrm>
            <a:off x="165240" y="4861080"/>
            <a:ext cx="8569080" cy="358560"/>
          </a:xfrm>
          <a:prstGeom prst="rect">
            <a:avLst/>
          </a:prstGeom>
          <a:solidFill>
            <a:srgbClr val="d1d1f0"/>
          </a:solidFill>
          <a:ln w="255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6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92160" y="2705400"/>
            <a:ext cx="4755600" cy="28116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txBody>
          <a:bodyPr anchor="ctr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Tworzenie e-materiałów dydaktycznych do kształcenia ogólnego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07.2016-03.201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zawartości 10"/>
          <p:cNvSpPr/>
          <p:nvPr/>
        </p:nvSpPr>
        <p:spPr>
          <a:xfrm>
            <a:off x="2327400" y="4005360"/>
            <a:ext cx="5689440" cy="7920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66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Przywództwo – opracowanie modeli kształcenia i wspierania kadry kierowniczej systemu oświaty (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08.2016-06.20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0"/>
          <a:ext cx="9144000" cy="6897600"/>
        </p:xfrm>
        <a:graphic>
          <a:graphicData uri="http://schemas.openxmlformats.org/drawingml/2006/table">
            <a:tbl>
              <a:tblPr/>
              <a:tblGrid>
                <a:gridCol w="1547640"/>
                <a:gridCol w="7596360"/>
              </a:tblGrid>
              <a:tr h="620640">
                <a:tc gridSpan="2">
                  <a:txBody>
                    <a:bodyPr lIns="82440" rIns="82440" tIns="41040" bIns="4104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ojekt: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Zwiększenie skuteczności działań pracowników systemu wspomagania i trenerów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 zakresie kształcenia u uczniów kompetencji kluczowych uczniów (budżet: 3 100 000,00 z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82440" rIns="8244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 główn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esienie kompetencji pracowników PPP, PDN,BP w zakresie wspomagania szkół w obszarach związanych z kształceniem kompetencji kluczowych uczni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9447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MIENIE MILOWE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tan re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ramowych programów szkoleń oraz głównych założeń do konkursu –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nie zakońc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otażowe wdrożenie ramowych programów szkoleń dla pracowników systemu wspomagania oraz trenerów –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nie zakońc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chomienie ogólnopolskich sieci współpracy pracowników instytucji systemu wspomagania szkół –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chomienie od listopada 2016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wymagań kompetencyjnych dla trenerów, szkolących pracowników instytucji wspomagania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październik 2016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systemu walidacji i certyfikacji trenerów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016 r. – 02.2018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2185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ładane rezultaty i produkty projektu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szkół korzystających z kompleksowego wspomagania w obszarach związanych z rozwojem kompetencji kluczowych uczniów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pracowników systemu wspomagania oraz trenerów oświaty przeszkolonych w zakresie wspomagania szkół w obszarach związanych z kształceniem kompetencji kluczowych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ramowych programów szkoleń dla pracowników systemu wspomagania oraz trenerów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ogólnopolskich sieci współpracy i samokształcenia dla pracowników PDN, PPP i B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uczestników ogólnopolskich sieci współpracy i samokształceni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ofert wspomagania  szkół/przedszkoli wraz z opisem sposobu ich wykorzystani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y system walidacji i certyfikacji trenerów oświaty oraz 200 trenerów objętych walidacj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699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howanie trwałośc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anie ramowych programów szkoleń w pracy Wydziału Rozwoju Szkół i Placówek – przygotowywanie pracowników systemu wspomagani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ewnienie usług doradczych dla pracowników systemu wspomagania w formie ogólnopolskich sieci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wszechnianie materiałów szkoleniowych dotyczących rozwoju kompetencji kluczowych uczniów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ział w dalszych pracach prowadzonych przez MEN nad opracowaniem i wdrożeniem systemu walidacji i certyfikacji trener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80" y="0"/>
          <a:ext cx="9144000" cy="6796080"/>
        </p:xfrm>
        <a:graphic>
          <a:graphicData uri="http://schemas.openxmlformats.org/drawingml/2006/table">
            <a:tbl>
              <a:tblPr/>
              <a:tblGrid>
                <a:gridCol w="1542960"/>
                <a:gridCol w="7601040"/>
              </a:tblGrid>
              <a:tr h="474840">
                <a:tc gridSpan="2">
                  <a:txBody>
                    <a:bodyPr lIns="82440" rIns="82440" tIns="41040" bIns="4104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ojekt: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spieranie tworzenia szkół ćwiczeń (budżet: 4 734 453,72 z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>
                  <a:txBody>
                    <a:bodyPr lIns="82440" rIns="8244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 główn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worzenie modelowej szkoły ćwiczeń, która ma stanowić uzupełnienie systemu doskonalenia</a:t>
                      </a: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yciel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6080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MIENIE MILOWE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tan re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koncepcji wzorcowej, modelowej szkoły ćwiczeń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2016 - 02.2017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założeń wyboru szkół do projektu i zasad działania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2016-02.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standardów współpracy szkół ćwiczeń ze szkołami wyższym, instytucjami wspomagania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2016-02.201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wzorcowych materiałów szkoleniowych, w tym multimedialnych i e-learningowych: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7.2016 - 08.2017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pracowanie głównych założeń projektów konkursowych –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realizacji w czerwcu 2017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prowadzenie szkoleń dla kadry pedagogicznej szkoły ćwiczeń i 10 trenerów z zakresu metod i form pracy szkół ćwiczeń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-08.201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otażowe wdrożenie wzorcowej szkoły ćwiczeń, w tym przygotowanie 4 zestawów materiałów szkoleniowych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2017 - 06.201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yfikacja koncepcji szkoły ćwiczeń zweryfikowanej w trakcie trwania pilotażu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realizacji 04.2018 - 06.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265428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ładane rezultaty i produkty projektu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 szkoły ćwiczeń, standardy pracy  i współpracy szkoły ćwiczeń z instytucjami wspomagania, innymi szkołami, uczelniami oraz zasady wyboru szkół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szkół ćwiczeń, w których zostanie przeprowadzony pilotaż opracowanego mode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zestawów materiałów szkoleni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kursów e-learning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seminaria dla trenerów i kadry pedagogicznej szkół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zestawy materiałów  szkoleniowych, w tym 40 nagranych materiałów film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ort, zawierający rekomendacje do zmian przepisów prawnych regulujących funkcjonowanie szkół ćwiczeń w systemie doskonalenia nauczycieli  i prowadzących do  opublikowania odpowiedniego rozporządzenia MEN w tworzenia, finansowania i działania szkół ćwicze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4365720"/>
        </p:xfrm>
        <a:graphic>
          <a:graphicData uri="http://schemas.openxmlformats.org/drawingml/2006/table">
            <a:tbl>
              <a:tblPr/>
              <a:tblGrid>
                <a:gridCol w="1403280"/>
                <a:gridCol w="7740720"/>
              </a:tblGrid>
              <a:tr h="530280">
                <a:tc gridSpan="2">
                  <a:txBody>
                    <a:bodyPr lIns="82440" rIns="82440" tIns="41040" bIns="4104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d. projekt: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Wspieranie tworzenia szkół ćwicze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544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howanie trwałośc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e są 3 edycje konkursu,  pozwalające na uruchomienie kolejno 10, 16 i 5 szkół ćwiczeń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ORE w zakresie wspierania trenerów i kadry pedagogicznej szkół ćwiczeń utworzonych w ramach projektów konkursowych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worzenie zespołu koordynującego wsparcie dla trenerów i kadry pedagogicznej istniejących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owych szkół ćwiczeń, w zakresie planowania wsparcia, wymiany informacji i kontaktów między  dyrektorami i nauczycielami szkół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 wniosków z realizowanych projektów konkursowych i bieżące modyfikowanie modelu szkoły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wirtualnej przestrzeni do wymiany informacji, upowszechniania materiałów i  publikacji nauczyci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wadzenie sieci współpracy i samokształcenia  dla kadry pedagogicznej szkół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ewnienie wsparcia  ekspertów w zakresie zdiagnozowanych obszarów pracy dydaktyczno-wychowawczych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półpraca  z uczelniami, prowadzącymi kształcenie nauczyci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półpraca z organami prowadzącymi szkoły w zakresie tworzenia nowych szkól ćwi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e w MEN nad wprowadzeniem  zmian w przepisach prawa oświatowego zgodnie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komendacjami wypracowanymi w raporci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1176480"/>
        </p:xfrm>
        <a:graphic>
          <a:graphicData uri="http://schemas.openxmlformats.org/drawingml/2006/table">
            <a:tbl>
              <a:tblPr/>
              <a:tblGrid>
                <a:gridCol w="1403280"/>
                <a:gridCol w="7740720"/>
              </a:tblGrid>
              <a:tr h="620640">
                <a:tc gridSpan="2"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Calibri"/>
                        </a:rPr>
                        <a:t>Projekt: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parcie kadry jednostek samorządu terytorialnego w zarządzaniu oświatą ukierunkowan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rozwój szkół i kompetencji kluczowych uczniów  (budżet: 2 803 982,29 z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82440" rIns="8244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 główn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esienie kompetencji przedstawicieli JST w zakresie zarządzania oświatą ukierunkowaneg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ształtowanie kompetencji kluczowych uczniów niezbędnych do poruszania się na rynku pracy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8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1398600"/>
                <a:gridCol w="7745400"/>
              </a:tblGrid>
              <a:tr h="216540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MIENIE MILOWE – stan realizacj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pracowanie rekomendacji do programów szkoleniowo-doradczych na podstawie wyników diagnozy kompetencji kadr zarządzających oświatą w JST oraz 3 raportów zawierających diagnozę potrzeb JST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zakresie rozwiązań służących kształtowaniu kompetencji kluczowych uczniów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miny wiejskie, miejskie i powiaty) –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nie zakońc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programów szkoleniowo-doradczych dla przedstawicieli JST (kadra zarządzająca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acownicy realizujący zadania oświatowe) –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grudnia 2016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otaż programów szkoleniowo-doradczych na grupie 30 JST (przeszkolenie 90 przedstawicieli JST),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ramach pilotażu wypracowanie w JST lokalnych planów podnoszenia jakości usług oświatowych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z wspomagania szkół  w zakresie rozwoju kompetencji kluczowych uczniów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. 27 planów):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2017– 02.201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a3e0"/>
                    </a:solidFill>
                  </a:tcPr>
                </a:tc>
              </a:tr>
              <a:tr h="349560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822240"/>
                          <a:tab algn="l" pos="1644480"/>
                          <a:tab algn="l" pos="2467080"/>
                          <a:tab algn="l" pos="3289320"/>
                          <a:tab algn="l" pos="4111560"/>
                          <a:tab algn="l" pos="4933800"/>
                          <a:tab algn="l" pos="5756400"/>
                          <a:tab algn="l" pos="6578640"/>
                          <a:tab algn="l" pos="7400880"/>
                          <a:tab algn="l" pos="8223120"/>
                          <a:tab algn="l" pos="9045720"/>
                          <a:tab algn="l" pos="9867960"/>
                          <a:tab algn="l" pos="106902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ładane rezultaty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dukty projektu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dacje do programów szkoleniowych i doradczych dla kadry JST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programów szkoleniowych i doradczych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z z obudową metodyczną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a przedstawicieli organów prowadzących szkoły/placówki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ie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łów szkoleniowych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ykorzystanie produktów z projektów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KL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chomienie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 wymiany doświadczeń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eci współpracy) dla JST (gminna, miejska, powiatowa)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ęcie wsparciem  w ramach pilotażu  programów szkoleń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jednostek samorządu terytorialnego (szkolenie i doradztwo w procesie tworzenia lokalnych planów podnoszenia jakości usług edukacyjnych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kolenie i doradztwo 90 przedstawicieli kadry kierowniczej JST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 ramach pilotażu programów szkoleniowych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opracowanych przez JST lokalnych planów podnoszenia jakości usług edukacyjnych,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ts val="1599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chomienie i moderowanie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dla przedstawicieli JST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z uruchomienie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ualnego Inkubatora Innowacji Edukacyjnyc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084640"/>
        </p:xfrm>
        <a:graphic>
          <a:graphicData uri="http://schemas.openxmlformats.org/drawingml/2006/table">
            <a:tbl>
              <a:tblPr/>
              <a:tblGrid>
                <a:gridCol w="1403280"/>
                <a:gridCol w="7740720"/>
              </a:tblGrid>
              <a:tr h="685800">
                <a:tc gridSpan="2"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Calibri"/>
                        </a:rPr>
                        <a:t>cd. projekt: </a:t>
                      </a: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parcie kadry jednostek samorządu terytorialnego w zarządzaniu oświatą ukierunkowanym na rozwój szkół i kompetencji kluczowych uczniów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0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planowane 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zakończeniu projektu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y szkoleń wraz z obudową metodyczną zostaną wdrożone w ramach </a:t>
                      </a:r>
                      <a:r>
                        <a:rPr b="0" lang="pl-P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ektu konkursoweg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18-2020), w wyniku czeg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parcie uzyska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jednostek samorządu terytorialnego różnego typu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szkolonych zostanie, minimum 3.328 przedstawicieli JST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pracowanych zostanie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 lokalnych, projakościowych planów podnoszenia, jakości usług oświatowych oraz wspomagania szkół w zakresie rozwoju kompetencji kluczowych uczniów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 szkół zostanie objętych rocznym procesem wspomagan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owany jest także II etap projektu pozakonkursowego: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rzesień 2018 r. – listopad 2021 r,  którego celem  jest opracowanie założeń i wdrożenie systemu wsparcia przedstawicieli JST w realizacji zadań oświatowych,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tóry zapewnieni im stałe wsparcie, doskonalenie i rozwój kompetencj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77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howanie trwałośc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 wsparcia dla samorządowców oraz inicjowanie i integrowanie działań przedstawicieli JST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rzecz rozwoju edukacji na poziomie krajowym (sieć ogólnopolska) i wojewódzkim (sieci regionalne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samorządowych liderów oświaty do systemowego wsparcia JST (podniesienie kompetencji m.in. w zakresie rozumienia zadań i roli liderów, znajomości metod pracy animacyjnej, tworzenia i moderowania sieci współpracy, budowa lokalnych koalicji i regionalnych partnerstw na rzecz oświaty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wszechnienie programów szkoleniowo-doradczych oraz wykorzystanie ich w pracy szkoleniowej OR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anie wypracowanych w PO KL i POWER materiałów i narzędzi do rozwoju lokalnych systemów oświa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/>
  <dc:description/>
  <dc:language>en-US</dc:language>
  <cp:lastModifiedBy>ORE</cp:lastModifiedBy>
  <dcterms:modified xsi:type="dcterms:W3CDTF">2017-04-26T19:05:15Z</dcterms:modified>
  <cp:revision>18</cp:revision>
  <dc:subject/>
  <dc:title>MODUŁ I</dc:title>
</cp:coreProperties>
</file>