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7236-D3B5-42F3-910E-DABE7F702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80AA-768B-42CD-A853-445AB911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033C-1743-417F-AAD8-A088F3A2A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E0AF-50D2-4A16-9F51-9B9B93B2E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108E-DFF2-4053-A2BC-C709ECD5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A548-E31C-440F-912F-C3BB0736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AEBE-D559-4E72-A4EA-80750537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E4AD-B887-4902-BFCA-DD621E3D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1FFB-7A4C-49E0-84D2-F963C7AF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11DD-9E2F-4F3C-9D38-ACDD6D09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9924-EB93-4BE7-8178-8D0B561F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CFFC-E8A0-4A35-BBE0-4E9828F3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D554-DBD0-4D34-8518-21B58ADB5A7F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Arial"/>
              </a:rPr>
              <a:t>MODUŁ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161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SPOMAGANIE PRACY SZKOŁY/PLACÓWKI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– WPROWADZENIE DO SZKOL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z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Arial"/>
              </a:rPr>
              <a:t>Podpisanie kontra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4360" y="1628280"/>
            <a:ext cx="785808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Jakie chcielibyśmy wprowadzić zasady,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które umożliwią nam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                dobrze i efektywnie spędzić czas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                              podczas tych zajęć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Arial"/>
              </a:rPr>
              <a:t>Przykładowe zapisy kontra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9356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jesteśmy dla siebie uprzejm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ażdy ma prawo do wyrażenia własnego zdani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łuchamy się wzajemni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ie przerywamy sobi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ie zmuszamy nikogo do odpowiedzi na zadane pyta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o, co dzieje się na warsztacie, pozostaje pomiędzy nam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ie wyśmiewamy się z wypowiedzi innych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ówimy zawsze w swoim imien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28548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p.: ja uważam, że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28548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 używamy zdań typu: wszyscy tak sadzą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rytykujemy opinie, a nie osoby, które je wyrażają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RZEDSTAWIENIE PROGRAMU (CELÓW, TREŚCI) SZKOLE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8000" y="33300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amowy program szkoleniowy dla kadry nadzoru pedagogicznego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w zakresie wspomagania szkół w rozwoju kompetencji uczni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4000" y="2276280"/>
            <a:ext cx="84960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el ogóln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ygotowanie kadry nadzoru pedagogicznego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 procesowego wspomagania szkół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obszarach związanych z kształceniem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ompetencji kluczowych uczni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amowy program szkoleniowy dla kadry nadzoru pedagogicznego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w zakresie wspomagania szkół w rozwoju kompetencji uczni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95280" y="170028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ele szczegółowe szkol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odniesienie kompetencji kadry nadzoru pedagogicznego w  zakres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badania efektywności realizacji przez szkołę lub placówkę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ocesu dydaktycznego, wychowawczego i opiekuńczeg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ezentowania wyników i formułowania wniosków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 prowadzonych badań tak, by służyły podnoszeniu jakości pracy szkoły lub placówk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gromadzenia danych statystycznych dla poprawy skuteczności podejmowanych przez szkoły działań na rzecz kształcenia kompetencji kluczowych i indywidualizacji procesu kształceni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raz podejmowania decyzji prorozwojowych w tym zakresi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8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amowy program szkoleniowy dla kadry nadzoru pedagogicznego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w zakresie wspomagania szkół w rozwoju kompetencji uczni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ele szczegółowe szkolenia (c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odniesienie kompetencji kadry nadzoru pedagogicznego w  zakres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ykorzystywania danych statystycznych do formułowania rekomendacji służących kształtowaniu regionalnej/lokalnej polityki oświatowej w zakresie kształtowania kompetencji kluczowych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raz indywidualizacji procesu kształcen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spirowania dyrektorów i nauczycieli do podejmowania działań innowacyjnych, eksperymentów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utoewaluacji i planowania rozwoju osobiste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amowy program szkoleniowy dla kadry nadzoru pedagogicznego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w zakresie wspomagania szkół w rozwoju kompetencji uczni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5280" y="1989000"/>
            <a:ext cx="822960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ele szczegółowe szkolenia (c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oszerzenie (aktualizacja) wiedzy kadry nadzoru pedagogicznego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w zakres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ompleksowego wspomagania pracy szkół i placówe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ompetencji kluczowych w procesie edukac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97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Arial"/>
              </a:rPr>
              <a:t>Moduł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0560" y="1600200"/>
            <a:ext cx="856908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spomaganie pracy szkoły/placówki – wprowadzenie do szkolenia (2 x 90 min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ozwój kompetencji kluczowych w procesie edukacji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2 x 90 min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ola nadzoru pedagogicznego we wspomaganiu szkoły/placówki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4 x 90 min. + 4 x 90 min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ofil kompetencyjny wizytatora (4 x 90 min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1412640"/>
            <a:ext cx="7212240" cy="50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Poznajmy si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C:\Users\Basia\Desktop\indeks.jpg"/>
          <p:cNvPicPr/>
          <p:nvPr/>
        </p:nvPicPr>
        <p:blipFill>
          <a:blip r:embed="rId1"/>
          <a:stretch/>
        </p:blipFill>
        <p:spPr>
          <a:xfrm>
            <a:off x="1116000" y="3213000"/>
            <a:ext cx="33433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95280" y="764640"/>
            <a:ext cx="6562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Ustalmy zasady pr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C:\Users\Basia\Desktop\indeks.jpg"/>
          <p:cNvPicPr/>
          <p:nvPr/>
        </p:nvPicPr>
        <p:blipFill>
          <a:blip r:embed="rId1"/>
          <a:stretch/>
        </p:blipFill>
        <p:spPr>
          <a:xfrm>
            <a:off x="468360" y="260280"/>
            <a:ext cx="1243080" cy="936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1116000" y="1915920"/>
            <a:ext cx="7570800" cy="41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………………………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…………………………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…………………………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………………………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…………………………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…………………………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…………………………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…………………………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……………………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……………………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09:26:17Z</dcterms:created>
  <dc:creator/>
  <dc:description/>
  <dc:language>en-US</dc:language>
  <cp:lastModifiedBy>Anna Marciniak</cp:lastModifiedBy>
  <dcterms:modified xsi:type="dcterms:W3CDTF">2017-04-27T05:59:03Z</dcterms:modified>
  <cp:revision>18</cp:revision>
  <dc:subject/>
  <dc:title>MODUŁ I</dc:title>
</cp:coreProperties>
</file>